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3B7-77CF-4C47-9D20-E21DF65B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65E-BE5B-4929-8A2D-CA88F100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3F5-06F7-4D90-B4A5-14A26D7F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8CD-017E-4751-8B72-7F2DAA34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97F-DF34-4560-B40E-B042D0D5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F7B6-99D8-4C67-8B2F-9978EFDF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B01D-1E44-4C56-8EF3-1E8A5E39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406-D2E0-4EDD-B5B3-C8A0CA8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730-A301-4FB8-AAA8-3B18675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7AFA-0099-4DB0-A18D-5160E947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0AC-562E-470A-8E95-96AE313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3B3-357C-4DC9-A842-7F54DA5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FF6-E52D-4C1C-BB70-9FA260CC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A32A-0721-4888-99D2-4A0EEA1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6BD-A45C-4393-91CD-E4FBB0D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3A2B-E962-4D06-A185-5C586E57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985D-7901-4F33-A3B4-930EEDB8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CF2-5E56-4F5C-8262-584DD8EF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F7B-598F-4AF3-8E2E-143FEFAF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1D4-6ACB-4CAE-8D01-B29EDC00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D05-8D4F-4A4E-AC37-EE82017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851-1233-4D9B-B7EF-DD95A52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735-B857-48C9-B56F-714EE4F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A9F-3B6D-46C5-BDD4-8ADE56F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5A45-5E54-4662-A07B-5279CB3F52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CA5-F928-4390-8328-2934C8AA5F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549360"/>
            <a:ext cx="77425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Тест 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"Безопасность в сети Интернет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29240"/>
            <a:ext cx="74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аботу выполнил: Чистяков Илья, ученик 7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уководитель: Поспелов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МБОУ «СОШ №20» г. Новомоск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2411280" y="3500280"/>
            <a:ext cx="5185080" cy="1081080"/>
          </a:xfrm>
          <a:custGeom>
            <a:avLst/>
            <a:gdLst>
              <a:gd name="textAreaLeft" fmla="*/ 69840 w 5185080"/>
              <a:gd name="textAreaRight" fmla="*/ 5115240 w 51850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103571" h="21600">
                <a:moveTo>
                  <a:pt x="0" y="0"/>
                </a:moveTo>
                <a:lnTo>
                  <a:pt x="103571" y="0"/>
                </a:lnTo>
                <a:lnTo>
                  <a:pt x="103571" y="21600"/>
                </a:lnTo>
                <a:lnTo>
                  <a:pt x="0" y="21600"/>
                </a:lnTo>
                <a:close/>
              </a:path>
              <a:path fill="lightenLess" w="103571" h="21600">
                <a:moveTo>
                  <a:pt x="0" y="0"/>
                </a:moveTo>
                <a:lnTo>
                  <a:pt x="103571" y="0"/>
                </a:lnTo>
                <a:lnTo>
                  <a:pt x="102171" y="1400"/>
                </a:lnTo>
                <a:lnTo>
                  <a:pt x="1400" y="1400"/>
                </a:lnTo>
                <a:close/>
              </a:path>
              <a:path fill="darken" w="103571" h="21600">
                <a:moveTo>
                  <a:pt x="103571" y="0"/>
                </a:moveTo>
                <a:lnTo>
                  <a:pt x="103571" y="21600"/>
                </a:lnTo>
                <a:lnTo>
                  <a:pt x="102171" y="20200"/>
                </a:lnTo>
                <a:lnTo>
                  <a:pt x="102171" y="1400"/>
                </a:lnTo>
                <a:close/>
              </a:path>
              <a:path fill="darkenLess" w="103571" h="21600">
                <a:moveTo>
                  <a:pt x="103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71" y="20200"/>
                </a:lnTo>
                <a:close/>
              </a:path>
              <a:path fill="lighten" w="103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571" h="21600">
                <a:moveTo>
                  <a:pt x="44779" y="3794"/>
                </a:moveTo>
                <a:lnTo>
                  <a:pt x="58792" y="10800"/>
                </a:lnTo>
                <a:lnTo>
                  <a:pt x="447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32000" y="26028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Инстру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1914120"/>
            <a:ext cx="460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слайде будет вопрос и несколько ответов. Один из них правильный, а все остальные неправильные. При нажатии на неправильный - ответ он исчезает, а при нажатии на правильный – остается на слай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4360" y="549360"/>
            <a:ext cx="813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Какие данные относятся к персональным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42100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421000"/>
            <a:ext cx="83534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крови,     отпечатки   пальцев,     медицинские диагноз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3429000"/>
            <a:ext cx="6480000" cy="79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дения   об   образовании,     фотогра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0920" y="4437000"/>
            <a:ext cx="53150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    вышеперечислен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Можешь ли ты контролировать размещение своих фотографий в сети Интернет,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если выкладываешь их в социальные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2924280"/>
            <a:ext cx="2448000" cy="1871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640" y="2997360"/>
            <a:ext cx="3279960" cy="172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76536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Друг устраивает вечеринку в выходные, и все ваши друзья приглашены. Правильно ли будет разместить дату, время и место на сайте, потому что тогда у каждого будут детали этой вст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2924280"/>
            <a:ext cx="216072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80000" y="2924280"/>
            <a:ext cx="230508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1640" y="4017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Может ли твой друг заходить в твой аккаунт и отправлять от твоего имени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844640"/>
            <a:ext cx="7810560" cy="13683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,  потому  что  он  мой  друг,  и  я  ему  доверяю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95640" y="3789360"/>
            <a:ext cx="1500120" cy="10033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090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ри заполнении онлайн–формы для ввода данных, которые будут опубликованы, какие данные не стоит указывать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2492280"/>
            <a:ext cx="58338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нейм  или  псевдони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48360" y="2637000"/>
            <a:ext cx="1582920" cy="115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0" y="4508640"/>
            <a:ext cx="4038480" cy="7729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учишьс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3933720"/>
            <a:ext cx="4448160" cy="874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живе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8920" y="1844640"/>
            <a:ext cx="6551640" cy="460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erdana"/>
              </a:rPr>
              <a:t>Всё)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89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692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 сайта «Лига безопасного Интернета» - http://www.ligainternet.ru/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7740720" y="5805360"/>
            <a:ext cx="934920" cy="7905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42" h="21600">
                <a:moveTo>
                  <a:pt x="0" y="0"/>
                </a:moveTo>
                <a:lnTo>
                  <a:pt x="25542" y="0"/>
                </a:lnTo>
                <a:lnTo>
                  <a:pt x="25542" y="21600"/>
                </a:lnTo>
                <a:lnTo>
                  <a:pt x="0" y="21600"/>
                </a:lnTo>
                <a:close/>
              </a:path>
              <a:path fill="lightenLess" w="25542" h="21600">
                <a:moveTo>
                  <a:pt x="0" y="0"/>
                </a:moveTo>
                <a:lnTo>
                  <a:pt x="25542" y="0"/>
                </a:lnTo>
                <a:lnTo>
                  <a:pt x="24142" y="1400"/>
                </a:lnTo>
                <a:lnTo>
                  <a:pt x="1400" y="1400"/>
                </a:lnTo>
                <a:close/>
              </a:path>
              <a:path fill="darken" w="25542" h="21600">
                <a:moveTo>
                  <a:pt x="25542" y="0"/>
                </a:moveTo>
                <a:lnTo>
                  <a:pt x="25542" y="21600"/>
                </a:lnTo>
                <a:lnTo>
                  <a:pt x="24142" y="20200"/>
                </a:lnTo>
                <a:lnTo>
                  <a:pt x="24142" y="1400"/>
                </a:lnTo>
                <a:close/>
              </a:path>
              <a:path fill="darkenLess" w="25542" h="21600">
                <a:moveTo>
                  <a:pt x="25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2" y="20200"/>
                </a:lnTo>
                <a:close/>
              </a:path>
              <a:path fill="lighten" w="25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2" h="21600">
                <a:moveTo>
                  <a:pt x="12771" y="3837"/>
                </a:moveTo>
                <a:lnTo>
                  <a:pt x="15348" y="6448"/>
                </a:ln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lnTo>
                  <a:pt x="19734" y="10800"/>
                </a:lnTo>
                <a:lnTo>
                  <a:pt x="18080" y="10800"/>
                </a:lnTo>
                <a:lnTo>
                  <a:pt x="18080" y="17989"/>
                </a:lnTo>
                <a:lnTo>
                  <a:pt x="7462" y="17989"/>
                </a:lnTo>
                <a:lnTo>
                  <a:pt x="7462" y="10800"/>
                </a:lnTo>
                <a:lnTo>
                  <a:pt x="5808" y="10800"/>
                </a:lnTo>
                <a:close/>
              </a:path>
              <a:path fill="darkenLess" w="25542" h="21600">
                <a:moveTo>
                  <a:pt x="15348" y="6448"/>
                </a:move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close/>
              </a:path>
              <a:path fill="darkenLess" w="25542" h="21600">
                <a:moveTo>
                  <a:pt x="11849" y="14299"/>
                </a:moveTo>
                <a:lnTo>
                  <a:pt x="13694" y="14299"/>
                </a:lnTo>
                <a:lnTo>
                  <a:pt x="13694" y="17989"/>
                </a:lnTo>
                <a:lnTo>
                  <a:pt x="18080" y="17989"/>
                </a:lnTo>
                <a:lnTo>
                  <a:pt x="18080" y="10800"/>
                </a:lnTo>
                <a:lnTo>
                  <a:pt x="7462" y="10800"/>
                </a:lnTo>
                <a:lnTo>
                  <a:pt x="7462" y="17989"/>
                </a:lnTo>
                <a:lnTo>
                  <a:pt x="11849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0:43:19Z</dcterms:created>
  <dc:creator>Ученик</dc:creator>
  <dc:description/>
  <dc:language>en-US</dc:language>
  <cp:lastModifiedBy>Галина</cp:lastModifiedBy>
  <dcterms:modified xsi:type="dcterms:W3CDTF">2018-10-28T12:38:24Z</dcterms:modified>
  <cp:revision>20</cp:revision>
  <dc:subject/>
  <dc:title>Слайд 1</dc:title>
</cp:coreProperties>
</file>