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617C-3804-4136-B7B7-0F028A13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374A-3325-4282-8BDD-894CA2FC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0B7D-D244-4AA3-8DD1-8FD0321DD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C50B-87F8-482C-8988-479B6B10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590B-C44D-4E84-AE84-DF2A20CF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ABCF-B290-4ACF-A125-C20283DA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6D52-FC63-4721-A013-5E98488E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5A43-9512-4A38-97AF-D800F0A9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A8E2-D870-4057-B633-8B40C35A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1A14-7FD5-476B-BE96-F27FB8E0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F47D-0C7C-4AF4-8EF3-FC92875F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6D13-D885-4D1E-96B4-327601EB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20C7-41F0-4390-B49E-D99217A5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CC8A-04E6-4D5B-91E3-170DF0FF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2220-7918-4860-874A-F879EE94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6B86-5240-4D42-9CB3-E7B7B70C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A729-4948-432F-851C-4C8E31E8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4938-65DB-4F0C-B94D-143B28B4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821D-DAD7-4640-A248-AAEFD76F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3DB2-9767-4E2E-B917-A8E7E721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0777-220F-4605-9948-B6382023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7304-D128-45BB-BA26-0C3354E5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BC3B-147E-46CB-B120-F0B1813C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ACD9-A291-4D1B-8C3C-927C171E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2260-0D69-493C-915D-C56BE54F3EB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25C3-13B5-43A1-8330-EDE9BB48622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258920" y="0"/>
            <a:ext cx="64198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оверка таблицы умнож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50920" y="5084640"/>
            <a:ext cx="482436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зентацию подготовил М.С. Наумк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5280" y="5516640"/>
            <a:ext cx="266400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ченик 7Б клас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4000" y="5877000"/>
            <a:ext cx="44989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уководитель: Поспелова Г.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6308640"/>
            <a:ext cx="4103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БОУ "СОШ №20" г. Новомосковс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835280" y="620640"/>
            <a:ext cx="52578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осибо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а внимание !!!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1" name="">
            <a:hlinkClick r:id="" action="ppaction://hlinkshowjump?jump=endshow"/>
          </p:cNvPr>
          <p:cNvSpPr/>
          <p:nvPr/>
        </p:nvSpPr>
        <p:spPr>
          <a:xfrm>
            <a:off x="7956720" y="6165720"/>
            <a:ext cx="647640" cy="692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92280"/>
              <a:gd name="textAreaBottom" fmla="*/ 650520 h 692280"/>
            </a:gdLst>
            <a:ahLst/>
            <a:rect l="textAreaLeft" t="textAreaTop" r="textAreaRight" b="textAreaBottom"/>
            <a:pathLst>
              <a:path w="21600" h="23088">
                <a:moveTo>
                  <a:pt x="0" y="0"/>
                </a:moveTo>
                <a:lnTo>
                  <a:pt x="21600" y="0"/>
                </a:lnTo>
                <a:lnTo>
                  <a:pt x="21600" y="23088"/>
                </a:lnTo>
                <a:lnTo>
                  <a:pt x="0" y="23088"/>
                </a:lnTo>
                <a:close/>
              </a:path>
              <a:path fill="lightenLess" w="21600" h="23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88">
                <a:moveTo>
                  <a:pt x="21600" y="0"/>
                </a:moveTo>
                <a:lnTo>
                  <a:pt x="21600" y="23088"/>
                </a:lnTo>
                <a:lnTo>
                  <a:pt x="20200" y="21688"/>
                </a:lnTo>
                <a:lnTo>
                  <a:pt x="20200" y="1400"/>
                </a:lnTo>
                <a:close/>
              </a:path>
              <a:path fill="darkenLess" w="21600" h="23088">
                <a:moveTo>
                  <a:pt x="21600" y="23088"/>
                </a:moveTo>
                <a:lnTo>
                  <a:pt x="0" y="23088"/>
                </a:lnTo>
                <a:lnTo>
                  <a:pt x="1400" y="21688"/>
                </a:lnTo>
                <a:lnTo>
                  <a:pt x="20200" y="21688"/>
                </a:lnTo>
                <a:close/>
              </a:path>
              <a:path fill="lighten" w="21600" h="23088">
                <a:moveTo>
                  <a:pt x="0" y="23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88"/>
                </a:lnTo>
                <a:close/>
              </a:path>
              <a:path fill="darken" w="21600" h="23088">
                <a:moveTo>
                  <a:pt x="10800" y="4581"/>
                </a:moveTo>
                <a:lnTo>
                  <a:pt x="13376" y="7192"/>
                </a:lnTo>
                <a:lnTo>
                  <a:pt x="13376" y="5451"/>
                </a:lnTo>
                <a:lnTo>
                  <a:pt x="15152" y="5451"/>
                </a:lnTo>
                <a:lnTo>
                  <a:pt x="15152" y="8968"/>
                </a:lnTo>
                <a:lnTo>
                  <a:pt x="17763" y="11544"/>
                </a:lnTo>
                <a:lnTo>
                  <a:pt x="16109" y="11544"/>
                </a:lnTo>
                <a:lnTo>
                  <a:pt x="16109" y="18733"/>
                </a:lnTo>
                <a:lnTo>
                  <a:pt x="5491" y="18733"/>
                </a:lnTo>
                <a:lnTo>
                  <a:pt x="5491" y="11544"/>
                </a:lnTo>
                <a:lnTo>
                  <a:pt x="3837" y="11544"/>
                </a:lnTo>
                <a:close/>
              </a:path>
              <a:path fill="darkenLess" w="21600" h="23088">
                <a:moveTo>
                  <a:pt x="13376" y="7192"/>
                </a:moveTo>
                <a:lnTo>
                  <a:pt x="13376" y="5451"/>
                </a:lnTo>
                <a:lnTo>
                  <a:pt x="15152" y="5451"/>
                </a:lnTo>
                <a:lnTo>
                  <a:pt x="15152" y="8968"/>
                </a:lnTo>
                <a:close/>
              </a:path>
              <a:path fill="darkenLess" w="21600" h="23088">
                <a:moveTo>
                  <a:pt x="9877" y="15043"/>
                </a:moveTo>
                <a:lnTo>
                  <a:pt x="11723" y="15043"/>
                </a:lnTo>
                <a:lnTo>
                  <a:pt x="11723" y="18733"/>
                </a:lnTo>
                <a:lnTo>
                  <a:pt x="16109" y="18733"/>
                </a:lnTo>
                <a:lnTo>
                  <a:pt x="16109" y="11544"/>
                </a:lnTo>
                <a:lnTo>
                  <a:pt x="5491" y="11544"/>
                </a:lnTo>
                <a:lnTo>
                  <a:pt x="5491" y="18733"/>
                </a:lnTo>
                <a:lnTo>
                  <a:pt x="9877" y="18733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124000" y="260280"/>
            <a:ext cx="51627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верьте свои знан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блицы умножения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332000" y="1557360"/>
            <a:ext cx="6886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бирайте правильный отв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з 4-х предложенны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63640" y="3284640"/>
            <a:ext cx="5904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авильный отв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таётся на слайде,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правильны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чеза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348000" y="260280"/>
            <a:ext cx="2438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 x 6 = ?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50920" y="206064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9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411280" y="335772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5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940360" y="342900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6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956720" y="220500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7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2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419640" y="404640"/>
            <a:ext cx="2438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 x 8 = ?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4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484360" y="335772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8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227640" y="342900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8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88508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3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5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419640" y="404640"/>
            <a:ext cx="2438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9 : 7 = ?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484360" y="335772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227640" y="342900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88508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7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419640" y="404640"/>
            <a:ext cx="2438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1 : 9 = ?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836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484360" y="335772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227640" y="342900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88508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8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419640" y="404640"/>
            <a:ext cx="2438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4 : 9 = ?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836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411280" y="328464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227640" y="342900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88508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5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a500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419640" y="404640"/>
            <a:ext cx="2438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 х 6 = ?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836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2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484360" y="335772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4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227640" y="342900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2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88508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5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5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328840" y="388800"/>
            <a:ext cx="4619520" cy="7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чники информации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119700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 сайта «http://nashol.com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nashol.com/2013091473519/uchim-tablicu-umnojeniya-aleksandrova-o-v-2012.html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21T11:33:19Z</dcterms:created>
  <dc:creator>ученик</dc:creator>
  <dc:description/>
  <dc:language>en-US</dc:language>
  <cp:lastModifiedBy>Галина</cp:lastModifiedBy>
  <dcterms:modified xsi:type="dcterms:W3CDTF">2018-10-28T12:50:46Z</dcterms:modified>
  <cp:revision>9</cp:revision>
  <dc:subject/>
  <dc:title>Слайд 1</dc:title>
</cp:coreProperties>
</file>