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B027-658C-4DDA-B768-125CB333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BBE-4397-44CF-8078-77273E8B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4F70-69A0-4946-B09E-161B1B72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BB7C-C381-4515-B589-B53EDC06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5EC2-ABB0-4004-8EEE-D7771B38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14FA-3C3D-4E3E-9D52-2C7819C8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8146-224F-4674-B8BF-DA5A6A99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B53C-13C4-4950-B6B7-65CFB76E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5EE8-DD29-4971-8481-63C03C37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E3B6-5EC8-4FFB-80CF-B6DBF326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0AD4-AEE9-4E63-B827-D37DD841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95AA-D270-4F50-9DAE-5976432D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C15C-1101-4718-914F-3190F93A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3449-8EC6-4B35-BB84-1C36654F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2FF4-B6B4-467C-9D9B-79CC4F2F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7623-1C69-43F9-84D2-4D1EB0D6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F8CB-C454-4FB2-B87B-D48E1502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512F5-F847-4F71-82BB-A291D1CA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5656E-D51F-430F-A6B7-A3B76D5E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9AC69-A2E4-4FD6-8028-E2812276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9BFF6-8D30-4043-8C48-6F2C625F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7AA99-58B0-4923-9FC0-0805FB12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A356-F42B-4079-A7B6-317A7E1D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48E0A-7895-4350-9A27-E64EC819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58EF2-6542-4D1D-897C-91BE4D5E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32783-790B-4E0B-9161-D69F26D7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084B8-8FF6-4A03-84D7-36FBD98F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6819C-091F-4BF0-B6CE-7B31FFCE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6895B-5144-478B-B202-D7215CD2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5BA26-AFDD-4C94-8FE3-0DCEFEF2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06D01-8990-4D92-87D7-B4D89D73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3AAA5-77E7-4CAD-9E2D-83784D91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983AF-FC29-48BA-B3A5-026D925B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DCF1-A58B-4C37-A7BD-469F076C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81402-CA88-4EFC-A7FE-0FC91B6D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55A89-080E-48CF-AE88-3A5AC8D4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53C7B-359F-42DF-8BED-2888F195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1EF9B-1BC6-4910-9691-90B1A2D9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8AD5D-1083-4019-A2C6-14D3609D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433B8-D3D7-46BC-9063-BE5E1144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27FDA-9E86-4BC3-BDBA-BAF468D6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A155D-7FC6-417C-ABCC-44149C6F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BC535-B5F9-4DD3-8FD8-C4169843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F5080-4774-4E43-9AC1-BA751B67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8369-B4DD-4736-A5B2-22A2B34F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387F1-5C04-4404-963A-CC29D2B2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83486-C15E-4533-B931-46E796A2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51B5D-7C7E-4304-866C-EBA973B8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1B333-D608-4DE7-847B-CBE9BF86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E46CB-6C69-4428-A035-658FA779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ACAED-44F3-4ED7-9817-711ED3E2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32B05-57B9-47B6-B435-AA97303C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8318E-9293-4901-90E0-F7B3847B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E10C9-37B5-4FA1-9AC7-4AF21C32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811EE-6432-420C-94F1-E9526AD7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DCB-CCA1-414F-948C-DE76921E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FC4CE-D4C3-4794-AADE-FA01662B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AB90-D954-4BE5-8E20-A8C300FA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7739-6071-4B51-BEAC-604DCDAD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3F1-CF64-4DB1-907D-2F4545BF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C0A1-FD5D-4C40-90AA-D7ECE3B58EF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354C-E383-48EE-8E63-28F88D015BF6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CEE5-A039-4C87-B2B8-39265A8D79C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A698-8DC9-473E-959A-6EE685C99880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DE24-F24A-4EDD-99F0-99D2509D553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Прямоугольник 3" descr=""/>
          <p:cNvPicPr/>
          <p:nvPr/>
        </p:nvPicPr>
        <p:blipFill>
          <a:blip r:embed="rId2"/>
          <a:stretch/>
        </p:blipFill>
        <p:spPr>
          <a:xfrm>
            <a:off x="1779480" y="109440"/>
            <a:ext cx="4797360" cy="110340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5" descr=""/>
          <p:cNvPicPr/>
          <p:nvPr/>
        </p:nvPicPr>
        <p:blipFill>
          <a:blip r:embed="rId3"/>
          <a:stretch/>
        </p:blipFill>
        <p:spPr>
          <a:xfrm>
            <a:off x="1403280" y="1341360"/>
            <a:ext cx="5533920" cy="11397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2"/>
          <p:cNvSpPr/>
          <p:nvPr/>
        </p:nvSpPr>
        <p:spPr>
          <a:xfrm>
            <a:off x="395280" y="5013360"/>
            <a:ext cx="4968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Работу выполнил: Александр Поп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ченик 7Б клас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Руководитель: Поспелова Г.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МБОУ «СОШ №20» г. Новомосковс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2018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">
            <a:hlinkClick r:id="" action="ppaction://hlinkshowjump?jump=nextslide"/>
          </p:cNvPr>
          <p:cNvSpPr/>
          <p:nvPr/>
        </p:nvSpPr>
        <p:spPr>
          <a:xfrm>
            <a:off x="6804000" y="5734080"/>
            <a:ext cx="1368360" cy="1123920"/>
          </a:xfrm>
          <a:custGeom>
            <a:avLst/>
            <a:gdLst>
              <a:gd name="textAreaLeft" fmla="*/ 72720 w 1368360"/>
              <a:gd name="textAreaRight" fmla="*/ 1295640 w 136836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6142" y="3794"/>
                </a:moveTo>
                <a:lnTo>
                  <a:pt x="20155" y="10800"/>
                </a:lnTo>
                <a:lnTo>
                  <a:pt x="6142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8172360" cy="333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-3095280" y="3429000"/>
            <a:ext cx="6524640" cy="333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4"/>
          <p:cNvSpPr txBox="1"/>
          <p:nvPr/>
        </p:nvSpPr>
        <p:spPr>
          <a:xfrm>
            <a:off x="2268360" y="260280"/>
            <a:ext cx="403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яснение  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24000" y="2565360"/>
            <a:ext cx="7561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ариант ответа, который вы выбрали поменял цвет на красн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выскочил, то он ошибоч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ариант ответа поменял цвет на зелёный, то он ве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>
            <a:hlinkClick r:id="" action="ppaction://hlinkshowjump?jump=nextslide"/>
          </p:cNvPr>
          <p:cNvSpPr/>
          <p:nvPr/>
        </p:nvSpPr>
        <p:spPr>
          <a:xfrm>
            <a:off x="6804000" y="5734080"/>
            <a:ext cx="1370160" cy="1123920"/>
          </a:xfrm>
          <a:custGeom>
            <a:avLst/>
            <a:gdLst>
              <a:gd name="textAreaLeft" fmla="*/ 72720 w 1370160"/>
              <a:gd name="textAreaRight" fmla="*/ 1297440 w 137016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26331" h="21600">
                <a:moveTo>
                  <a:pt x="0" y="0"/>
                </a:moveTo>
                <a:lnTo>
                  <a:pt x="26331" y="0"/>
                </a:lnTo>
                <a:lnTo>
                  <a:pt x="26331" y="21600"/>
                </a:lnTo>
                <a:lnTo>
                  <a:pt x="0" y="21600"/>
                </a:lnTo>
                <a:close/>
              </a:path>
              <a:path fill="lightenLess" w="26331" h="21600">
                <a:moveTo>
                  <a:pt x="0" y="0"/>
                </a:moveTo>
                <a:lnTo>
                  <a:pt x="26331" y="0"/>
                </a:lnTo>
                <a:lnTo>
                  <a:pt x="24931" y="1400"/>
                </a:lnTo>
                <a:lnTo>
                  <a:pt x="1400" y="1400"/>
                </a:lnTo>
                <a:close/>
              </a:path>
              <a:path fill="darken" w="26331" h="21600">
                <a:moveTo>
                  <a:pt x="26331" y="0"/>
                </a:moveTo>
                <a:lnTo>
                  <a:pt x="26331" y="21600"/>
                </a:lnTo>
                <a:lnTo>
                  <a:pt x="24931" y="20200"/>
                </a:lnTo>
                <a:lnTo>
                  <a:pt x="24931" y="1400"/>
                </a:lnTo>
                <a:close/>
              </a:path>
              <a:path fill="darkenLess" w="26331" h="21600">
                <a:moveTo>
                  <a:pt x="263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1" y="20200"/>
                </a:lnTo>
                <a:close/>
              </a:path>
              <a:path fill="lighten" w="263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1" h="21600">
                <a:moveTo>
                  <a:pt x="6159" y="3794"/>
                </a:moveTo>
                <a:lnTo>
                  <a:pt x="20172" y="10800"/>
                </a:lnTo>
                <a:lnTo>
                  <a:pt x="6159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4"/>
          <p:cNvSpPr txBox="1"/>
          <p:nvPr/>
        </p:nvSpPr>
        <p:spPr>
          <a:xfrm>
            <a:off x="1547640" y="189000"/>
            <a:ext cx="5545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колько   будет   5  x  12  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WordArt 5"/>
          <p:cNvSpPr txBox="1"/>
          <p:nvPr/>
        </p:nvSpPr>
        <p:spPr>
          <a:xfrm>
            <a:off x="684360" y="2852640"/>
            <a:ext cx="514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b13f9a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5</a:t>
            </a:r>
            <a:endParaRPr b="1" lang="en-US" sz="1800" spc="1" strike="noStrike">
              <a:ln w="9360">
                <a:solidFill>
                  <a:srgbClr val="b13f9a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WordArt 6"/>
          <p:cNvSpPr txBox="1"/>
          <p:nvPr/>
        </p:nvSpPr>
        <p:spPr>
          <a:xfrm>
            <a:off x="2268360" y="414972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b13f9a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9</a:t>
            </a:r>
            <a:endParaRPr b="1" i="1" lang="en-US" sz="1800" spc="1" strike="noStrike">
              <a:ln w="9360">
                <a:solidFill>
                  <a:srgbClr val="b13f9a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2" name="WordArt 7"/>
          <p:cNvSpPr txBox="1"/>
          <p:nvPr/>
        </p:nvSpPr>
        <p:spPr>
          <a:xfrm>
            <a:off x="3851280" y="278136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b13f9a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0</a:t>
            </a:r>
            <a:endParaRPr b="1" i="1" lang="en-US" sz="1800" spc="1" strike="noStrike">
              <a:ln w="9360">
                <a:solidFill>
                  <a:srgbClr val="b13f9a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3" name="WordArt 8"/>
          <p:cNvSpPr txBox="1"/>
          <p:nvPr/>
        </p:nvSpPr>
        <p:spPr>
          <a:xfrm>
            <a:off x="6084720" y="3860640"/>
            <a:ext cx="771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b13f9a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25</a:t>
            </a:r>
            <a:endParaRPr b="1" i="1" lang="en-US" sz="1800" spc="1" strike="noStrike">
              <a:ln w="9360">
                <a:solidFill>
                  <a:srgbClr val="b13f9a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4" name="AutoShape 9">
            <a:hlinkClick r:id="" action="ppaction://hlinkshowjump?jump=nextslide"/>
          </p:cNvPr>
          <p:cNvSpPr/>
          <p:nvPr/>
        </p:nvSpPr>
        <p:spPr>
          <a:xfrm>
            <a:off x="6804000" y="5805360"/>
            <a:ext cx="1366920" cy="1052640"/>
          </a:xfrm>
          <a:custGeom>
            <a:avLst/>
            <a:gdLst>
              <a:gd name="textAreaLeft" fmla="*/ 68040 w 1366920"/>
              <a:gd name="textAreaRight" fmla="*/ 1298880 w 13669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28047" h="21600">
                <a:moveTo>
                  <a:pt x="0" y="0"/>
                </a:moveTo>
                <a:lnTo>
                  <a:pt x="28047" y="0"/>
                </a:lnTo>
                <a:lnTo>
                  <a:pt x="28047" y="21600"/>
                </a:lnTo>
                <a:lnTo>
                  <a:pt x="0" y="21600"/>
                </a:lnTo>
                <a:close/>
              </a:path>
              <a:path fill="lightenLess" w="28047" h="21600">
                <a:moveTo>
                  <a:pt x="0" y="0"/>
                </a:moveTo>
                <a:lnTo>
                  <a:pt x="28047" y="0"/>
                </a:lnTo>
                <a:lnTo>
                  <a:pt x="26647" y="1400"/>
                </a:lnTo>
                <a:lnTo>
                  <a:pt x="1400" y="1400"/>
                </a:lnTo>
                <a:close/>
              </a:path>
              <a:path fill="darken" w="28047" h="21600">
                <a:moveTo>
                  <a:pt x="28047" y="0"/>
                </a:moveTo>
                <a:lnTo>
                  <a:pt x="28047" y="21600"/>
                </a:lnTo>
                <a:lnTo>
                  <a:pt x="26647" y="20200"/>
                </a:lnTo>
                <a:lnTo>
                  <a:pt x="26647" y="1400"/>
                </a:lnTo>
                <a:close/>
              </a:path>
              <a:path fill="darkenLess" w="28047" h="21600">
                <a:moveTo>
                  <a:pt x="28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47" y="20200"/>
                </a:lnTo>
                <a:close/>
              </a:path>
              <a:path fill="lighten" w="28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47" h="21600">
                <a:moveTo>
                  <a:pt x="7017" y="3794"/>
                </a:moveTo>
                <a:lnTo>
                  <a:pt x="21030" y="10800"/>
                </a:lnTo>
                <a:lnTo>
                  <a:pt x="7017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3ff28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12"/>
          <p:cNvSpPr txBox="1"/>
          <p:nvPr/>
        </p:nvSpPr>
        <p:spPr>
          <a:xfrm>
            <a:off x="1619280" y="0"/>
            <a:ext cx="5473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1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йдите   НОК   2 - х    чисел  :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9  и  12?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7"/>
          <p:cNvSpPr txBox="1"/>
          <p:nvPr/>
        </p:nvSpPr>
        <p:spPr>
          <a:xfrm>
            <a:off x="1116000" y="2708280"/>
            <a:ext cx="934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WordArt 8"/>
          <p:cNvSpPr txBox="1"/>
          <p:nvPr/>
        </p:nvSpPr>
        <p:spPr>
          <a:xfrm>
            <a:off x="6300720" y="2421000"/>
            <a:ext cx="792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9"/>
          <p:cNvSpPr txBox="1"/>
          <p:nvPr/>
        </p:nvSpPr>
        <p:spPr>
          <a:xfrm>
            <a:off x="3780000" y="4149720"/>
            <a:ext cx="863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AutoShape 9">
            <a:hlinkClick r:id="" action="ppaction://hlinkshowjump?jump=nextslide"/>
          </p:cNvPr>
          <p:cNvSpPr/>
          <p:nvPr/>
        </p:nvSpPr>
        <p:spPr>
          <a:xfrm>
            <a:off x="6804000" y="5805360"/>
            <a:ext cx="1366920" cy="1052640"/>
          </a:xfrm>
          <a:custGeom>
            <a:avLst/>
            <a:gdLst>
              <a:gd name="textAreaLeft" fmla="*/ 68040 w 1366920"/>
              <a:gd name="textAreaRight" fmla="*/ 1298880 w 13669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28047" h="21600">
                <a:moveTo>
                  <a:pt x="0" y="0"/>
                </a:moveTo>
                <a:lnTo>
                  <a:pt x="28047" y="0"/>
                </a:lnTo>
                <a:lnTo>
                  <a:pt x="28047" y="21600"/>
                </a:lnTo>
                <a:lnTo>
                  <a:pt x="0" y="21600"/>
                </a:lnTo>
                <a:close/>
              </a:path>
              <a:path fill="lightenLess" w="28047" h="21600">
                <a:moveTo>
                  <a:pt x="0" y="0"/>
                </a:moveTo>
                <a:lnTo>
                  <a:pt x="28047" y="0"/>
                </a:lnTo>
                <a:lnTo>
                  <a:pt x="26647" y="1400"/>
                </a:lnTo>
                <a:lnTo>
                  <a:pt x="1400" y="1400"/>
                </a:lnTo>
                <a:close/>
              </a:path>
              <a:path fill="darken" w="28047" h="21600">
                <a:moveTo>
                  <a:pt x="28047" y="0"/>
                </a:moveTo>
                <a:lnTo>
                  <a:pt x="28047" y="21600"/>
                </a:lnTo>
                <a:lnTo>
                  <a:pt x="26647" y="20200"/>
                </a:lnTo>
                <a:lnTo>
                  <a:pt x="26647" y="1400"/>
                </a:lnTo>
                <a:close/>
              </a:path>
              <a:path fill="darkenLess" w="28047" h="21600">
                <a:moveTo>
                  <a:pt x="28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47" y="20200"/>
                </a:lnTo>
                <a:close/>
              </a:path>
              <a:path fill="lighten" w="28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47" h="21600">
                <a:moveTo>
                  <a:pt x="7017" y="3794"/>
                </a:moveTo>
                <a:lnTo>
                  <a:pt x="21030" y="10800"/>
                </a:lnTo>
                <a:lnTo>
                  <a:pt x="7017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3ff28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3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4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5"/>
          <p:cNvSpPr txBox="1"/>
          <p:nvPr/>
        </p:nvSpPr>
        <p:spPr>
          <a:xfrm>
            <a:off x="1258920" y="333360"/>
            <a:ext cx="5905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ие   бывают   дроби   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" name="WordArt 6"/>
          <p:cNvSpPr txBox="1"/>
          <p:nvPr/>
        </p:nvSpPr>
        <p:spPr>
          <a:xfrm>
            <a:off x="900000" y="2421000"/>
            <a:ext cx="388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стые   и   сложные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WordArt 7"/>
          <p:cNvSpPr txBox="1"/>
          <p:nvPr/>
        </p:nvSpPr>
        <p:spPr>
          <a:xfrm>
            <a:off x="3708360" y="3429000"/>
            <a:ext cx="316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олько   лёгк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WordArt 8"/>
          <p:cNvSpPr txBox="1"/>
          <p:nvPr/>
        </p:nvSpPr>
        <p:spPr>
          <a:xfrm>
            <a:off x="971640" y="4581360"/>
            <a:ext cx="5100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стые   и   десятичны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AutoShape 5">
            <a:hlinkClick r:id="" action="ppaction://hlinkshowjump?jump=nextslide"/>
          </p:cNvPr>
          <p:cNvSpPr/>
          <p:nvPr/>
        </p:nvSpPr>
        <p:spPr>
          <a:xfrm>
            <a:off x="6804000" y="5734080"/>
            <a:ext cx="1368360" cy="1123920"/>
          </a:xfrm>
          <a:custGeom>
            <a:avLst/>
            <a:gdLst>
              <a:gd name="textAreaLeft" fmla="*/ 72720 w 1368360"/>
              <a:gd name="textAreaRight" fmla="*/ 1295640 w 136836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6142" y="3794"/>
                </a:moveTo>
                <a:lnTo>
                  <a:pt x="20155" y="10800"/>
                </a:lnTo>
                <a:lnTo>
                  <a:pt x="6142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3ff28"/>
                                      </p:to>
                                    </p:animClr>
                                    <p:set>
                                      <p:cBhvr>
                                        <p:cTn id="6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2"/>
          <p:cNvSpPr txBox="1"/>
          <p:nvPr/>
        </p:nvSpPr>
        <p:spPr>
          <a:xfrm>
            <a:off x="755640" y="333360"/>
            <a:ext cx="6972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83d68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   невыполнимый   вопрос!</a:t>
            </a:r>
            <a:endParaRPr b="0" lang="en-US" sz="1800" spc="1" strike="noStrike">
              <a:ln w="9360">
                <a:solidFill>
                  <a:srgbClr val="b83d68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WordArt 3"/>
          <p:cNvSpPr txBox="1"/>
          <p:nvPr/>
        </p:nvSpPr>
        <p:spPr>
          <a:xfrm>
            <a:off x="179280" y="5373720"/>
            <a:ext cx="7828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83d68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бы   перейти   к   вопросу   нажмите   на   кнопку</a:t>
            </a:r>
            <a:endParaRPr b="0" lang="en-US" sz="1800" spc="1" strike="noStrike">
              <a:ln w="9360">
                <a:solidFill>
                  <a:srgbClr val="b83d68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AutoShape 4">
            <a:hlinkClick r:id="" action="ppaction://hlinkshowjump?jump=nextslide"/>
          </p:cNvPr>
          <p:cNvSpPr/>
          <p:nvPr/>
        </p:nvSpPr>
        <p:spPr>
          <a:xfrm>
            <a:off x="539640" y="1557360"/>
            <a:ext cx="7056720" cy="3527280"/>
          </a:xfrm>
          <a:custGeom>
            <a:avLst/>
            <a:gdLst>
              <a:gd name="textAreaLeft" fmla="*/ 228600 w 7056720"/>
              <a:gd name="textAreaRight" fmla="*/ 6828120 w 7056720"/>
              <a:gd name="textAreaTop" fmla="*/ 228600 h 3527280"/>
              <a:gd name="textAreaBottom" fmla="*/ 3298680 h 3527280"/>
            </a:gdLst>
            <a:ahLst/>
            <a:rect l="textAreaLeft" t="textAreaTop" r="textAreaRight" b="textAreaBottom"/>
            <a:pathLst>
              <a:path w="43211" h="21600">
                <a:moveTo>
                  <a:pt x="0" y="0"/>
                </a:moveTo>
                <a:lnTo>
                  <a:pt x="43211" y="0"/>
                </a:lnTo>
                <a:lnTo>
                  <a:pt x="43211" y="21600"/>
                </a:lnTo>
                <a:lnTo>
                  <a:pt x="0" y="21600"/>
                </a:lnTo>
                <a:close/>
              </a:path>
              <a:path fill="lightenLess" w="43211" h="21600">
                <a:moveTo>
                  <a:pt x="0" y="0"/>
                </a:moveTo>
                <a:lnTo>
                  <a:pt x="43211" y="0"/>
                </a:lnTo>
                <a:lnTo>
                  <a:pt x="41811" y="1400"/>
                </a:lnTo>
                <a:lnTo>
                  <a:pt x="1400" y="1400"/>
                </a:lnTo>
                <a:close/>
              </a:path>
              <a:path fill="darken" w="43211" h="21600">
                <a:moveTo>
                  <a:pt x="43211" y="0"/>
                </a:moveTo>
                <a:lnTo>
                  <a:pt x="43211" y="21600"/>
                </a:lnTo>
                <a:lnTo>
                  <a:pt x="41811" y="20200"/>
                </a:lnTo>
                <a:lnTo>
                  <a:pt x="41811" y="1400"/>
                </a:lnTo>
                <a:close/>
              </a:path>
              <a:path fill="darkenLess" w="43211" h="21600">
                <a:moveTo>
                  <a:pt x="432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1" y="20200"/>
                </a:lnTo>
                <a:close/>
              </a:path>
              <a:path fill="lighten" w="432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1" h="21600">
                <a:moveTo>
                  <a:pt x="14599" y="3794"/>
                </a:moveTo>
                <a:lnTo>
                  <a:pt x="28612" y="10800"/>
                </a:lnTo>
                <a:lnTo>
                  <a:pt x="14599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6"/>
          <p:cNvSpPr txBox="1"/>
          <p:nvPr/>
        </p:nvSpPr>
        <p:spPr>
          <a:xfrm>
            <a:off x="1116000" y="260280"/>
            <a:ext cx="6120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колько   будет   3201 +  6337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WordArt 7"/>
          <p:cNvSpPr txBox="1"/>
          <p:nvPr/>
        </p:nvSpPr>
        <p:spPr>
          <a:xfrm>
            <a:off x="1042920" y="2708280"/>
            <a:ext cx="180036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6666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WordArt 8"/>
          <p:cNvSpPr txBox="1"/>
          <p:nvPr/>
        </p:nvSpPr>
        <p:spPr>
          <a:xfrm>
            <a:off x="2484360" y="4508640"/>
            <a:ext cx="2232000" cy="92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936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WordArt 9"/>
          <p:cNvSpPr txBox="1"/>
          <p:nvPr/>
        </p:nvSpPr>
        <p:spPr>
          <a:xfrm>
            <a:off x="5148360" y="2708280"/>
            <a:ext cx="201600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9538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AutoShape 5">
            <a:hlinkClick r:id="" action="ppaction://hlinkshowjump?jump=nextslide"/>
          </p:cNvPr>
          <p:cNvSpPr/>
          <p:nvPr/>
        </p:nvSpPr>
        <p:spPr>
          <a:xfrm>
            <a:off x="6804000" y="5734080"/>
            <a:ext cx="1368360" cy="1123920"/>
          </a:xfrm>
          <a:custGeom>
            <a:avLst/>
            <a:gdLst>
              <a:gd name="textAreaLeft" fmla="*/ 72720 w 1368360"/>
              <a:gd name="textAreaRight" fmla="*/ 1295640 w 136836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6142" y="3794"/>
                </a:moveTo>
                <a:lnTo>
                  <a:pt x="20155" y="10800"/>
                </a:lnTo>
                <a:lnTo>
                  <a:pt x="6142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72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7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3ff28"/>
                                      </p:to>
                                    </p:animClr>
                                    <p:set>
                                      <p:cBhvr>
                                        <p:cTn id="8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5"/>
          <p:cNvSpPr txBox="1"/>
          <p:nvPr/>
        </p:nvSpPr>
        <p:spPr>
          <a:xfrm>
            <a:off x="755640" y="2143080"/>
            <a:ext cx="71294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  за   внимание !!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">
            <a:hlinkClick r:id="" action="ppaction://hlinkshowjump?jump=endshow"/>
          </p:cNvPr>
          <p:cNvSpPr/>
          <p:nvPr/>
        </p:nvSpPr>
        <p:spPr>
          <a:xfrm>
            <a:off x="6804000" y="6021360"/>
            <a:ext cx="1368360" cy="836640"/>
          </a:xfrm>
          <a:custGeom>
            <a:avLst/>
            <a:gdLst>
              <a:gd name="textAreaLeft" fmla="*/ 54000 w 1368360"/>
              <a:gd name="textAreaRight" fmla="*/ 1314360 w 136836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5322" h="21600">
                <a:moveTo>
                  <a:pt x="0" y="0"/>
                </a:moveTo>
                <a:lnTo>
                  <a:pt x="35322" y="0"/>
                </a:lnTo>
                <a:lnTo>
                  <a:pt x="35322" y="21600"/>
                </a:lnTo>
                <a:lnTo>
                  <a:pt x="0" y="21600"/>
                </a:lnTo>
                <a:close/>
              </a:path>
              <a:path fill="lightenLess" w="35322" h="21600">
                <a:moveTo>
                  <a:pt x="0" y="0"/>
                </a:moveTo>
                <a:lnTo>
                  <a:pt x="35322" y="0"/>
                </a:lnTo>
                <a:lnTo>
                  <a:pt x="33922" y="1400"/>
                </a:lnTo>
                <a:lnTo>
                  <a:pt x="1400" y="1400"/>
                </a:lnTo>
                <a:close/>
              </a:path>
              <a:path fill="darken" w="35322" h="21600">
                <a:moveTo>
                  <a:pt x="35322" y="0"/>
                </a:moveTo>
                <a:lnTo>
                  <a:pt x="35322" y="21600"/>
                </a:lnTo>
                <a:lnTo>
                  <a:pt x="33922" y="20200"/>
                </a:lnTo>
                <a:lnTo>
                  <a:pt x="33922" y="1400"/>
                </a:lnTo>
                <a:close/>
              </a:path>
              <a:path fill="darkenLess" w="35322" h="21600">
                <a:moveTo>
                  <a:pt x="35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22" y="20200"/>
                </a:lnTo>
                <a:close/>
              </a:path>
              <a:path fill="lighten" w="35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22" h="21600">
                <a:moveTo>
                  <a:pt x="17661" y="3837"/>
                </a:moveTo>
                <a:lnTo>
                  <a:pt x="20237" y="6448"/>
                </a:lnTo>
                <a:lnTo>
                  <a:pt x="20237" y="4707"/>
                </a:lnTo>
                <a:lnTo>
                  <a:pt x="22013" y="4707"/>
                </a:lnTo>
                <a:lnTo>
                  <a:pt x="22013" y="8224"/>
                </a:lnTo>
                <a:lnTo>
                  <a:pt x="24624" y="10800"/>
                </a:lnTo>
                <a:lnTo>
                  <a:pt x="22970" y="10800"/>
                </a:lnTo>
                <a:lnTo>
                  <a:pt x="22970" y="17989"/>
                </a:lnTo>
                <a:lnTo>
                  <a:pt x="12352" y="17989"/>
                </a:lnTo>
                <a:lnTo>
                  <a:pt x="12352" y="10800"/>
                </a:lnTo>
                <a:lnTo>
                  <a:pt x="10698" y="10800"/>
                </a:lnTo>
                <a:close/>
              </a:path>
              <a:path fill="darkenLess" w="35322" h="21600">
                <a:moveTo>
                  <a:pt x="20237" y="6448"/>
                </a:moveTo>
                <a:lnTo>
                  <a:pt x="20237" y="4707"/>
                </a:lnTo>
                <a:lnTo>
                  <a:pt x="22013" y="4707"/>
                </a:lnTo>
                <a:lnTo>
                  <a:pt x="22013" y="8224"/>
                </a:lnTo>
                <a:close/>
              </a:path>
              <a:path fill="darkenLess" w="35322" h="21600">
                <a:moveTo>
                  <a:pt x="16738" y="14299"/>
                </a:moveTo>
                <a:lnTo>
                  <a:pt x="18583" y="14299"/>
                </a:lnTo>
                <a:lnTo>
                  <a:pt x="18583" y="17989"/>
                </a:lnTo>
                <a:lnTo>
                  <a:pt x="22970" y="17989"/>
                </a:lnTo>
                <a:lnTo>
                  <a:pt x="22970" y="10800"/>
                </a:lnTo>
                <a:lnTo>
                  <a:pt x="12352" y="10800"/>
                </a:lnTo>
                <a:lnTo>
                  <a:pt x="12352" y="17989"/>
                </a:lnTo>
                <a:lnTo>
                  <a:pt x="16738" y="17989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2T11:40:50Z</dcterms:created>
  <dc:creator>ученик</dc:creator>
  <dc:description/>
  <dc:language>en-US</dc:language>
  <cp:lastModifiedBy>Галина</cp:lastModifiedBy>
  <dcterms:modified xsi:type="dcterms:W3CDTF">2018-10-28T12:45:55Z</dcterms:modified>
  <cp:revision>18</cp:revision>
  <dc:subject/>
  <dc:title>Слайд 1</dc:title>
</cp:coreProperties>
</file>