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F0B-4147-493C-AD3F-CEAAE306A8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088-194F-49DD-B043-892CF25FE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жите, что вы видите на картинке. Что можно узнать? (Сколько всего зайчиков) Как это узнать? (запись в тетрадь выражения 4+2=6) Чтение записи с названием терми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ADC-B993-41CF-BC79-401D21129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, что случилось. Что теперь можно узнать? (Сколько зайчиков осталось?) Как это можно записать? (в тетрадь 6-4=2) Как называли число 6? Число 4? Число 2? Как можно прочитать запись? (из суммы 6 вычесть слагаемое 4 получится слагаемое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4BD-451A-4E09-AB25-9446DDB6C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ернутся серые зайчики. Посмотрите, что теперь произойдёт(ушли белые зайчики) Что можно спросить? Как это записать. Далее как в предыдущем рассужден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B16-D606-421B-B645-4B02D3828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 чтение выражений, используя математические терм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D4D1-C884-405B-B829-6FD32D5F6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 вывод. Далее – закрепление по заданиям учебника или на усмотрение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898-53EF-42E4-921E-E3323A28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5A4-9CC5-4E2C-8206-EA1A4EB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D252-774C-48AB-893F-BB2A8EC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F727D-B870-481C-B64C-4DC6010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D17E-7E4F-4204-9D7E-468D1681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BFDA3-F9CB-405A-AF4B-A7511637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B581C-AD6C-4DA2-A991-320B3B8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AF668-DE8E-427B-B4E8-D8F3B5E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7F4A-110A-4893-801F-8BEFCD9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44BE-CE17-4866-A8A1-821D4CB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68F64-E0E1-4726-ABC9-A03DF641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806-1450-4FC6-B2DF-C78BF2EB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C31-479F-4695-802D-AEE7EBA0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36EC-2961-41C3-B989-51699FC7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CF7-4E73-4D3A-90A7-6BA7E69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FDA1-CF91-43C9-B88E-CC82888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D578-5001-4C71-AF73-56B1C2EC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C73D-3B79-4462-B765-657812E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326-DDA8-4EDC-85CB-CD5F43D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4959-8E80-46EB-8618-1797FEA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F84-F648-4502-9524-C6DD692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63F3-DB01-4008-BD64-7C3B851B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488-5638-4E27-AC5F-58D4ED2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5608-AB31-4D8C-AFB7-8A6AB54D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59F-FE18-4EA4-AE84-DCFBB5A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AC6E-F72E-4741-B399-5A2D32BF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8541-EA1B-419A-9E2D-A45B3E4E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8A40-CAE1-448C-A520-7D452CE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A21D-BC8D-4CCA-86AA-CCD4E916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521C-A46F-4CB7-BE50-8B38FB0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4A01-708B-4E5F-85B1-0A5C3D9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61E-12DB-4BF3-A19E-1B9EDBB2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6058-92DA-46EE-A072-B9EA9CE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6B99-858A-45B2-B33A-2134B22F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852B-CB4C-4C12-94A8-C04FE4D7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BDB6-F23C-4A7F-8143-80E811B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E683-56E8-47A7-9B4A-2E381B4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C4ED-1FBA-4D77-857C-DA6B23C5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970A-8409-411E-9128-C125842C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399A-2EE2-49CF-8948-6B6CDC9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49B1-DDFE-4A11-AF26-4C51BABD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BCC9-2E63-4380-A012-4CAE583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5BA-C16C-4EF8-B898-50AF379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DE4F6-B9E3-426D-B3EA-82E65E14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A2F5-637C-4CE4-9559-3C0ABB2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7520-33D4-4CD5-912D-C4C90C1D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AC61-6A39-4D65-B9BF-3C6D148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5F68-3976-435A-A288-344EC7F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9FEC-AD61-4AE3-922C-5EE61EF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ED81-86B0-4623-8EB9-6E72F4E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3DF5-DB50-44A4-863A-3D88BABA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9DD5-47AD-40F0-BD7A-E926B98C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326C3-2E7D-4173-BEDD-74A67F21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D28-407C-4235-9E8C-DD32A1C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D508-9C14-45E4-97D0-B10A14E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FC0F-6D69-4760-99D3-573D8A8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CF3A-8D04-4380-B56E-9EB5AFE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0FDD-07BB-46F9-ACC6-9D47C82C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69EB-E238-493D-B543-BE08443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EDB2-4527-4E70-8C45-CCE6897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EBF1-AD6F-4079-B891-8525536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B27B-6FAB-4741-9F8A-1F46062E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25AD-BFBE-499D-A922-6B8DBD4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29E4-8A7F-4B3B-9BAB-B071AB1D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C9A-0CA8-4297-B77B-391264AE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F167-B6C0-4A42-A2DB-C78065F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B91AC-41C4-45D8-A8B0-29A5F468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66DA-A69B-4E4E-BCDB-6131554B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85B3-C144-477A-9639-256C88A6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A987-81AE-4276-9EBE-A6BA0E7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C546-A68D-4889-B505-9D2D72A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C8F5-B5FA-48FA-8684-EEB0B30C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87AFB-60B8-43D5-BCAC-F2E9B12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7ECF-7958-4783-AB20-6E5A493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6BC2-BE7F-4AF3-884B-23186B6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C54-B46B-4347-B370-C30910B7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F3C2-9E89-47E5-8EEA-DB4842CA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2FA0-B9C3-4A01-BB43-E7B07D4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E82A-B09F-4D92-BB53-02FD3E5D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72190-C498-4238-A847-FD2E3F8C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05CF-D3D4-4FEE-8023-5EF344D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4B63-545E-4BC9-8777-A4C99350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CA43-5925-449A-BE73-DE113F7D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5C34-5686-4FA6-99E7-A9A609A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1484-4B06-4580-8B78-3C84430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933C5-7FB7-4935-8576-58414D7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985-BF30-4624-9097-8AF1D83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69425-B635-431C-A518-298F920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C6335-8F3F-4F47-A8B1-A113484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63247-ACE4-4AF1-8DF2-00F6018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E6E5-94F9-44C5-A9B2-D4EBADB2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F0FE-0269-431A-A6B2-16FDC5B5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D0D4-004B-4538-9F70-8066C5D2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AA5BF-7B12-4F6C-BAA4-80AC4BD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803B-2614-4641-AFD6-5811057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FAEA-4E2A-4FA9-B8C7-E54D263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AD0E-50B8-4AF0-94BA-6D398D4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E51-4739-47EF-B7E9-59C0610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E56EB-6DEC-40E5-8B51-5CCC582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5C24-F667-44BD-AE26-F6FBFED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9096-D89A-4B10-9558-5D8E5F2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F780-9A28-4D8C-90AC-54B4868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AEBA-5054-443E-9447-5200157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2E8A3-9451-40D7-BAB4-EF5FA72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D747-AB9F-4431-8820-383AA4F4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19899-6255-4E51-BAB3-655AFBC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B19C3-2291-4AC3-9692-B66B8C7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D6012-5057-47B5-840D-EFB966D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3D61-45D1-4F15-B4F3-C2D4B2EE02E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7EE-6748-4991-9591-35EB41936475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0B93-5DA6-48F5-B390-C0FC8AA4307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B4A-9FEE-4CD7-87AB-91E38CF8E57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70B-3E57-4C8A-8EBB-7401B422A1F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B10-55DA-4CBE-B347-756DC236FF4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52A-8D5A-410C-84FB-A4F5B0C948A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72E-9FD1-4E36-970E-4EA033E4B8D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7AFE-EBFF-4C1A-8320-D725D0D5940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«Связь между суммой и слагаемыми»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рок математики в 1 классе 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рограмма « Школа России»    по ФГОС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Подготовила : Костина Светлана Викторовна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читель начальных классов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1002600" y="68580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должить столб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928440" y="205740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4952880" y="2133720"/>
            <a:ext cx="305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137160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1371600" y="3124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334120" y="2514600"/>
            <a:ext cx="13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5334120" y="3124080"/>
            <a:ext cx="153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852120" y="106668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+3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838080" y="2514600"/>
            <a:ext cx="275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7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838080" y="3886200"/>
            <a:ext cx="28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3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257800" y="259092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5=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181480" y="1066680"/>
            <a:ext cx="259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2=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5181480" y="3886200"/>
            <a:ext cx="232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725120" y="1447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1800000" y="2895480"/>
            <a:ext cx="13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1523880" y="4267080"/>
            <a:ext cx="19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029200" y="1447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5029200" y="281952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952880" y="426708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1066680" y="1066680"/>
            <a:ext cx="332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+2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219320" y="2590920"/>
            <a:ext cx="29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+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95280" y="4114800"/>
            <a:ext cx="29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5105520" y="1066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5257800" y="2590920"/>
            <a:ext cx="217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-2=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5105520" y="4191120"/>
            <a:ext cx="28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0-2=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316160"/>
            <a:ext cx="7729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0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21" name="Oval 9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7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1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26" name="Oval 12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5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6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31" name="Oval 17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8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9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20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21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36" name="Oval 22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3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4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25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0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5"/>
          <p:cNvGrpSpPr/>
          <p:nvPr/>
        </p:nvGrpSpPr>
        <p:grpSpPr>
          <a:xfrm>
            <a:off x="228600" y="228600"/>
            <a:ext cx="8686800" cy="2666880"/>
            <a:chOff x="228600" y="228600"/>
            <a:chExt cx="8686800" cy="2666880"/>
          </a:xfrm>
        </p:grpSpPr>
        <p:grpSp>
          <p:nvGrpSpPr>
            <p:cNvPr id="443" name="Group 2"/>
            <p:cNvGrpSpPr/>
            <p:nvPr/>
          </p:nvGrpSpPr>
          <p:grpSpPr>
            <a:xfrm>
              <a:off x="228600" y="304920"/>
              <a:ext cx="2209680" cy="2590560"/>
              <a:chOff x="228600" y="304920"/>
              <a:chExt cx="2209680" cy="2590560"/>
            </a:xfrm>
          </p:grpSpPr>
          <p:sp>
            <p:nvSpPr>
              <p:cNvPr id="444" name="Oval 3"/>
              <p:cNvSpPr/>
              <p:nvPr/>
            </p:nvSpPr>
            <p:spPr>
              <a:xfrm rot="1914600">
                <a:off x="37008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4"/>
              <p:cNvSpPr/>
              <p:nvPr/>
            </p:nvSpPr>
            <p:spPr>
              <a:xfrm>
                <a:off x="137016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"/>
              <p:cNvSpPr/>
              <p:nvPr/>
            </p:nvSpPr>
            <p:spPr>
              <a:xfrm>
                <a:off x="146916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7" name="Picture 6" descr="Thumper-1-lg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8" name="Group 7"/>
            <p:cNvGrpSpPr/>
            <p:nvPr/>
          </p:nvGrpSpPr>
          <p:grpSpPr>
            <a:xfrm>
              <a:off x="2286000" y="228600"/>
              <a:ext cx="2209680" cy="2590920"/>
              <a:chOff x="2286000" y="228600"/>
              <a:chExt cx="2209680" cy="2590920"/>
            </a:xfrm>
          </p:grpSpPr>
          <p:sp>
            <p:nvSpPr>
              <p:cNvPr id="449" name="Oval 8"/>
              <p:cNvSpPr/>
              <p:nvPr/>
            </p:nvSpPr>
            <p:spPr>
              <a:xfrm rot="1914600">
                <a:off x="2427120" y="1461600"/>
                <a:ext cx="496080" cy="621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9"/>
              <p:cNvSpPr/>
              <p:nvPr/>
            </p:nvSpPr>
            <p:spPr>
              <a:xfrm>
                <a:off x="3427560" y="140148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10"/>
              <p:cNvSpPr/>
              <p:nvPr/>
            </p:nvSpPr>
            <p:spPr>
              <a:xfrm>
                <a:off x="3526560" y="375120"/>
                <a:ext cx="446400" cy="53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2" name="Picture 11" descr="Thumper-1-lg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228600"/>
                <a:ext cx="2209680" cy="259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12"/>
            <p:cNvGrpSpPr/>
            <p:nvPr/>
          </p:nvGrpSpPr>
          <p:grpSpPr>
            <a:xfrm>
              <a:off x="4495680" y="304920"/>
              <a:ext cx="2210040" cy="2590560"/>
              <a:chOff x="4495680" y="304920"/>
              <a:chExt cx="2210040" cy="2590560"/>
            </a:xfrm>
          </p:grpSpPr>
          <p:sp>
            <p:nvSpPr>
              <p:cNvPr id="454" name="Oval 13"/>
              <p:cNvSpPr/>
              <p:nvPr/>
            </p:nvSpPr>
            <p:spPr>
              <a:xfrm rot="1914600">
                <a:off x="4637160" y="1537920"/>
                <a:ext cx="49644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563724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5"/>
              <p:cNvSpPr/>
              <p:nvPr/>
            </p:nvSpPr>
            <p:spPr>
              <a:xfrm>
                <a:off x="5736600" y="451440"/>
                <a:ext cx="44676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6" descr="Thumper-1-lg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304920"/>
                <a:ext cx="2210040" cy="259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Group 17"/>
            <p:cNvGrpSpPr/>
            <p:nvPr/>
          </p:nvGrpSpPr>
          <p:grpSpPr>
            <a:xfrm>
              <a:off x="6705720" y="304920"/>
              <a:ext cx="2209680" cy="2590560"/>
              <a:chOff x="6705720" y="304920"/>
              <a:chExt cx="2209680" cy="2590560"/>
            </a:xfrm>
          </p:grpSpPr>
          <p:sp>
            <p:nvSpPr>
              <p:cNvPr id="459" name="Oval 18"/>
              <p:cNvSpPr/>
              <p:nvPr/>
            </p:nvSpPr>
            <p:spPr>
              <a:xfrm rot="1914600">
                <a:off x="6847200" y="1537560"/>
                <a:ext cx="496080" cy="620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7847280" y="1477800"/>
                <a:ext cx="545760" cy="58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7946280" y="451440"/>
                <a:ext cx="446400" cy="53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21" descr="Thumper-1-lg"/>
              <p:cNvPicPr/>
              <p:nvPr/>
            </p:nvPicPr>
            <p:blipFill>
              <a:blip r:embed="rId4"/>
              <a:stretch/>
            </p:blipFill>
            <p:spPr>
              <a:xfrm>
                <a:off x="6705720" y="304920"/>
                <a:ext cx="2209680" cy="25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3" name="Picture 26" descr="зайчик 1"/>
          <p:cNvPicPr/>
          <p:nvPr/>
        </p:nvPicPr>
        <p:blipFill>
          <a:blip r:embed="rId5">
            <a:grayscl/>
            <a:lum bright="30000"/>
          </a:blip>
          <a:stretch/>
        </p:blipFill>
        <p:spPr>
          <a:xfrm>
            <a:off x="2209680" y="3276720"/>
            <a:ext cx="1844640" cy="289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7" descr="зайчик 1"/>
          <p:cNvPicPr/>
          <p:nvPr/>
        </p:nvPicPr>
        <p:blipFill>
          <a:blip r:embed="rId6">
            <a:grayscl/>
            <a:lum bright="30000"/>
          </a:blip>
          <a:stretch/>
        </p:blipFill>
        <p:spPr>
          <a:xfrm>
            <a:off x="4495680" y="3200400"/>
            <a:ext cx="1844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228600" y="304920"/>
            <a:ext cx="2209680" cy="2590560"/>
            <a:chOff x="228600" y="304920"/>
            <a:chExt cx="2209680" cy="2590560"/>
          </a:xfrm>
        </p:grpSpPr>
        <p:sp>
          <p:nvSpPr>
            <p:cNvPr id="466" name="Oval 3"/>
            <p:cNvSpPr/>
            <p:nvPr/>
          </p:nvSpPr>
          <p:spPr>
            <a:xfrm rot="1914600">
              <a:off x="37008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"/>
            <p:cNvSpPr/>
            <p:nvPr/>
          </p:nvSpPr>
          <p:spPr>
            <a:xfrm>
              <a:off x="137016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"/>
            <p:cNvSpPr/>
            <p:nvPr/>
          </p:nvSpPr>
          <p:spPr>
            <a:xfrm>
              <a:off x="146916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6" descr="Thumper-1-lg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7"/>
          <p:cNvGrpSpPr/>
          <p:nvPr/>
        </p:nvGrpSpPr>
        <p:grpSpPr>
          <a:xfrm>
            <a:off x="2286000" y="228600"/>
            <a:ext cx="2209680" cy="2590920"/>
            <a:chOff x="2286000" y="228600"/>
            <a:chExt cx="2209680" cy="2590920"/>
          </a:xfrm>
        </p:grpSpPr>
        <p:sp>
          <p:nvSpPr>
            <p:cNvPr id="471" name="Oval 8"/>
            <p:cNvSpPr/>
            <p:nvPr/>
          </p:nvSpPr>
          <p:spPr>
            <a:xfrm rot="1914600">
              <a:off x="2427120" y="1461600"/>
              <a:ext cx="496080" cy="62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"/>
            <p:cNvSpPr/>
            <p:nvPr/>
          </p:nvSpPr>
          <p:spPr>
            <a:xfrm>
              <a:off x="3427560" y="140148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0"/>
            <p:cNvSpPr/>
            <p:nvPr/>
          </p:nvSpPr>
          <p:spPr>
            <a:xfrm>
              <a:off x="3526560" y="375120"/>
              <a:ext cx="446400" cy="53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1" descr="Thumper-1-lg"/>
            <p:cNvPicPr/>
            <p:nvPr/>
          </p:nvPicPr>
          <p:blipFill>
            <a:blip r:embed="rId2"/>
            <a:stretch/>
          </p:blipFill>
          <p:spPr>
            <a:xfrm>
              <a:off x="2286000" y="228600"/>
              <a:ext cx="220968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4495680" y="304920"/>
            <a:ext cx="2210040" cy="2590560"/>
            <a:chOff x="4495680" y="304920"/>
            <a:chExt cx="2210040" cy="2590560"/>
          </a:xfrm>
        </p:grpSpPr>
        <p:sp>
          <p:nvSpPr>
            <p:cNvPr id="476" name="Oval 13"/>
            <p:cNvSpPr/>
            <p:nvPr/>
          </p:nvSpPr>
          <p:spPr>
            <a:xfrm rot="1914600">
              <a:off x="4637160" y="1537920"/>
              <a:ext cx="49644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"/>
            <p:cNvSpPr/>
            <p:nvPr/>
          </p:nvSpPr>
          <p:spPr>
            <a:xfrm>
              <a:off x="563724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5736600" y="451440"/>
              <a:ext cx="44676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Thumper-1-lg"/>
            <p:cNvPicPr/>
            <p:nvPr/>
          </p:nvPicPr>
          <p:blipFill>
            <a:blip r:embed="rId3"/>
            <a:stretch/>
          </p:blipFill>
          <p:spPr>
            <a:xfrm>
              <a:off x="4495680" y="304920"/>
              <a:ext cx="221004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17"/>
          <p:cNvGrpSpPr/>
          <p:nvPr/>
        </p:nvGrpSpPr>
        <p:grpSpPr>
          <a:xfrm>
            <a:off x="6705720" y="304920"/>
            <a:ext cx="2209680" cy="2590560"/>
            <a:chOff x="6705720" y="304920"/>
            <a:chExt cx="2209680" cy="2590560"/>
          </a:xfrm>
        </p:grpSpPr>
        <p:sp>
          <p:nvSpPr>
            <p:cNvPr id="481" name="Oval 18"/>
            <p:cNvSpPr/>
            <p:nvPr/>
          </p:nvSpPr>
          <p:spPr>
            <a:xfrm rot="1914600">
              <a:off x="6847200" y="1537560"/>
              <a:ext cx="496080" cy="62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9"/>
            <p:cNvSpPr/>
            <p:nvPr/>
          </p:nvSpPr>
          <p:spPr>
            <a:xfrm>
              <a:off x="7847280" y="1477800"/>
              <a:ext cx="545760" cy="58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0"/>
            <p:cNvSpPr/>
            <p:nvPr/>
          </p:nvSpPr>
          <p:spPr>
            <a:xfrm>
              <a:off x="7946280" y="451440"/>
              <a:ext cx="446400" cy="53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21" descr="Thumper-1-lg"/>
            <p:cNvPicPr/>
            <p:nvPr/>
          </p:nvPicPr>
          <p:blipFill>
            <a:blip r:embed="rId4"/>
            <a:stretch/>
          </p:blipFill>
          <p:spPr>
            <a:xfrm>
              <a:off x="6705720" y="304920"/>
              <a:ext cx="2209680" cy="25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Group 24"/>
          <p:cNvGrpSpPr/>
          <p:nvPr/>
        </p:nvGrpSpPr>
        <p:grpSpPr>
          <a:xfrm>
            <a:off x="2209680" y="3200400"/>
            <a:ext cx="4130640" cy="2970360"/>
            <a:chOff x="2209680" y="3200400"/>
            <a:chExt cx="4130640" cy="2970360"/>
          </a:xfrm>
        </p:grpSpPr>
        <p:pic>
          <p:nvPicPr>
            <p:cNvPr id="486" name="Picture 22" descr="зайчик 1"/>
            <p:cNvPicPr/>
            <p:nvPr/>
          </p:nvPicPr>
          <p:blipFill>
            <a:blip r:embed="rId5">
              <a:grayscl/>
              <a:lum bright="30000"/>
            </a:blip>
            <a:stretch/>
          </p:blipFill>
          <p:spPr>
            <a:xfrm>
              <a:off x="2209680" y="3276720"/>
              <a:ext cx="1844640" cy="28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3" descr="зайчик 1"/>
            <p:cNvPicPr/>
            <p:nvPr/>
          </p:nvPicPr>
          <p:blipFill>
            <a:blip r:embed="rId6">
              <a:grayscl/>
              <a:lum bright="30000"/>
            </a:blip>
            <a:stretch/>
          </p:blipFill>
          <p:spPr>
            <a:xfrm>
              <a:off x="4495680" y="3200400"/>
              <a:ext cx="1844640" cy="28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WordArt 5"/>
          <p:cNvSpPr txBox="1"/>
          <p:nvPr/>
        </p:nvSpPr>
        <p:spPr>
          <a:xfrm>
            <a:off x="1981080" y="838080"/>
            <a:ext cx="5943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 + 2 =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4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 2 =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шк_доска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533520"/>
            <a:ext cx="6095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че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учи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2" name="WordArt 5"/>
          <p:cNvSpPr txBox="1"/>
          <p:nvPr/>
        </p:nvSpPr>
        <p:spPr>
          <a:xfrm>
            <a:off x="1676520" y="3352680"/>
            <a:ext cx="5715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одно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3" name="WordArt 6"/>
          <p:cNvSpPr txBox="1"/>
          <p:nvPr/>
        </p:nvSpPr>
        <p:spPr>
          <a:xfrm>
            <a:off x="2819520" y="16002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су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  <p:sp>
        <p:nvSpPr>
          <p:cNvPr id="494" name="WordArt 7"/>
          <p:cNvSpPr txBox="1"/>
          <p:nvPr/>
        </p:nvSpPr>
        <p:spPr>
          <a:xfrm>
            <a:off x="1371600" y="51814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4b9e8"/>
                </a:solidFill>
                <a:latin typeface="Arial"/>
              </a:rPr>
              <a:t>другое  слагаем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4b9e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53:29Z</dcterms:created>
  <dc:creator>user</dc:creator>
  <dc:description/>
  <dc:language>en-US</dc:language>
  <cp:lastModifiedBy>Ёля</cp:lastModifiedBy>
  <dcterms:modified xsi:type="dcterms:W3CDTF">2014-05-17T14:34:1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