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DFD-9DA6-4700-A2A9-B9FA2114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A50-A919-4726-ABCE-0C8ECD31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61C-4F09-4BCE-B55E-85D7447B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A29-61E0-4B00-9CAF-82ACC134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A343-C8F4-4C1E-ABF0-A8DD45D8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F5B0-6463-4971-AB87-E90B299B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46A5-6FCB-4379-A9FD-52629B9D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D2CF-422F-4B4C-B93D-CFE83E47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CA7B-6B68-44B6-BB06-2817F7A0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101C-E638-4EEF-8861-99780600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9B1E-0AC8-46DF-A703-C189216B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7BF-D3F1-4726-B9F3-A2825F83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B09D-EFF4-4B17-86DF-53944927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BA0F-4991-4A75-8848-0C3492CF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2748-3285-4CD8-9262-891D73FA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6764-E9FF-49A7-A274-331684E2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D1A2-2DD3-42A8-B40D-92BAA0C4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1135F-FF48-4BA8-B025-D65C33C1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771A0-4BA6-4622-BB9B-52834864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C5C33-531F-405F-AAC4-EDAB161B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D402D-D2A8-448F-ACA8-437EDD6F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3BB45-B836-4CC0-B002-9AAF7925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518-4A9B-49EB-8260-C8596BA4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8D476-BD0E-4476-AE0B-AE61004D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BF9CA-9252-41E9-AE57-AF698515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C5D52-D5A2-493C-B4DC-3B44DA15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24D85-E610-47EA-9A39-E7974FC5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3509-20FA-4613-92B7-BCE3A8F4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B9AF-B5D4-480A-8E82-8FAC3E2B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77EF7-2111-4141-B310-3047352F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A0260-1D8C-4588-8FA0-85241D5A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06751-DF89-4606-94C4-9FDD0DED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958B0-6841-4B5F-A265-F3BE3972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C50-0DB5-47C1-9CFC-FB78781B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2C1E0-7B0A-4921-A06C-8092D7AC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FCF15-5955-4C4B-BAB9-48FC6F11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22222-68E7-4E99-8BEE-DC94E652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BA0B9-5A58-475E-A4E2-F3BB34B8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0B83E-F340-4456-A636-B106A5D1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B74FD-B895-4D61-9118-9D366D37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E6FFB-1687-4809-A471-78C0ABDA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579F8-B780-44A5-80CE-9C1C77CE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05FB7-6A7C-4197-B761-7AA3143D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726A9-54B0-48F3-B227-097C5DE2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340-FE9C-471F-A2E2-003B07BF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F622B-8864-462F-9406-BDE956C5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EB1CC-85E7-47B9-B3E3-B0C3613E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A7F8D-04D1-4349-A87B-21A956E6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10D9E-8E99-4B45-BBCA-658115E2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C3409-7CCC-4B67-8146-AA1813C7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6FD24-1475-44EF-A22E-5526EC57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FC83A-6B15-4667-A985-C2B141CA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18AB5-BE45-4976-A221-84302CAD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21959-8C70-4AE6-A2C6-3C43492D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7B89F-0B16-482A-9192-C58E8F40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580-AE07-4FEF-A69D-966DF0C8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12B83-4432-4AA6-A9F2-EB6E43D1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71A7A-F41F-443C-8476-C2A8F2DB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0812D-D171-4D0E-968D-558D80D9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55258-FF1B-4436-B41D-5B67B16E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B0F6D-8E81-4C53-8D38-AD760D54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85572-1A4C-4A84-9CA3-3248D7C2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791EA-909B-4E9E-8A0E-BB33EA31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33BA0-2BDB-4D6F-AA27-D0865504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A524E-58D2-45F9-986E-16CBE487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7C155-97BC-45DC-B413-C880EBF5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0E7-2547-4316-AB5E-81CCE10D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0FA19-64E9-4290-8DD7-2A8E7B0F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55208-329C-4545-A41D-E1D55C84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247E8-7840-4743-91BE-4A1A85DA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957A91-ED0F-415E-AA5A-44FEECF4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E8250B-0C32-45F6-B85E-4DEA1080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D5ED27-FB58-4F42-A95A-07F6B97F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C02AE9-06B8-40CC-B76B-D775ECBC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763348-A0D5-41CA-8B48-8119CAAD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96B0E7-8E4D-48D2-A48C-417922A8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51099E-DAA8-4547-A5AA-3FC53ABD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296-5350-4E0A-AF34-956CBC20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FC9DB3-F33B-4684-A83B-19790FE9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B2DAB4-65D7-4D7F-9907-D7D625ED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9F44AB-1FC1-4126-A3EE-33E3294A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021F8F-EB2C-41DB-AD13-F085DAEA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55713D-0145-4330-9953-DB3C7084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70E3-080B-475D-9BBE-F8E6D357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6514-3DD3-4D7D-9315-795A3A7D9A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7720" y="547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8640" y="421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8120" y="921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4B48-3370-4A54-AB92-0488BB1A3B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da1f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23D4-CFCC-4679-B620-AEAC214F7D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5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0000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8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68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68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68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458E-5AEE-43DE-BD29-D399C15EFF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235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"/>
            <p:cNvSpPr/>
            <p:nvPr/>
          </p:nvSpPr>
          <p:spPr>
            <a:xfrm>
              <a:off x="0" y="172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7953480" y="17280"/>
              <a:ext cx="1203120" cy="68403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6"/>
            <p:cNvGrpSpPr/>
            <p:nvPr/>
          </p:nvGrpSpPr>
          <p:grpSpPr>
            <a:xfrm>
              <a:off x="7848720" y="-360"/>
              <a:ext cx="1295280" cy="6311160"/>
              <a:chOff x="7848720" y="-360"/>
              <a:chExt cx="1295280" cy="6311160"/>
            </a:xfrm>
          </p:grpSpPr>
          <p:grpSp>
            <p:nvGrpSpPr>
              <p:cNvPr id="239" name="Group 7"/>
              <p:cNvGrpSpPr/>
              <p:nvPr/>
            </p:nvGrpSpPr>
            <p:grpSpPr>
              <a:xfrm>
                <a:off x="8381880" y="-360"/>
                <a:ext cx="762120" cy="2283120"/>
                <a:chOff x="8381880" y="-360"/>
                <a:chExt cx="762120" cy="2283120"/>
              </a:xfrm>
            </p:grpSpPr>
            <p:grpSp>
              <p:nvGrpSpPr>
                <p:cNvPr id="240" name="Group 8"/>
                <p:cNvGrpSpPr/>
                <p:nvPr/>
              </p:nvGrpSpPr>
              <p:grpSpPr>
                <a:xfrm>
                  <a:off x="8723160" y="-360"/>
                  <a:ext cx="279720" cy="275400"/>
                  <a:chOff x="8723160" y="-360"/>
                  <a:chExt cx="279720" cy="275400"/>
                </a:xfrm>
              </p:grpSpPr>
              <p:grpSp>
                <p:nvGrpSpPr>
                  <p:cNvPr id="241" name="Group 9"/>
                  <p:cNvGrpSpPr/>
                  <p:nvPr/>
                </p:nvGrpSpPr>
                <p:grpSpPr>
                  <a:xfrm>
                    <a:off x="8723160" y="-360"/>
                    <a:ext cx="279720" cy="275400"/>
                    <a:chOff x="8723160" y="-360"/>
                    <a:chExt cx="279720" cy="275400"/>
                  </a:xfrm>
                </p:grpSpPr>
                <p:sp>
                  <p:nvSpPr>
                    <p:cNvPr id="242" name="Freeform 10"/>
                    <p:cNvSpPr/>
                    <p:nvPr/>
                  </p:nvSpPr>
                  <p:spPr>
                    <a:xfrm rot="16200000">
                      <a:off x="8762400" y="-39600"/>
                      <a:ext cx="201240" cy="27972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720"/>
                        <a:gd name="textAreaBottom" fmla="*/ 280080 h 2797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Freeform 11"/>
                    <p:cNvSpPr/>
                    <p:nvPr/>
                  </p:nvSpPr>
                  <p:spPr>
                    <a:xfrm rot="16200000">
                      <a:off x="8771760" y="91800"/>
                      <a:ext cx="140760" cy="22572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4" name="Oval 12"/>
                  <p:cNvSpPr/>
                  <p:nvPr/>
                </p:nvSpPr>
                <p:spPr>
                  <a:xfrm rot="16200000">
                    <a:off x="8843040" y="144360"/>
                    <a:ext cx="2844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13"/>
                  <p:cNvSpPr/>
                  <p:nvPr/>
                </p:nvSpPr>
                <p:spPr>
                  <a:xfrm rot="16200000">
                    <a:off x="8776440" y="6984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4"/>
                  <p:cNvSpPr/>
                  <p:nvPr/>
                </p:nvSpPr>
                <p:spPr>
                  <a:xfrm rot="16200000">
                    <a:off x="8848080" y="57240"/>
                    <a:ext cx="64800" cy="3816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5"/>
                  <p:cNvSpPr/>
                  <p:nvPr/>
                </p:nvSpPr>
                <p:spPr>
                  <a:xfrm rot="16200000">
                    <a:off x="8917200" y="1072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6"/>
                  <p:cNvSpPr/>
                  <p:nvPr/>
                </p:nvSpPr>
                <p:spPr>
                  <a:xfrm rot="16200000">
                    <a:off x="8843040" y="205920"/>
                    <a:ext cx="63360" cy="270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7"/>
                  <p:cNvSpPr/>
                  <p:nvPr/>
                </p:nvSpPr>
                <p:spPr>
                  <a:xfrm rot="16200000">
                    <a:off x="8791200" y="18180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5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5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9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3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3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3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3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8" name="Group 26"/>
              <p:cNvGrpSpPr/>
              <p:nvPr/>
            </p:nvGrpSpPr>
            <p:grpSpPr>
              <a:xfrm>
                <a:off x="7848720" y="1613520"/>
                <a:ext cx="828720" cy="4697280"/>
                <a:chOff x="7848720" y="1613520"/>
                <a:chExt cx="828720" cy="4697280"/>
              </a:xfrm>
            </p:grpSpPr>
            <p:pic>
              <p:nvPicPr>
                <p:cNvPr id="25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3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7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5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3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5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94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5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14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3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3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1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1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9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1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1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29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90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8" name="Freeform 46"/>
            <p:cNvSpPr/>
            <p:nvPr/>
          </p:nvSpPr>
          <p:spPr>
            <a:xfrm>
              <a:off x="7953480" y="4913280"/>
              <a:ext cx="1190520" cy="19350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5000"/>
                <a:gd name="textAreaBottom" fmla="*/ 1935360 h 19350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7"/>
            <p:cNvSpPr/>
            <p:nvPr/>
          </p:nvSpPr>
          <p:spPr>
            <a:xfrm>
              <a:off x="7939080" y="4862880"/>
              <a:ext cx="1219320" cy="19947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4760"/>
                <a:gd name="textAreaBottom" fmla="*/ 1995120 h 19947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8"/>
            <p:cNvSpPr/>
            <p:nvPr/>
          </p:nvSpPr>
          <p:spPr>
            <a:xfrm>
              <a:off x="7927920" y="2827800"/>
              <a:ext cx="1231920" cy="402660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26600"/>
                <a:gd name="textAreaBottom" fmla="*/ 4026960 h 40266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9"/>
            <p:cNvSpPr/>
            <p:nvPr/>
          </p:nvSpPr>
          <p:spPr>
            <a:xfrm>
              <a:off x="8010360" y="3546720"/>
              <a:ext cx="979560" cy="217872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78720"/>
                <a:gd name="textAreaBottom" fmla="*/ 2179080 h 217872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0"/>
            <p:cNvSpPr/>
            <p:nvPr/>
          </p:nvSpPr>
          <p:spPr>
            <a:xfrm>
              <a:off x="8244000" y="443160"/>
              <a:ext cx="914400" cy="503532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35320"/>
                <a:gd name="textAreaBottom" fmla="*/ 5035320 h 503532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1"/>
            <p:cNvSpPr/>
            <p:nvPr/>
          </p:nvSpPr>
          <p:spPr>
            <a:xfrm>
              <a:off x="8250120" y="279000"/>
              <a:ext cx="909720" cy="30636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3600"/>
                <a:gd name="textAreaBottom" fmla="*/ 3063960 h 30636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2"/>
            <p:cNvSpPr/>
            <p:nvPr/>
          </p:nvSpPr>
          <p:spPr>
            <a:xfrm>
              <a:off x="7943760" y="17280"/>
              <a:ext cx="576360" cy="334404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4040"/>
                <a:gd name="textAreaBottom" fmla="*/ 3344400 h 3344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53"/>
            <p:cNvSpPr/>
            <p:nvPr/>
          </p:nvSpPr>
          <p:spPr>
            <a:xfrm>
              <a:off x="7943760" y="18720"/>
              <a:ext cx="300240" cy="334440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4400"/>
                <a:gd name="textAreaBottom" fmla="*/ 3344760 h 33444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4"/>
            <p:cNvSpPr/>
            <p:nvPr/>
          </p:nvSpPr>
          <p:spPr>
            <a:xfrm>
              <a:off x="7866000" y="18720"/>
              <a:ext cx="88920" cy="68403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55"/>
            <p:cNvSpPr/>
            <p:nvPr/>
          </p:nvSpPr>
          <p:spPr>
            <a:xfrm>
              <a:off x="7958160" y="6230880"/>
              <a:ext cx="1165320" cy="6174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56"/>
            <p:cNvSpPr/>
            <p:nvPr/>
          </p:nvSpPr>
          <p:spPr>
            <a:xfrm rot="5400000">
              <a:off x="4332960" y="3324600"/>
              <a:ext cx="6840360" cy="225360"/>
            </a:xfrm>
            <a:custGeom>
              <a:avLst/>
              <a:gdLst>
                <a:gd name="textAreaLeft" fmla="*/ 666360 w 6840360"/>
                <a:gd name="textAreaRight" fmla="*/ 6174000 w 68403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9D0F-1182-4953-9DB0-A4043A22B0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da1f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3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B636-E579-40F2-B259-0CD521F798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d4d4d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0000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8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68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68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68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19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0F61-D176-4971-B092-8BCCAA4A20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dt" idx="2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4.xml"/><Relationship Id="rId9" Type="http://schemas.openxmlformats.org/officeDocument/2006/relationships/slide" Target="slide35.xml"/><Relationship Id="rId10" Type="http://schemas.openxmlformats.org/officeDocument/2006/relationships/slide" Target="slide36.xml"/><Relationship Id="rId11" Type="http://schemas.openxmlformats.org/officeDocument/2006/relationships/slide" Target="slide37.xml"/><Relationship Id="rId12" Type="http://schemas.openxmlformats.org/officeDocument/2006/relationships/slide" Target="slide38.xml"/><Relationship Id="rId13" Type="http://schemas.openxmlformats.org/officeDocument/2006/relationships/slide" Target="slide39.xml"/><Relationship Id="rId14" Type="http://schemas.openxmlformats.org/officeDocument/2006/relationships/slide" Target="slide40.xml"/><Relationship Id="rId15" Type="http://schemas.openxmlformats.org/officeDocument/2006/relationships/slide" Target="slide41.xml"/><Relationship Id="rId16" Type="http://schemas.openxmlformats.org/officeDocument/2006/relationships/slide" Target="slide42.xml"/><Relationship Id="rId17" Type="http://schemas.openxmlformats.org/officeDocument/2006/relationships/slide" Target="slide43.xml"/><Relationship Id="rId18" Type="http://schemas.openxmlformats.org/officeDocument/2006/relationships/slide" Target="slide44.xml"/><Relationship Id="rId19" Type="http://schemas.openxmlformats.org/officeDocument/2006/relationships/slide" Target="slide45.xml"/><Relationship Id="rId20" Type="http://schemas.openxmlformats.org/officeDocument/2006/relationships/slide" Target="slide46.xml"/><Relationship Id="rId21" Type="http://schemas.openxmlformats.org/officeDocument/2006/relationships/slide" Target="slide47.xml"/><Relationship Id="rId22" Type="http://schemas.openxmlformats.org/officeDocument/2006/relationships/slide" Target="slide48.xml"/><Relationship Id="rId23" Type="http://schemas.openxmlformats.org/officeDocument/2006/relationships/slide" Target="slide49.xml"/><Relationship Id="rId24" Type="http://schemas.openxmlformats.org/officeDocument/2006/relationships/slide" Target="slide50.xml"/><Relationship Id="rId25" Type="http://schemas.openxmlformats.org/officeDocument/2006/relationships/slide" Target="slide30.xml"/><Relationship Id="rId2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00120" y="1856880"/>
            <a:ext cx="7088400" cy="2592360"/>
          </a:xfrm>
          <a:prstGeom prst="rect">
            <a:avLst/>
          </a:prstGeom>
          <a:solidFill>
            <a:srgbClr val="9a3130"/>
          </a:solidFill>
          <a:ln w="93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Игра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«Счастливый случай»</a:t>
            </a:r>
            <a:endParaRPr b="0" lang="en-US" sz="48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"/>
          <p:cNvSpPr/>
          <p:nvPr/>
        </p:nvSpPr>
        <p:spPr>
          <a:xfrm>
            <a:off x="785880" y="179280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совсем наоборот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глощаем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857160" y="1498680"/>
            <a:ext cx="7572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торяем вновь и вновь: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слород разносит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857160" y="1156680"/>
            <a:ext cx="750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е мы дышим легкими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 ей немножко тоже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ш теплорегулятор..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 чем здесь речь? О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рямоугольник 1"/>
          <p:cNvSpPr/>
          <p:nvPr/>
        </p:nvSpPr>
        <p:spPr>
          <a:xfrm>
            <a:off x="857160" y="178596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ща попадает в рот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лотка, дальше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"/>
          <p:cNvSpPr/>
          <p:nvPr/>
        </p:nvSpPr>
        <p:spPr>
          <a:xfrm>
            <a:off x="857160" y="186408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п, микробы! Хода нет!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меня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857160" y="1799640"/>
            <a:ext cx="750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а и нам ребята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д i расставить точки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системе выделения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жнейший орган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857160" y="1875600"/>
            <a:ext cx="7572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му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он опора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 его страшнее нет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в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«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жастиках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»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стречается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оугольник 1"/>
          <p:cNvSpPr/>
          <p:nvPr/>
        </p:nvSpPr>
        <p:spPr>
          <a:xfrm>
            <a:off x="857160" y="1857240"/>
            <a:ext cx="7500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твердая походка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в тетради пишешь четко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кто нам так помог?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работой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Конкурс №2</a:t>
            </a:r>
            <a:br>
              <a:rPr sz="6600"/>
            </a:br>
            <a:br>
              <a:rPr sz="6600"/>
            </a:br>
            <a:r>
              <a:rPr b="1" lang="ru-RU" sz="5400" spc="-1" strike="noStrike">
                <a:solidFill>
                  <a:srgbClr val="00b0f0"/>
                </a:solidFill>
                <a:latin typeface="Tahoma"/>
              </a:rPr>
              <a:t>«Четвертый лишний»</a:t>
            </a:r>
            <a:br>
              <a:rPr sz="6600"/>
            </a:br>
            <a:endParaRPr b="1" lang="en-US" sz="5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2"/>
          <p:cNvSpPr/>
          <p:nvPr/>
        </p:nvSpPr>
        <p:spPr>
          <a:xfrm>
            <a:off x="714240" y="714240"/>
            <a:ext cx="750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ть заданий заключается в том, что среди четырех слов или словосочетаний «спрятано» одно лишнее по смыслу. Нужно его найти и объяснить, почему оно лишнее. Из первых букв «лишних» слов складывается новое, которое тоже нужно объясни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1571400" y="2928960"/>
            <a:ext cx="6715080" cy="128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b">
            <a:normAutofit fontScale="48000"/>
          </a:bodyPr>
          <a:p>
            <a:pPr marL="292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23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3130"/>
                </a:solidFill>
                <a:latin typeface="Times New Roman"/>
              </a:rPr>
              <a:t>Организм челове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923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WordArt 4"/>
          <p:cNvSpPr txBox="1"/>
          <p:nvPr/>
        </p:nvSpPr>
        <p:spPr>
          <a:xfrm>
            <a:off x="2124000" y="206064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4286160" y="214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, что мы знаем, – ограниченно,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что не знаем, – бесконе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у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3"/>
          <p:cNvSpPr/>
          <p:nvPr/>
        </p:nvSpPr>
        <p:spPr>
          <a:xfrm>
            <a:off x="142920" y="857160"/>
            <a:ext cx="32148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оперечнополоса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лад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ос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ерде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«ТКАНИ»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2928960" y="2000160"/>
            <a:ext cx="32148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Хряще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Жи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Ресн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5643720" y="3357720"/>
            <a:ext cx="321444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п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к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ей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енд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928960" y="4714920"/>
            <a:ext cx="32148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о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Волокн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ише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Выстил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1857240" y="6215040"/>
            <a:ext cx="1276560" cy="398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3"/>
          <p:cNvSpPr/>
          <p:nvPr/>
        </p:nvSpPr>
        <p:spPr>
          <a:xfrm>
            <a:off x="142920" y="857160"/>
            <a:ext cx="200016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рах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Эпидерм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о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«Системы органов»»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2000160" y="1071720"/>
            <a:ext cx="200052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Ре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оп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к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рест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3857760" y="1285920"/>
            <a:ext cx="22860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ипоф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ег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ипотала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адпоче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6000840" y="1571760"/>
            <a:ext cx="200016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р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льве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ртери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785880" y="3357720"/>
            <a:ext cx="27144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ище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Мочевой пуз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ише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Желу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286080" y="4000680"/>
            <a:ext cx="200016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Ух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Эритроц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р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ромбоц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5143680" y="4572000"/>
            <a:ext cx="257148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енд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ина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емен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Конкурс № 3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b0f0"/>
                </a:solidFill>
                <a:latin typeface="Tahoma"/>
              </a:rPr>
              <a:t>РЕБУС</a:t>
            </a:r>
            <a:br>
              <a:rPr sz="6600"/>
            </a:br>
            <a:endParaRPr b="1" lang="en-US" sz="66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Рисунок 1" descr="ребусы по биологии"/>
          <p:cNvPicPr/>
          <p:nvPr/>
        </p:nvPicPr>
        <p:blipFill>
          <a:blip r:embed="rId1"/>
          <a:stretch/>
        </p:blipFill>
        <p:spPr>
          <a:xfrm>
            <a:off x="571680" y="928800"/>
            <a:ext cx="80010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ОТВЕТ: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b0f0"/>
                </a:solidFill>
                <a:latin typeface="Tahoma"/>
              </a:rPr>
              <a:t>ОРГАНИЗМ</a:t>
            </a:r>
            <a:br>
              <a:rPr sz="6600"/>
            </a:br>
            <a:endParaRPr b="1" lang="en-US" sz="66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 Black"/>
              </a:rPr>
              <a:t>Конкурс № 4</a:t>
            </a:r>
            <a:br>
              <a:rPr sz="6000"/>
            </a:br>
            <a:r>
              <a:rPr b="1" lang="ru-RU" sz="6000" spc="-1" strike="noStrike">
                <a:solidFill>
                  <a:srgbClr val="00b0f0"/>
                </a:solidFill>
                <a:latin typeface="Arial Black"/>
              </a:rPr>
              <a:t>«Один за всех – все за одного»</a:t>
            </a:r>
            <a:br>
              <a:rPr sz="32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Красный</a:t>
            </a:r>
            <a:r>
              <a:rPr b="1" lang="ru-RU" sz="3600" spc="-1" strike="noStrike">
                <a:solidFill>
                  <a:srgbClr val="def5fa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– 3 балла;</a:t>
            </a:r>
            <a:br>
              <a:rPr sz="3600"/>
            </a:br>
            <a:r>
              <a:rPr b="1" lang="ru-RU" sz="3600" spc="-1" strike="noStrike">
                <a:solidFill>
                  <a:srgbClr val="0066ff"/>
                </a:solidFill>
                <a:latin typeface="Arial Black"/>
              </a:rPr>
              <a:t>Синий</a:t>
            </a:r>
            <a:r>
              <a:rPr b="1" lang="ru-RU" sz="3600" spc="-1" strike="noStrike">
                <a:solidFill>
                  <a:srgbClr val="def5fa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– 2 балла;</a:t>
            </a:r>
            <a:br>
              <a:rPr sz="3600"/>
            </a:br>
            <a:r>
              <a:rPr b="1" lang="ru-RU" sz="3600" spc="-1" strike="noStrike">
                <a:solidFill>
                  <a:srgbClr val="33cc33"/>
                </a:solidFill>
                <a:latin typeface="Arial Black"/>
              </a:rPr>
              <a:t>Зеленый</a:t>
            </a:r>
            <a:r>
              <a:rPr b="1" lang="ru-RU" sz="3600" spc="-1" strike="noStrike">
                <a:solidFill>
                  <a:srgbClr val="def5fa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– 1 балл.</a:t>
            </a:r>
            <a:endParaRPr b="1" lang="en-US" sz="3600" spc="-1" strike="noStrike">
              <a:solidFill>
                <a:srgbClr val="def5f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72" name="AutoShape 90">
            <a:hlinkClick r:id="rId25" action="ppaction://hlinksldjump"/>
          </p:cNvPr>
          <p:cNvSpPr/>
          <p:nvPr/>
        </p:nvSpPr>
        <p:spPr>
          <a:xfrm>
            <a:off x="3708360" y="2781360"/>
            <a:ext cx="1727280" cy="1295280"/>
          </a:xfrm>
          <a:custGeom>
            <a:avLst/>
            <a:gdLst>
              <a:gd name="textAreaLeft" fmla="*/ 83880 w 1727280"/>
              <a:gd name="textAreaRight" fmla="*/ 1643400 w 1727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74" name="AutoShape 40"/>
          <p:cNvSpPr/>
          <p:nvPr/>
        </p:nvSpPr>
        <p:spPr>
          <a:xfrm>
            <a:off x="2714760" y="2428920"/>
            <a:ext cx="3929040" cy="3016080"/>
          </a:xfrm>
          <a:prstGeom prst="cloudCallout">
            <a:avLst>
              <a:gd name="adj1" fmla="val -75763"/>
              <a:gd name="adj2" fmla="val -89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ём этой жидкости в организме примерно 5 ли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3">
            <a:hlinkClick r:id="rId1" action="ppaction://hlinksldjump"/>
          </p:cNvPr>
          <p:cNvSpPr/>
          <p:nvPr/>
        </p:nvSpPr>
        <p:spPr>
          <a:xfrm>
            <a:off x="2195640" y="5286240"/>
            <a:ext cx="1162080" cy="2552760"/>
          </a:xfrm>
          <a:custGeom>
            <a:avLst/>
            <a:gdLst>
              <a:gd name="textAreaLeft" fmla="*/ 75240 w 1162080"/>
              <a:gd name="textAreaRight" fmla="*/ 1086840 w 1162080"/>
              <a:gd name="textAreaTop" fmla="*/ 75240 h 2552760"/>
              <a:gd name="textAreaBottom" fmla="*/ 2477520 h 2552760"/>
            </a:gdLst>
            <a:ahLst/>
            <a:rect l="textAreaLeft" t="textAreaTop" r="textAreaRight" b="textAreaBottom"/>
            <a:pathLst>
              <a:path w="21600" h="47441">
                <a:moveTo>
                  <a:pt x="0" y="0"/>
                </a:moveTo>
                <a:lnTo>
                  <a:pt x="21600" y="0"/>
                </a:lnTo>
                <a:lnTo>
                  <a:pt x="21600" y="47441"/>
                </a:lnTo>
                <a:lnTo>
                  <a:pt x="0" y="47441"/>
                </a:lnTo>
                <a:close/>
              </a:path>
              <a:path fill="lightenLess" w="21600" h="474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441">
                <a:moveTo>
                  <a:pt x="21600" y="0"/>
                </a:moveTo>
                <a:lnTo>
                  <a:pt x="21600" y="47441"/>
                </a:lnTo>
                <a:lnTo>
                  <a:pt x="20200" y="46041"/>
                </a:lnTo>
                <a:lnTo>
                  <a:pt x="20200" y="1400"/>
                </a:lnTo>
                <a:close/>
              </a:path>
              <a:path fill="darkenLess" w="21600" h="47441">
                <a:moveTo>
                  <a:pt x="21600" y="47441"/>
                </a:moveTo>
                <a:lnTo>
                  <a:pt x="0" y="47441"/>
                </a:lnTo>
                <a:lnTo>
                  <a:pt x="1400" y="46041"/>
                </a:lnTo>
                <a:lnTo>
                  <a:pt x="20200" y="46041"/>
                </a:lnTo>
                <a:close/>
              </a:path>
              <a:path fill="lighten" w="21600" h="47441">
                <a:moveTo>
                  <a:pt x="0" y="47441"/>
                </a:moveTo>
                <a:lnTo>
                  <a:pt x="0" y="0"/>
                </a:lnTo>
                <a:lnTo>
                  <a:pt x="1400" y="1400"/>
                </a:lnTo>
                <a:lnTo>
                  <a:pt x="1400" y="460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1">
            <a:hlinkClick r:id="rId2" action="ppaction://hlinksldjump"/>
          </p:cNvPr>
          <p:cNvSpPr/>
          <p:nvPr/>
        </p:nvSpPr>
        <p:spPr>
          <a:xfrm>
            <a:off x="214200" y="214200"/>
            <a:ext cx="8715600" cy="6643800"/>
          </a:xfrm>
          <a:custGeom>
            <a:avLst/>
            <a:gdLst>
              <a:gd name="textAreaLeft" fmla="*/ 430560 w 8715600"/>
              <a:gd name="textAreaRight" fmla="*/ 8285040 w 8715600"/>
              <a:gd name="textAreaTop" fmla="*/ 430560 h 6643800"/>
              <a:gd name="textAreaBottom" fmla="*/ 6213240 h 6643800"/>
            </a:gdLst>
            <a:ahLst/>
            <a:rect l="textAreaLeft" t="textAreaTop" r="textAreaRight" b="textAreaBottom"/>
            <a:pathLst>
              <a:path w="28335" h="21600">
                <a:moveTo>
                  <a:pt x="0" y="0"/>
                </a:moveTo>
                <a:lnTo>
                  <a:pt x="28335" y="0"/>
                </a:lnTo>
                <a:lnTo>
                  <a:pt x="28335" y="21600"/>
                </a:lnTo>
                <a:lnTo>
                  <a:pt x="0" y="21600"/>
                </a:lnTo>
                <a:close/>
              </a:path>
              <a:path fill="lightenLess" w="28335" h="21600">
                <a:moveTo>
                  <a:pt x="0" y="0"/>
                </a:moveTo>
                <a:lnTo>
                  <a:pt x="28335" y="0"/>
                </a:lnTo>
                <a:lnTo>
                  <a:pt x="26935" y="1400"/>
                </a:lnTo>
                <a:lnTo>
                  <a:pt x="1400" y="1400"/>
                </a:lnTo>
                <a:close/>
              </a:path>
              <a:path fill="darken" w="28335" h="21600">
                <a:moveTo>
                  <a:pt x="28335" y="0"/>
                </a:moveTo>
                <a:lnTo>
                  <a:pt x="28335" y="21600"/>
                </a:lnTo>
                <a:lnTo>
                  <a:pt x="26935" y="20200"/>
                </a:lnTo>
                <a:lnTo>
                  <a:pt x="26935" y="1400"/>
                </a:lnTo>
                <a:close/>
              </a:path>
              <a:path fill="darkenLess" w="28335" h="21600">
                <a:moveTo>
                  <a:pt x="28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5" y="20200"/>
                </a:lnTo>
                <a:close/>
              </a:path>
              <a:path fill="lighten" w="28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78" name="AutoShape 40"/>
          <p:cNvSpPr/>
          <p:nvPr/>
        </p:nvSpPr>
        <p:spPr>
          <a:xfrm>
            <a:off x="3348000" y="2565360"/>
            <a:ext cx="4438800" cy="3363840"/>
          </a:xfrm>
          <a:prstGeom prst="cloudCallout">
            <a:avLst>
              <a:gd name="adj1" fmla="val -48064"/>
              <a:gd name="adj2" fmla="val -88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Ежесуточно в организме взрослого человека образуется около 20 литров этой жидко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41">
            <a:hlinkClick r:id="rId1" action="ppaction://hlinksldjump"/>
          </p:cNvPr>
          <p:cNvSpPr/>
          <p:nvPr/>
        </p:nvSpPr>
        <p:spPr>
          <a:xfrm>
            <a:off x="214200" y="214200"/>
            <a:ext cx="8786880" cy="6643800"/>
          </a:xfrm>
          <a:custGeom>
            <a:avLst/>
            <a:gdLst>
              <a:gd name="textAreaLeft" fmla="*/ 430560 w 8786880"/>
              <a:gd name="textAreaRight" fmla="*/ 8356320 w 8786880"/>
              <a:gd name="textAreaTop" fmla="*/ 430560 h 6643800"/>
              <a:gd name="textAreaBottom" fmla="*/ 6213240 h 6643800"/>
            </a:gdLst>
            <a:ahLst/>
            <a:rect l="textAreaLeft" t="textAreaTop" r="textAreaRight" b="textAreaBottom"/>
            <a:pathLst>
              <a:path w="28567" h="21600">
                <a:moveTo>
                  <a:pt x="0" y="0"/>
                </a:moveTo>
                <a:lnTo>
                  <a:pt x="28567" y="0"/>
                </a:lnTo>
                <a:lnTo>
                  <a:pt x="28567" y="21600"/>
                </a:lnTo>
                <a:lnTo>
                  <a:pt x="0" y="21600"/>
                </a:lnTo>
                <a:close/>
              </a:path>
              <a:path fill="lightenLess" w="28567" h="21600">
                <a:moveTo>
                  <a:pt x="0" y="0"/>
                </a:moveTo>
                <a:lnTo>
                  <a:pt x="28567" y="0"/>
                </a:lnTo>
                <a:lnTo>
                  <a:pt x="27167" y="1400"/>
                </a:lnTo>
                <a:lnTo>
                  <a:pt x="1400" y="1400"/>
                </a:lnTo>
                <a:close/>
              </a:path>
              <a:path fill="darken" w="28567" h="21600">
                <a:moveTo>
                  <a:pt x="28567" y="0"/>
                </a:moveTo>
                <a:lnTo>
                  <a:pt x="28567" y="21600"/>
                </a:lnTo>
                <a:lnTo>
                  <a:pt x="27167" y="20200"/>
                </a:lnTo>
                <a:lnTo>
                  <a:pt x="27167" y="1400"/>
                </a:lnTo>
                <a:close/>
              </a:path>
              <a:path fill="darkenLess" w="28567" h="21600">
                <a:moveTo>
                  <a:pt x="285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67" y="20200"/>
                </a:lnTo>
                <a:close/>
              </a:path>
              <a:path fill="lighten" w="285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81" name="AutoShape 40"/>
          <p:cNvSpPr/>
          <p:nvPr/>
        </p:nvSpPr>
        <p:spPr>
          <a:xfrm>
            <a:off x="3286080" y="2714760"/>
            <a:ext cx="4786200" cy="3786120"/>
          </a:xfrm>
          <a:prstGeom prst="cloudCallout">
            <a:avLst>
              <a:gd name="adj1" fmla="val -36143"/>
              <a:gd name="adj2" fmla="val -8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, дающий кровь для переливания или ткани и органы для пересадки другому ли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1">
            <a:hlinkClick r:id="rId1" action="ppaction://hlinksldjump"/>
          </p:cNvPr>
          <p:cNvSpPr/>
          <p:nvPr/>
        </p:nvSpPr>
        <p:spPr>
          <a:xfrm>
            <a:off x="0" y="214200"/>
            <a:ext cx="8929800" cy="6643800"/>
          </a:xfrm>
          <a:custGeom>
            <a:avLst/>
            <a:gdLst>
              <a:gd name="textAreaLeft" fmla="*/ 430560 w 8929800"/>
              <a:gd name="textAreaRight" fmla="*/ 8499240 w 8929800"/>
              <a:gd name="textAreaTop" fmla="*/ 430560 h 6643800"/>
              <a:gd name="textAreaBottom" fmla="*/ 6213240 h 6643800"/>
            </a:gdLst>
            <a:ahLst/>
            <a:rect l="textAreaLeft" t="textAreaTop" r="textAreaRight" b="textAreaBottom"/>
            <a:pathLst>
              <a:path w="29032" h="21600">
                <a:moveTo>
                  <a:pt x="0" y="0"/>
                </a:moveTo>
                <a:lnTo>
                  <a:pt x="29032" y="0"/>
                </a:lnTo>
                <a:lnTo>
                  <a:pt x="29032" y="21600"/>
                </a:lnTo>
                <a:lnTo>
                  <a:pt x="0" y="21600"/>
                </a:lnTo>
                <a:close/>
              </a:path>
              <a:path fill="lightenLess" w="29032" h="21600">
                <a:moveTo>
                  <a:pt x="0" y="0"/>
                </a:moveTo>
                <a:lnTo>
                  <a:pt x="29032" y="0"/>
                </a:lnTo>
                <a:lnTo>
                  <a:pt x="27632" y="1400"/>
                </a:lnTo>
                <a:lnTo>
                  <a:pt x="1400" y="1400"/>
                </a:lnTo>
                <a:close/>
              </a:path>
              <a:path fill="darken" w="29032" h="21600">
                <a:moveTo>
                  <a:pt x="29032" y="0"/>
                </a:moveTo>
                <a:lnTo>
                  <a:pt x="29032" y="21600"/>
                </a:lnTo>
                <a:lnTo>
                  <a:pt x="27632" y="20200"/>
                </a:lnTo>
                <a:lnTo>
                  <a:pt x="27632" y="1400"/>
                </a:lnTo>
                <a:close/>
              </a:path>
              <a:path fill="darkenLess" w="29032" h="21600">
                <a:moveTo>
                  <a:pt x="29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32" y="20200"/>
                </a:lnTo>
                <a:close/>
              </a:path>
              <a:path fill="lighten" w="29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Конкурс №1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b0f0"/>
                </a:solidFill>
                <a:latin typeface="Tahoma"/>
              </a:rPr>
              <a:t>ЗАГАДКИ</a:t>
            </a:r>
            <a:br>
              <a:rPr sz="6600"/>
            </a:br>
            <a:endParaRPr b="1" lang="en-US" sz="66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84" name="AutoShape 40"/>
          <p:cNvSpPr/>
          <p:nvPr/>
        </p:nvSpPr>
        <p:spPr>
          <a:xfrm>
            <a:off x="2786040" y="2643120"/>
            <a:ext cx="5072040" cy="4071960"/>
          </a:xfrm>
          <a:prstGeom prst="cloudCallout">
            <a:avLst>
              <a:gd name="adj1" fmla="val 7541"/>
              <a:gd name="adj2" fmla="val -83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ие в организм сыворотки заражённых животных или переболевшего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41">
            <a:hlinkClick r:id="rId1" action="ppaction://hlinksldjump"/>
          </p:cNvPr>
          <p:cNvSpPr/>
          <p:nvPr/>
        </p:nvSpPr>
        <p:spPr>
          <a:xfrm>
            <a:off x="214200" y="214200"/>
            <a:ext cx="8715600" cy="6429600"/>
          </a:xfrm>
          <a:custGeom>
            <a:avLst/>
            <a:gdLst>
              <a:gd name="textAreaLeft" fmla="*/ 416520 w 8715600"/>
              <a:gd name="textAreaRight" fmla="*/ 8299080 w 8715600"/>
              <a:gd name="textAreaTop" fmla="*/ 416520 h 6429600"/>
              <a:gd name="textAreaBottom" fmla="*/ 6013080 h 64296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6" name=""/>
          <p:cNvGraphicFramePr/>
          <p:nvPr/>
        </p:nvGraphicFramePr>
        <p:xfrm>
          <a:off x="250920" y="189000"/>
          <a:ext cx="8534160" cy="645624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87" name="AutoShape 40"/>
          <p:cNvSpPr/>
          <p:nvPr/>
        </p:nvSpPr>
        <p:spPr>
          <a:xfrm>
            <a:off x="3348000" y="3213000"/>
            <a:ext cx="4248360" cy="2737080"/>
          </a:xfrm>
          <a:prstGeom prst="cloudCallout">
            <a:avLst>
              <a:gd name="adj1" fmla="val 56055"/>
              <a:gd name="adj2" fmla="val -118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уды, по которым кровь движется от серд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41">
            <a:hlinkClick r:id="rId1" action="ppaction://hlinksldjump"/>
          </p:cNvPr>
          <p:cNvSpPr/>
          <p:nvPr/>
        </p:nvSpPr>
        <p:spPr>
          <a:xfrm rot="21478800">
            <a:off x="401760" y="64800"/>
            <a:ext cx="8340480" cy="6727680"/>
          </a:xfrm>
          <a:custGeom>
            <a:avLst/>
            <a:gdLst>
              <a:gd name="textAreaLeft" fmla="*/ 435960 w 8340480"/>
              <a:gd name="textAreaRight" fmla="*/ 7904520 w 8340480"/>
              <a:gd name="textAreaTop" fmla="*/ 435960 h 6727680"/>
              <a:gd name="textAreaBottom" fmla="*/ 6291720 h 6727680"/>
            </a:gdLst>
            <a:ahLst/>
            <a:rect l="textAreaLeft" t="textAreaTop" r="textAreaRight" b="textAreaBottom"/>
            <a:pathLst>
              <a:path w="26778" h="21600">
                <a:moveTo>
                  <a:pt x="0" y="0"/>
                </a:moveTo>
                <a:lnTo>
                  <a:pt x="26778" y="0"/>
                </a:lnTo>
                <a:lnTo>
                  <a:pt x="26778" y="21600"/>
                </a:lnTo>
                <a:lnTo>
                  <a:pt x="0" y="21600"/>
                </a:lnTo>
                <a:close/>
              </a:path>
              <a:path fill="lightenLess" w="26778" h="21600">
                <a:moveTo>
                  <a:pt x="0" y="0"/>
                </a:moveTo>
                <a:lnTo>
                  <a:pt x="26778" y="0"/>
                </a:lnTo>
                <a:lnTo>
                  <a:pt x="25378" y="1400"/>
                </a:lnTo>
                <a:lnTo>
                  <a:pt x="1400" y="1400"/>
                </a:lnTo>
                <a:close/>
              </a:path>
              <a:path fill="darken" w="26778" h="21600">
                <a:moveTo>
                  <a:pt x="26778" y="0"/>
                </a:moveTo>
                <a:lnTo>
                  <a:pt x="26778" y="21600"/>
                </a:lnTo>
                <a:lnTo>
                  <a:pt x="25378" y="20200"/>
                </a:lnTo>
                <a:lnTo>
                  <a:pt x="25378" y="1400"/>
                </a:lnTo>
                <a:close/>
              </a:path>
              <a:path fill="darkenLess" w="26778" h="21600">
                <a:moveTo>
                  <a:pt x="267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78" y="20200"/>
                </a:lnTo>
                <a:close/>
              </a:path>
              <a:path fill="lighten" w="267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90" name="AutoShape 40"/>
          <p:cNvSpPr/>
          <p:nvPr/>
        </p:nvSpPr>
        <p:spPr>
          <a:xfrm>
            <a:off x="3348000" y="3213000"/>
            <a:ext cx="4248360" cy="2737080"/>
          </a:xfrm>
          <a:prstGeom prst="cloudCallout">
            <a:avLst>
              <a:gd name="adj1" fmla="val -93981"/>
              <a:gd name="adj2" fmla="val -78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вь, богатая углекислым га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41">
            <a:hlinkClick r:id="rId1" action="ppaction://hlinksldjump"/>
          </p:cNvPr>
          <p:cNvSpPr/>
          <p:nvPr/>
        </p:nvSpPr>
        <p:spPr>
          <a:xfrm>
            <a:off x="4140360" y="4149720"/>
            <a:ext cx="2160360" cy="3328920"/>
          </a:xfrm>
          <a:custGeom>
            <a:avLst/>
            <a:gdLst>
              <a:gd name="textAreaLeft" fmla="*/ 140040 w 2160360"/>
              <a:gd name="textAreaRight" fmla="*/ 2020320 w 2160360"/>
              <a:gd name="textAreaTop" fmla="*/ 140040 h 3328920"/>
              <a:gd name="textAreaBottom" fmla="*/ 3188880 h 3328920"/>
            </a:gdLst>
            <a:ahLst/>
            <a:rect l="textAreaLeft" t="textAreaTop" r="textAreaRight" b="textAreaBottom"/>
            <a:pathLst>
              <a:path w="21600" h="33282">
                <a:moveTo>
                  <a:pt x="0" y="0"/>
                </a:moveTo>
                <a:lnTo>
                  <a:pt x="21600" y="0"/>
                </a:lnTo>
                <a:lnTo>
                  <a:pt x="21600" y="33282"/>
                </a:lnTo>
                <a:lnTo>
                  <a:pt x="0" y="33282"/>
                </a:lnTo>
                <a:close/>
              </a:path>
              <a:path fill="lightenLess" w="21600" h="332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282">
                <a:moveTo>
                  <a:pt x="21600" y="0"/>
                </a:moveTo>
                <a:lnTo>
                  <a:pt x="21600" y="33282"/>
                </a:lnTo>
                <a:lnTo>
                  <a:pt x="20200" y="31882"/>
                </a:lnTo>
                <a:lnTo>
                  <a:pt x="20200" y="1400"/>
                </a:lnTo>
                <a:close/>
              </a:path>
              <a:path fill="darkenLess" w="21600" h="33282">
                <a:moveTo>
                  <a:pt x="21600" y="33282"/>
                </a:moveTo>
                <a:lnTo>
                  <a:pt x="0" y="33282"/>
                </a:lnTo>
                <a:lnTo>
                  <a:pt x="1400" y="31882"/>
                </a:lnTo>
                <a:lnTo>
                  <a:pt x="20200" y="31882"/>
                </a:lnTo>
                <a:close/>
              </a:path>
              <a:path fill="lighten" w="21600" h="33282">
                <a:moveTo>
                  <a:pt x="0" y="332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188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5"/>
          <p:cNvSpPr/>
          <p:nvPr/>
        </p:nvSpPr>
        <p:spPr>
          <a:xfrm flipV="1">
            <a:off x="3924360" y="172692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1">
            <a:hlinkClick r:id="rId2" action="ppaction://hlinksldjump"/>
          </p:cNvPr>
          <p:cNvSpPr/>
          <p:nvPr/>
        </p:nvSpPr>
        <p:spPr>
          <a:xfrm>
            <a:off x="214200" y="285840"/>
            <a:ext cx="8786880" cy="6357960"/>
          </a:xfrm>
          <a:custGeom>
            <a:avLst/>
            <a:gdLst>
              <a:gd name="textAreaLeft" fmla="*/ 411840 w 8786880"/>
              <a:gd name="textAreaRight" fmla="*/ 8375040 w 8786880"/>
              <a:gd name="textAreaTop" fmla="*/ 411840 h 6357960"/>
              <a:gd name="textAreaBottom" fmla="*/ 5946120 h 6357960"/>
            </a:gdLst>
            <a:ahLst/>
            <a:rect l="textAreaLeft" t="textAreaTop" r="textAreaRight" b="textAreaBottom"/>
            <a:pathLst>
              <a:path w="29851" h="21600">
                <a:moveTo>
                  <a:pt x="0" y="0"/>
                </a:moveTo>
                <a:lnTo>
                  <a:pt x="29851" y="0"/>
                </a:lnTo>
                <a:lnTo>
                  <a:pt x="29851" y="21600"/>
                </a:lnTo>
                <a:lnTo>
                  <a:pt x="0" y="21600"/>
                </a:lnTo>
                <a:close/>
              </a:path>
              <a:path fill="lightenLess" w="29851" h="21600">
                <a:moveTo>
                  <a:pt x="0" y="0"/>
                </a:moveTo>
                <a:lnTo>
                  <a:pt x="29851" y="0"/>
                </a:lnTo>
                <a:lnTo>
                  <a:pt x="28451" y="1400"/>
                </a:lnTo>
                <a:lnTo>
                  <a:pt x="1400" y="1400"/>
                </a:lnTo>
                <a:close/>
              </a:path>
              <a:path fill="darken" w="29851" h="21600">
                <a:moveTo>
                  <a:pt x="29851" y="0"/>
                </a:moveTo>
                <a:lnTo>
                  <a:pt x="29851" y="21600"/>
                </a:lnTo>
                <a:lnTo>
                  <a:pt x="28451" y="20200"/>
                </a:lnTo>
                <a:lnTo>
                  <a:pt x="28451" y="1400"/>
                </a:lnTo>
                <a:close/>
              </a:path>
              <a:path fill="darkenLess" w="29851" h="21600">
                <a:moveTo>
                  <a:pt x="298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51" y="20200"/>
                </a:lnTo>
                <a:close/>
              </a:path>
              <a:path fill="lighten" w="298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324000" y="189000"/>
          <a:ext cx="8640720" cy="652464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5480"/>
                <a:gridCol w="1729080"/>
                <a:gridCol w="1728720"/>
              </a:tblGrid>
              <a:tr h="133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3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95" name="AutoShape 40"/>
          <p:cNvSpPr/>
          <p:nvPr/>
        </p:nvSpPr>
        <p:spPr>
          <a:xfrm>
            <a:off x="4643280" y="3429000"/>
            <a:ext cx="4248360" cy="2736720"/>
          </a:xfrm>
          <a:prstGeom prst="cloudCallout">
            <a:avLst>
              <a:gd name="adj1" fmla="val -76333"/>
              <a:gd name="adj2" fmla="val -80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ть крови от левого желудочка до правого предсер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41">
            <a:hlinkClick r:id="rId1" action="ppaction://hlinksldjump"/>
          </p:cNvPr>
          <p:cNvSpPr/>
          <p:nvPr/>
        </p:nvSpPr>
        <p:spPr>
          <a:xfrm>
            <a:off x="285840" y="214200"/>
            <a:ext cx="8715240" cy="8777520"/>
          </a:xfrm>
          <a:custGeom>
            <a:avLst/>
            <a:gdLst>
              <a:gd name="textAreaLeft" fmla="*/ 564840 w 8715240"/>
              <a:gd name="textAreaRight" fmla="*/ 8150400 w 8715240"/>
              <a:gd name="textAreaTop" fmla="*/ 564840 h 8777520"/>
              <a:gd name="textAreaBottom" fmla="*/ 8212680 h 8777520"/>
            </a:gdLst>
            <a:ahLst/>
            <a:rect l="textAreaLeft" t="textAreaTop" r="textAreaRight" b="textAreaBottom"/>
            <a:pathLst>
              <a:path w="21600" h="21754">
                <a:moveTo>
                  <a:pt x="0" y="0"/>
                </a:moveTo>
                <a:lnTo>
                  <a:pt x="21600" y="0"/>
                </a:lnTo>
                <a:lnTo>
                  <a:pt x="21600" y="21754"/>
                </a:lnTo>
                <a:lnTo>
                  <a:pt x="0" y="21754"/>
                </a:lnTo>
                <a:close/>
              </a:path>
              <a:path fill="lightenLess" w="21600" h="217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4">
                <a:moveTo>
                  <a:pt x="21600" y="0"/>
                </a:moveTo>
                <a:lnTo>
                  <a:pt x="21600" y="21754"/>
                </a:lnTo>
                <a:lnTo>
                  <a:pt x="20200" y="20354"/>
                </a:lnTo>
                <a:lnTo>
                  <a:pt x="20200" y="1400"/>
                </a:lnTo>
                <a:close/>
              </a:path>
              <a:path fill="darkenLess" w="21600" h="21754">
                <a:moveTo>
                  <a:pt x="21600" y="21754"/>
                </a:moveTo>
                <a:lnTo>
                  <a:pt x="0" y="21754"/>
                </a:lnTo>
                <a:lnTo>
                  <a:pt x="1400" y="20354"/>
                </a:lnTo>
                <a:lnTo>
                  <a:pt x="20200" y="20354"/>
                </a:lnTo>
                <a:close/>
              </a:path>
              <a:path fill="lighten" w="21600" h="21754">
                <a:moveTo>
                  <a:pt x="0" y="217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98" name="AutoShape 40"/>
          <p:cNvSpPr/>
          <p:nvPr/>
        </p:nvSpPr>
        <p:spPr>
          <a:xfrm>
            <a:off x="500040" y="2714760"/>
            <a:ext cx="4248000" cy="3786120"/>
          </a:xfrm>
          <a:prstGeom prst="cloudCallout">
            <a:avLst>
              <a:gd name="adj1" fmla="val 61763"/>
              <a:gd name="adj2" fmla="val -52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ется заболевание, возникающее при продолжительной нехватке витамина в пит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41">
            <a:hlinkClick r:id="rId1" action="ppaction://hlinksldjump"/>
          </p:cNvPr>
          <p:cNvSpPr/>
          <p:nvPr/>
        </p:nvSpPr>
        <p:spPr>
          <a:xfrm>
            <a:off x="214200" y="142920"/>
            <a:ext cx="8786880" cy="6500880"/>
          </a:xfrm>
          <a:custGeom>
            <a:avLst/>
            <a:gdLst>
              <a:gd name="textAreaLeft" fmla="*/ 421200 w 8786880"/>
              <a:gd name="textAreaRight" fmla="*/ 8365680 w 8786880"/>
              <a:gd name="textAreaTop" fmla="*/ 421200 h 6500880"/>
              <a:gd name="textAreaBottom" fmla="*/ 6079680 h 6500880"/>
            </a:gdLst>
            <a:ahLst/>
            <a:rect l="textAreaLeft" t="textAreaTop" r="textAreaRight" b="textAreaBottom"/>
            <a:pathLst>
              <a:path w="29195" h="21600">
                <a:moveTo>
                  <a:pt x="0" y="0"/>
                </a:moveTo>
                <a:lnTo>
                  <a:pt x="29195" y="0"/>
                </a:lnTo>
                <a:lnTo>
                  <a:pt x="29195" y="21600"/>
                </a:lnTo>
                <a:lnTo>
                  <a:pt x="0" y="21600"/>
                </a:lnTo>
                <a:close/>
              </a:path>
              <a:path fill="lightenLess" w="29195" h="21600">
                <a:moveTo>
                  <a:pt x="0" y="0"/>
                </a:moveTo>
                <a:lnTo>
                  <a:pt x="29195" y="0"/>
                </a:lnTo>
                <a:lnTo>
                  <a:pt x="27795" y="1400"/>
                </a:lnTo>
                <a:lnTo>
                  <a:pt x="1400" y="1400"/>
                </a:lnTo>
                <a:close/>
              </a:path>
              <a:path fill="darken" w="29195" h="21600">
                <a:moveTo>
                  <a:pt x="29195" y="0"/>
                </a:moveTo>
                <a:lnTo>
                  <a:pt x="29195" y="21600"/>
                </a:lnTo>
                <a:lnTo>
                  <a:pt x="27795" y="20200"/>
                </a:lnTo>
                <a:lnTo>
                  <a:pt x="27795" y="1400"/>
                </a:lnTo>
                <a:close/>
              </a:path>
              <a:path fill="darkenLess" w="29195" h="21600">
                <a:moveTo>
                  <a:pt x="29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95" y="20200"/>
                </a:lnTo>
                <a:close/>
              </a:path>
              <a:path fill="lighten" w="29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01" name="AutoShape 40"/>
          <p:cNvSpPr/>
          <p:nvPr/>
        </p:nvSpPr>
        <p:spPr>
          <a:xfrm>
            <a:off x="214200" y="3500280"/>
            <a:ext cx="4714920" cy="3214800"/>
          </a:xfrm>
          <a:prstGeom prst="cloudCallout">
            <a:avLst>
              <a:gd name="adj1" fmla="val 66087"/>
              <a:gd name="adj2" fmla="val -78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витамин вырабатывается в организме человека под воздействием солнечных луч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41"/>
          <p:cNvSpPr/>
          <p:nvPr/>
        </p:nvSpPr>
        <p:spPr>
          <a:xfrm>
            <a:off x="214200" y="214200"/>
            <a:ext cx="8786880" cy="6429600"/>
          </a:xfrm>
          <a:custGeom>
            <a:avLst/>
            <a:gdLst>
              <a:gd name="textAreaLeft" fmla="*/ 416520 w 8786880"/>
              <a:gd name="textAreaRight" fmla="*/ 8370360 w 8786880"/>
              <a:gd name="textAreaTop" fmla="*/ 416520 h 6429600"/>
              <a:gd name="textAreaBottom" fmla="*/ 6013080 h 6429600"/>
            </a:gdLst>
            <a:ahLst/>
            <a:rect l="textAreaLeft" t="textAreaTop" r="textAreaRight" b="textAreaBottom"/>
            <a:pathLst>
              <a:path w="29519" h="21600">
                <a:moveTo>
                  <a:pt x="0" y="0"/>
                </a:moveTo>
                <a:lnTo>
                  <a:pt x="29519" y="0"/>
                </a:lnTo>
                <a:lnTo>
                  <a:pt x="29519" y="21600"/>
                </a:lnTo>
                <a:lnTo>
                  <a:pt x="0" y="21600"/>
                </a:lnTo>
                <a:close/>
              </a:path>
              <a:path fill="lightenLess" w="29519" h="21600">
                <a:moveTo>
                  <a:pt x="0" y="0"/>
                </a:moveTo>
                <a:lnTo>
                  <a:pt x="29519" y="0"/>
                </a:lnTo>
                <a:lnTo>
                  <a:pt x="28119" y="1400"/>
                </a:lnTo>
                <a:lnTo>
                  <a:pt x="1400" y="1400"/>
                </a:lnTo>
                <a:close/>
              </a:path>
              <a:path fill="darken" w="29519" h="21600">
                <a:moveTo>
                  <a:pt x="29519" y="0"/>
                </a:moveTo>
                <a:lnTo>
                  <a:pt x="29519" y="21600"/>
                </a:lnTo>
                <a:lnTo>
                  <a:pt x="28119" y="20200"/>
                </a:lnTo>
                <a:lnTo>
                  <a:pt x="28119" y="1400"/>
                </a:lnTo>
                <a:close/>
              </a:path>
              <a:path fill="darkenLess" w="29519" h="21600">
                <a:moveTo>
                  <a:pt x="29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19" y="20200"/>
                </a:lnTo>
                <a:close/>
              </a:path>
              <a:path fill="lighten" w="29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04" name="AutoShape 40"/>
          <p:cNvSpPr/>
          <p:nvPr/>
        </p:nvSpPr>
        <p:spPr>
          <a:xfrm>
            <a:off x="285840" y="3071880"/>
            <a:ext cx="6357960" cy="3451320"/>
          </a:xfrm>
          <a:prstGeom prst="cloudCallout">
            <a:avLst>
              <a:gd name="adj1" fmla="val 62569"/>
              <a:gd name="adj2" fmla="val -62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ревних восточных сказках заболевших принцесс часто рекомендовали лечить сырой печенью животных, а какой в этом смыс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41"/>
          <p:cNvSpPr/>
          <p:nvPr/>
        </p:nvSpPr>
        <p:spPr>
          <a:xfrm>
            <a:off x="285840" y="214200"/>
            <a:ext cx="8858160" cy="6467760"/>
          </a:xfrm>
          <a:custGeom>
            <a:avLst/>
            <a:gdLst>
              <a:gd name="textAreaLeft" fmla="*/ 419040 w 8858160"/>
              <a:gd name="textAreaRight" fmla="*/ 8439120 w 8858160"/>
              <a:gd name="textAreaTop" fmla="*/ 419040 h 6467760"/>
              <a:gd name="textAreaBottom" fmla="*/ 6048720 h 6467760"/>
            </a:gdLst>
            <a:ahLst/>
            <a:rect l="textAreaLeft" t="textAreaTop" r="textAreaRight" b="textAreaBottom"/>
            <a:pathLst>
              <a:path w="29583" h="21600">
                <a:moveTo>
                  <a:pt x="0" y="0"/>
                </a:moveTo>
                <a:lnTo>
                  <a:pt x="29583" y="0"/>
                </a:lnTo>
                <a:lnTo>
                  <a:pt x="29583" y="21600"/>
                </a:lnTo>
                <a:lnTo>
                  <a:pt x="0" y="21600"/>
                </a:lnTo>
                <a:close/>
              </a:path>
              <a:path fill="lightenLess" w="29583" h="21600">
                <a:moveTo>
                  <a:pt x="0" y="0"/>
                </a:moveTo>
                <a:lnTo>
                  <a:pt x="29583" y="0"/>
                </a:lnTo>
                <a:lnTo>
                  <a:pt x="28183" y="1400"/>
                </a:lnTo>
                <a:lnTo>
                  <a:pt x="1400" y="1400"/>
                </a:lnTo>
                <a:close/>
              </a:path>
              <a:path fill="darken" w="29583" h="21600">
                <a:moveTo>
                  <a:pt x="29583" y="0"/>
                </a:moveTo>
                <a:lnTo>
                  <a:pt x="29583" y="21600"/>
                </a:lnTo>
                <a:lnTo>
                  <a:pt x="28183" y="20200"/>
                </a:lnTo>
                <a:lnTo>
                  <a:pt x="28183" y="1400"/>
                </a:lnTo>
                <a:close/>
              </a:path>
              <a:path fill="darkenLess" w="29583" h="21600">
                <a:moveTo>
                  <a:pt x="29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83" y="20200"/>
                </a:lnTo>
                <a:close/>
              </a:path>
              <a:path fill="lighten" w="29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07" name="AutoShape 40"/>
          <p:cNvSpPr/>
          <p:nvPr/>
        </p:nvSpPr>
        <p:spPr>
          <a:xfrm>
            <a:off x="4572000" y="3933720"/>
            <a:ext cx="4000680" cy="2281320"/>
          </a:xfrm>
          <a:prstGeom prst="cloudCallout">
            <a:avLst>
              <a:gd name="adj1" fmla="val -119583"/>
              <a:gd name="adj2" fmla="val -51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ется единица п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1"/>
          <p:cNvSpPr/>
          <p:nvPr/>
        </p:nvSpPr>
        <p:spPr>
          <a:xfrm>
            <a:off x="214200" y="214200"/>
            <a:ext cx="8786880" cy="6256440"/>
          </a:xfrm>
          <a:custGeom>
            <a:avLst/>
            <a:gdLst>
              <a:gd name="textAreaLeft" fmla="*/ 405360 w 8786880"/>
              <a:gd name="textAreaRight" fmla="*/ 8381520 w 8786880"/>
              <a:gd name="textAreaTop" fmla="*/ 405360 h 6256440"/>
              <a:gd name="textAreaBottom" fmla="*/ 5851080 h 6256440"/>
            </a:gdLst>
            <a:ahLst/>
            <a:rect l="textAreaLeft" t="textAreaTop" r="textAreaRight" b="textAreaBottom"/>
            <a:pathLst>
              <a:path w="30336" h="21600">
                <a:moveTo>
                  <a:pt x="0" y="0"/>
                </a:moveTo>
                <a:lnTo>
                  <a:pt x="30336" y="0"/>
                </a:lnTo>
                <a:lnTo>
                  <a:pt x="30336" y="21600"/>
                </a:lnTo>
                <a:lnTo>
                  <a:pt x="0" y="21600"/>
                </a:lnTo>
                <a:close/>
              </a:path>
              <a:path fill="lightenLess" w="30336" h="21600">
                <a:moveTo>
                  <a:pt x="0" y="0"/>
                </a:moveTo>
                <a:lnTo>
                  <a:pt x="30336" y="0"/>
                </a:lnTo>
                <a:lnTo>
                  <a:pt x="28936" y="1400"/>
                </a:lnTo>
                <a:lnTo>
                  <a:pt x="1400" y="1400"/>
                </a:lnTo>
                <a:close/>
              </a:path>
              <a:path fill="darken" w="30336" h="21600">
                <a:moveTo>
                  <a:pt x="30336" y="0"/>
                </a:moveTo>
                <a:lnTo>
                  <a:pt x="30336" y="21600"/>
                </a:lnTo>
                <a:lnTo>
                  <a:pt x="28936" y="20200"/>
                </a:lnTo>
                <a:lnTo>
                  <a:pt x="28936" y="1400"/>
                </a:lnTo>
                <a:close/>
              </a:path>
              <a:path fill="darkenLess" w="30336" h="21600">
                <a:moveTo>
                  <a:pt x="30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6" y="20200"/>
                </a:lnTo>
                <a:close/>
              </a:path>
              <a:path fill="lighten" w="30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10" name="AutoShape 40"/>
          <p:cNvSpPr/>
          <p:nvPr/>
        </p:nvSpPr>
        <p:spPr>
          <a:xfrm>
            <a:off x="4643280" y="3933720"/>
            <a:ext cx="4248360" cy="2737080"/>
          </a:xfrm>
          <a:prstGeom prst="cloudCallout">
            <a:avLst>
              <a:gd name="adj1" fmla="val -76231"/>
              <a:gd name="adj2" fmla="val -60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ются роговые образования к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1"/>
          <p:cNvSpPr/>
          <p:nvPr/>
        </p:nvSpPr>
        <p:spPr>
          <a:xfrm>
            <a:off x="214200" y="214200"/>
            <a:ext cx="8715600" cy="6429600"/>
          </a:xfrm>
          <a:custGeom>
            <a:avLst/>
            <a:gdLst>
              <a:gd name="textAreaLeft" fmla="*/ 416520 w 8715600"/>
              <a:gd name="textAreaRight" fmla="*/ 8299080 w 8715600"/>
              <a:gd name="textAreaTop" fmla="*/ 416520 h 6429600"/>
              <a:gd name="textAreaBottom" fmla="*/ 6013080 h 64296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179280" y="378000"/>
          <a:ext cx="8785440" cy="6219720"/>
        </p:xfrm>
        <a:graphic>
          <a:graphicData uri="http://schemas.openxmlformats.org/drawingml/2006/table">
            <a:tbl>
              <a:tblPr/>
              <a:tblGrid>
                <a:gridCol w="1793880"/>
                <a:gridCol w="1793880"/>
                <a:gridCol w="1792440"/>
                <a:gridCol w="1793880"/>
                <a:gridCol w="1611360"/>
              </a:tblGrid>
              <a:tr h="12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13" name="AutoShape 40"/>
          <p:cNvSpPr/>
          <p:nvPr/>
        </p:nvSpPr>
        <p:spPr>
          <a:xfrm>
            <a:off x="179280" y="3789360"/>
            <a:ext cx="4248360" cy="1800360"/>
          </a:xfrm>
          <a:prstGeom prst="cloudCallout">
            <a:avLst>
              <a:gd name="adj1" fmla="val 82810"/>
              <a:gd name="adj2" fmla="val -55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камер в сердце у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1"/>
          <p:cNvSpPr/>
          <p:nvPr/>
        </p:nvSpPr>
        <p:spPr>
          <a:xfrm>
            <a:off x="142920" y="189000"/>
            <a:ext cx="8748720" cy="6858000"/>
          </a:xfrm>
          <a:custGeom>
            <a:avLst/>
            <a:gdLst>
              <a:gd name="textAreaLeft" fmla="*/ 444240 w 8748720"/>
              <a:gd name="textAreaRight" fmla="*/ 8304480 w 87487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555" h="21600">
                <a:moveTo>
                  <a:pt x="0" y="0"/>
                </a:moveTo>
                <a:lnTo>
                  <a:pt x="27555" y="0"/>
                </a:lnTo>
                <a:lnTo>
                  <a:pt x="27555" y="21600"/>
                </a:lnTo>
                <a:lnTo>
                  <a:pt x="0" y="21600"/>
                </a:lnTo>
                <a:close/>
              </a:path>
              <a:path fill="lightenLess" w="27555" h="21600">
                <a:moveTo>
                  <a:pt x="0" y="0"/>
                </a:moveTo>
                <a:lnTo>
                  <a:pt x="27555" y="0"/>
                </a:lnTo>
                <a:lnTo>
                  <a:pt x="26155" y="1400"/>
                </a:lnTo>
                <a:lnTo>
                  <a:pt x="1400" y="1400"/>
                </a:lnTo>
                <a:close/>
              </a:path>
              <a:path fill="darken" w="27555" h="21600">
                <a:moveTo>
                  <a:pt x="27555" y="0"/>
                </a:moveTo>
                <a:lnTo>
                  <a:pt x="27555" y="21600"/>
                </a:lnTo>
                <a:lnTo>
                  <a:pt x="26155" y="20200"/>
                </a:lnTo>
                <a:lnTo>
                  <a:pt x="26155" y="1400"/>
                </a:lnTo>
                <a:close/>
              </a:path>
              <a:path fill="darkenLess" w="27555" h="21600">
                <a:moveTo>
                  <a:pt x="27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55" y="20200"/>
                </a:lnTo>
                <a:close/>
              </a:path>
              <a:path fill="lighten" w="27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"/>
          <p:cNvSpPr/>
          <p:nvPr/>
        </p:nvSpPr>
        <p:spPr>
          <a:xfrm>
            <a:off x="1928880" y="526320"/>
            <a:ext cx="4929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лагаю вам, ребятки, интересные загадки.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ответ к загадке знает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ыстро руку поднимает.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с анатомией знаком, тому загадки нипочем.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загадку отгадает, сразу баллы получает.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все баллы соберешь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из с собою забер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16" name="AutoShape 40"/>
          <p:cNvSpPr/>
          <p:nvPr/>
        </p:nvSpPr>
        <p:spPr>
          <a:xfrm>
            <a:off x="1428840" y="2357280"/>
            <a:ext cx="4248000" cy="2643480"/>
          </a:xfrm>
          <a:prstGeom prst="cloudCallout">
            <a:avLst>
              <a:gd name="adj1" fmla="val 90685"/>
              <a:gd name="adj2" fmla="val 71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обеспечивается связь мышц и скел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1"/>
          <p:cNvSpPr/>
          <p:nvPr/>
        </p:nvSpPr>
        <p:spPr>
          <a:xfrm>
            <a:off x="6877080" y="314172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1"/>
          <p:cNvSpPr/>
          <p:nvPr/>
        </p:nvSpPr>
        <p:spPr>
          <a:xfrm>
            <a:off x="214200" y="214200"/>
            <a:ext cx="8786880" cy="6404040"/>
          </a:xfrm>
          <a:custGeom>
            <a:avLst/>
            <a:gdLst>
              <a:gd name="textAreaLeft" fmla="*/ 415080 w 8786880"/>
              <a:gd name="textAreaRight" fmla="*/ 8371800 w 8786880"/>
              <a:gd name="textAreaTop" fmla="*/ 415080 h 6404040"/>
              <a:gd name="textAreaBottom" fmla="*/ 5988960 h 6404040"/>
            </a:gdLst>
            <a:ahLst/>
            <a:rect l="textAreaLeft" t="textAreaTop" r="textAreaRight" b="textAreaBottom"/>
            <a:pathLst>
              <a:path w="29637" h="21600">
                <a:moveTo>
                  <a:pt x="0" y="0"/>
                </a:moveTo>
                <a:lnTo>
                  <a:pt x="29637" y="0"/>
                </a:lnTo>
                <a:lnTo>
                  <a:pt x="29637" y="21600"/>
                </a:lnTo>
                <a:lnTo>
                  <a:pt x="0" y="21600"/>
                </a:lnTo>
                <a:close/>
              </a:path>
              <a:path fill="lightenLess" w="29637" h="21600">
                <a:moveTo>
                  <a:pt x="0" y="0"/>
                </a:moveTo>
                <a:lnTo>
                  <a:pt x="29637" y="0"/>
                </a:lnTo>
                <a:lnTo>
                  <a:pt x="28237" y="1400"/>
                </a:lnTo>
                <a:lnTo>
                  <a:pt x="1400" y="1400"/>
                </a:lnTo>
                <a:close/>
              </a:path>
              <a:path fill="darken" w="29637" h="21600">
                <a:moveTo>
                  <a:pt x="29637" y="0"/>
                </a:moveTo>
                <a:lnTo>
                  <a:pt x="29637" y="21600"/>
                </a:lnTo>
                <a:lnTo>
                  <a:pt x="28237" y="20200"/>
                </a:lnTo>
                <a:lnTo>
                  <a:pt x="28237" y="1400"/>
                </a:lnTo>
                <a:close/>
              </a:path>
              <a:path fill="darkenLess" w="29637" h="21600">
                <a:moveTo>
                  <a:pt x="29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37" y="20200"/>
                </a:lnTo>
                <a:close/>
              </a:path>
              <a:path fill="lighten" w="29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20" name="AutoShape 40"/>
          <p:cNvSpPr/>
          <p:nvPr/>
        </p:nvSpPr>
        <p:spPr>
          <a:xfrm>
            <a:off x="1979640" y="333360"/>
            <a:ext cx="4248000" cy="2738520"/>
          </a:xfrm>
          <a:prstGeom prst="cloudCallout">
            <a:avLst>
              <a:gd name="adj1" fmla="val -54097"/>
              <a:gd name="adj2" fmla="val 95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, определяющий вкусовые качества пи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1"/>
          <p:cNvSpPr/>
          <p:nvPr/>
        </p:nvSpPr>
        <p:spPr>
          <a:xfrm>
            <a:off x="900000" y="422100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41"/>
          <p:cNvSpPr/>
          <p:nvPr/>
        </p:nvSpPr>
        <p:spPr>
          <a:xfrm>
            <a:off x="142920" y="189000"/>
            <a:ext cx="8748720" cy="6858000"/>
          </a:xfrm>
          <a:custGeom>
            <a:avLst/>
            <a:gdLst>
              <a:gd name="textAreaLeft" fmla="*/ 444240 w 8748720"/>
              <a:gd name="textAreaRight" fmla="*/ 8304480 w 87487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555" h="21600">
                <a:moveTo>
                  <a:pt x="0" y="0"/>
                </a:moveTo>
                <a:lnTo>
                  <a:pt x="27555" y="0"/>
                </a:lnTo>
                <a:lnTo>
                  <a:pt x="27555" y="21600"/>
                </a:lnTo>
                <a:lnTo>
                  <a:pt x="0" y="21600"/>
                </a:lnTo>
                <a:close/>
              </a:path>
              <a:path fill="lightenLess" w="27555" h="21600">
                <a:moveTo>
                  <a:pt x="0" y="0"/>
                </a:moveTo>
                <a:lnTo>
                  <a:pt x="27555" y="0"/>
                </a:lnTo>
                <a:lnTo>
                  <a:pt x="26155" y="1400"/>
                </a:lnTo>
                <a:lnTo>
                  <a:pt x="1400" y="1400"/>
                </a:lnTo>
                <a:close/>
              </a:path>
              <a:path fill="darken" w="27555" h="21600">
                <a:moveTo>
                  <a:pt x="27555" y="0"/>
                </a:moveTo>
                <a:lnTo>
                  <a:pt x="27555" y="21600"/>
                </a:lnTo>
                <a:lnTo>
                  <a:pt x="26155" y="20200"/>
                </a:lnTo>
                <a:lnTo>
                  <a:pt x="26155" y="1400"/>
                </a:lnTo>
                <a:close/>
              </a:path>
              <a:path fill="darkenLess" w="27555" h="21600">
                <a:moveTo>
                  <a:pt x="27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55" y="20200"/>
                </a:lnTo>
                <a:close/>
              </a:path>
              <a:path fill="lighten" w="27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24" name="AutoShape 40"/>
          <p:cNvSpPr/>
          <p:nvPr/>
        </p:nvSpPr>
        <p:spPr>
          <a:xfrm>
            <a:off x="3929040" y="714240"/>
            <a:ext cx="4248000" cy="2928960"/>
          </a:xfrm>
          <a:prstGeom prst="cloudCallout">
            <a:avLst>
              <a:gd name="adj1" fmla="val -60796"/>
              <a:gd name="adj2" fmla="val 73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 в котором пища начинает перевар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41"/>
          <p:cNvSpPr/>
          <p:nvPr/>
        </p:nvSpPr>
        <p:spPr>
          <a:xfrm>
            <a:off x="214200" y="0"/>
            <a:ext cx="8929800" cy="6858000"/>
          </a:xfrm>
          <a:custGeom>
            <a:avLst/>
            <a:gdLst>
              <a:gd name="textAreaLeft" fmla="*/ 444240 w 8929800"/>
              <a:gd name="textAreaRight" fmla="*/ 8485560 w 8929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125" h="21600">
                <a:moveTo>
                  <a:pt x="0" y="0"/>
                </a:moveTo>
                <a:lnTo>
                  <a:pt x="28125" y="0"/>
                </a:lnTo>
                <a:lnTo>
                  <a:pt x="28125" y="21600"/>
                </a:lnTo>
                <a:lnTo>
                  <a:pt x="0" y="21600"/>
                </a:lnTo>
                <a:close/>
              </a:path>
              <a:path fill="lightenLess" w="28125" h="21600">
                <a:moveTo>
                  <a:pt x="0" y="0"/>
                </a:moveTo>
                <a:lnTo>
                  <a:pt x="28125" y="0"/>
                </a:lnTo>
                <a:lnTo>
                  <a:pt x="26725" y="1400"/>
                </a:lnTo>
                <a:lnTo>
                  <a:pt x="1400" y="1400"/>
                </a:lnTo>
                <a:close/>
              </a:path>
              <a:path fill="darken" w="28125" h="21600">
                <a:moveTo>
                  <a:pt x="28125" y="0"/>
                </a:moveTo>
                <a:lnTo>
                  <a:pt x="28125" y="21600"/>
                </a:lnTo>
                <a:lnTo>
                  <a:pt x="26725" y="20200"/>
                </a:lnTo>
                <a:lnTo>
                  <a:pt x="26725" y="1400"/>
                </a:lnTo>
                <a:close/>
              </a:path>
              <a:path fill="darkenLess" w="28125" h="21600">
                <a:moveTo>
                  <a:pt x="2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5" y="20200"/>
                </a:lnTo>
                <a:close/>
              </a:path>
              <a:path fill="lighten" w="2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27" name="AutoShape 40"/>
          <p:cNvSpPr/>
          <p:nvPr/>
        </p:nvSpPr>
        <p:spPr>
          <a:xfrm>
            <a:off x="468360" y="714240"/>
            <a:ext cx="3460680" cy="2427480"/>
          </a:xfrm>
          <a:prstGeom prst="cloudCallout">
            <a:avLst>
              <a:gd name="adj1" fmla="val 51699"/>
              <a:gd name="adj2" fmla="val 98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какому царству живой природы относится челов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1"/>
          <p:cNvSpPr/>
          <p:nvPr/>
        </p:nvSpPr>
        <p:spPr>
          <a:xfrm>
            <a:off x="214200" y="142920"/>
            <a:ext cx="8929800" cy="6858000"/>
          </a:xfrm>
          <a:custGeom>
            <a:avLst/>
            <a:gdLst>
              <a:gd name="textAreaLeft" fmla="*/ 444240 w 8929800"/>
              <a:gd name="textAreaRight" fmla="*/ 8485560 w 8929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125" h="21600">
                <a:moveTo>
                  <a:pt x="0" y="0"/>
                </a:moveTo>
                <a:lnTo>
                  <a:pt x="28125" y="0"/>
                </a:lnTo>
                <a:lnTo>
                  <a:pt x="28125" y="21600"/>
                </a:lnTo>
                <a:lnTo>
                  <a:pt x="0" y="21600"/>
                </a:lnTo>
                <a:close/>
              </a:path>
              <a:path fill="lightenLess" w="28125" h="21600">
                <a:moveTo>
                  <a:pt x="0" y="0"/>
                </a:moveTo>
                <a:lnTo>
                  <a:pt x="28125" y="0"/>
                </a:lnTo>
                <a:lnTo>
                  <a:pt x="26725" y="1400"/>
                </a:lnTo>
                <a:lnTo>
                  <a:pt x="1400" y="1400"/>
                </a:lnTo>
                <a:close/>
              </a:path>
              <a:path fill="darken" w="28125" h="21600">
                <a:moveTo>
                  <a:pt x="28125" y="0"/>
                </a:moveTo>
                <a:lnTo>
                  <a:pt x="28125" y="21600"/>
                </a:lnTo>
                <a:lnTo>
                  <a:pt x="26725" y="20200"/>
                </a:lnTo>
                <a:lnTo>
                  <a:pt x="26725" y="1400"/>
                </a:lnTo>
                <a:close/>
              </a:path>
              <a:path fill="darkenLess" w="28125" h="21600">
                <a:moveTo>
                  <a:pt x="2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5" y="20200"/>
                </a:lnTo>
                <a:close/>
              </a:path>
              <a:path fill="lighten" w="2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30" name="AutoShape 40"/>
          <p:cNvSpPr/>
          <p:nvPr/>
        </p:nvSpPr>
        <p:spPr>
          <a:xfrm>
            <a:off x="395280" y="333360"/>
            <a:ext cx="4248000" cy="3095640"/>
          </a:xfrm>
          <a:prstGeom prst="cloudCallout">
            <a:avLst>
              <a:gd name="adj1" fmla="val 75615"/>
              <a:gd name="adj2" fmla="val 81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три самые маленькие косточки нашего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41"/>
          <p:cNvSpPr/>
          <p:nvPr/>
        </p:nvSpPr>
        <p:spPr>
          <a:xfrm>
            <a:off x="142920" y="285840"/>
            <a:ext cx="9144000" cy="6429240"/>
          </a:xfrm>
          <a:custGeom>
            <a:avLst/>
            <a:gdLst>
              <a:gd name="textAreaLeft" fmla="*/ 416520 w 9144000"/>
              <a:gd name="textAreaRight" fmla="*/ 8727480 w 9144000"/>
              <a:gd name="textAreaTop" fmla="*/ 416520 h 6429240"/>
              <a:gd name="textAreaBottom" fmla="*/ 6012720 h 6429240"/>
            </a:gdLst>
            <a:ahLst/>
            <a:rect l="textAreaLeft" t="textAreaTop" r="textAreaRight" b="textAreaBottom"/>
            <a:pathLst>
              <a:path w="30720" h="21600">
                <a:moveTo>
                  <a:pt x="0" y="0"/>
                </a:moveTo>
                <a:lnTo>
                  <a:pt x="30720" y="0"/>
                </a:lnTo>
                <a:lnTo>
                  <a:pt x="30720" y="21600"/>
                </a:lnTo>
                <a:lnTo>
                  <a:pt x="0" y="21600"/>
                </a:lnTo>
                <a:close/>
              </a:path>
              <a:path fill="lightenLess" w="30720" h="21600">
                <a:moveTo>
                  <a:pt x="0" y="0"/>
                </a:moveTo>
                <a:lnTo>
                  <a:pt x="30720" y="0"/>
                </a:lnTo>
                <a:lnTo>
                  <a:pt x="29320" y="1400"/>
                </a:lnTo>
                <a:lnTo>
                  <a:pt x="1400" y="1400"/>
                </a:lnTo>
                <a:close/>
              </a:path>
              <a:path fill="darken" w="30720" h="21600">
                <a:moveTo>
                  <a:pt x="30720" y="0"/>
                </a:moveTo>
                <a:lnTo>
                  <a:pt x="30720" y="21600"/>
                </a:lnTo>
                <a:lnTo>
                  <a:pt x="29320" y="20200"/>
                </a:lnTo>
                <a:lnTo>
                  <a:pt x="29320" y="1400"/>
                </a:lnTo>
                <a:close/>
              </a:path>
              <a:path fill="darkenLess" w="30720" h="21600">
                <a:moveTo>
                  <a:pt x="307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20" y="20200"/>
                </a:lnTo>
                <a:close/>
              </a:path>
              <a:path fill="lighten" w="307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33" name="AutoShape 40"/>
          <p:cNvSpPr/>
          <p:nvPr/>
        </p:nvSpPr>
        <p:spPr>
          <a:xfrm>
            <a:off x="0" y="404640"/>
            <a:ext cx="4248000" cy="2667240"/>
          </a:xfrm>
          <a:prstGeom prst="cloudCallout">
            <a:avLst>
              <a:gd name="adj1" fmla="val 126574"/>
              <a:gd name="adj2" fmla="val 99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свет воспринимают рецепторы глаза – палочки и колб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41"/>
          <p:cNvSpPr/>
          <p:nvPr/>
        </p:nvSpPr>
        <p:spPr>
          <a:xfrm>
            <a:off x="4140360" y="386064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41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37" name="AutoShape 40"/>
          <p:cNvSpPr/>
          <p:nvPr/>
        </p:nvSpPr>
        <p:spPr>
          <a:xfrm>
            <a:off x="2916360" y="476280"/>
            <a:ext cx="4248000" cy="2305080"/>
          </a:xfrm>
          <a:prstGeom prst="cloudCallout">
            <a:avLst>
              <a:gd name="adj1" fmla="val -77254"/>
              <a:gd name="adj2" fmla="val 17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то относится к центральной нервной систем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41"/>
          <p:cNvSpPr/>
          <p:nvPr/>
        </p:nvSpPr>
        <p:spPr>
          <a:xfrm>
            <a:off x="142920" y="214200"/>
            <a:ext cx="8858160" cy="6858000"/>
          </a:xfrm>
          <a:custGeom>
            <a:avLst/>
            <a:gdLst>
              <a:gd name="textAreaLeft" fmla="*/ 444240 w 8858160"/>
              <a:gd name="textAreaRight" fmla="*/ 8413920 w 885816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899" h="21600">
                <a:moveTo>
                  <a:pt x="0" y="0"/>
                </a:moveTo>
                <a:lnTo>
                  <a:pt x="27899" y="0"/>
                </a:lnTo>
                <a:lnTo>
                  <a:pt x="27899" y="21600"/>
                </a:lnTo>
                <a:lnTo>
                  <a:pt x="0" y="21600"/>
                </a:lnTo>
                <a:close/>
              </a:path>
              <a:path fill="lightenLess" w="27899" h="21600">
                <a:moveTo>
                  <a:pt x="0" y="0"/>
                </a:moveTo>
                <a:lnTo>
                  <a:pt x="27899" y="0"/>
                </a:lnTo>
                <a:lnTo>
                  <a:pt x="26499" y="1400"/>
                </a:lnTo>
                <a:lnTo>
                  <a:pt x="1400" y="1400"/>
                </a:lnTo>
                <a:close/>
              </a:path>
              <a:path fill="darken" w="27899" h="21600">
                <a:moveTo>
                  <a:pt x="27899" y="0"/>
                </a:moveTo>
                <a:lnTo>
                  <a:pt x="27899" y="21600"/>
                </a:lnTo>
                <a:lnTo>
                  <a:pt x="26499" y="20200"/>
                </a:lnTo>
                <a:lnTo>
                  <a:pt x="26499" y="1400"/>
                </a:lnTo>
                <a:close/>
              </a:path>
              <a:path fill="darkenLess" w="27899" h="21600">
                <a:moveTo>
                  <a:pt x="27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9" y="20200"/>
                </a:lnTo>
                <a:close/>
              </a:path>
              <a:path fill="lighten" w="27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2021040"/>
                <a:gridCol w="149220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40" name="AutoShape 40"/>
          <p:cNvSpPr/>
          <p:nvPr/>
        </p:nvSpPr>
        <p:spPr>
          <a:xfrm>
            <a:off x="2340000" y="500040"/>
            <a:ext cx="4803840" cy="2214720"/>
          </a:xfrm>
          <a:prstGeom prst="cloudCallout">
            <a:avLst>
              <a:gd name="adj1" fmla="val -26675"/>
              <a:gd name="adj2" fmla="val 177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тносится к периферической нервн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1"/>
          <p:cNvSpPr/>
          <p:nvPr/>
        </p:nvSpPr>
        <p:spPr>
          <a:xfrm>
            <a:off x="214200" y="142920"/>
            <a:ext cx="8929800" cy="6858000"/>
          </a:xfrm>
          <a:custGeom>
            <a:avLst/>
            <a:gdLst>
              <a:gd name="textAreaLeft" fmla="*/ 444240 w 8929800"/>
              <a:gd name="textAreaRight" fmla="*/ 8485560 w 8929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125" h="21600">
                <a:moveTo>
                  <a:pt x="0" y="0"/>
                </a:moveTo>
                <a:lnTo>
                  <a:pt x="28125" y="0"/>
                </a:lnTo>
                <a:lnTo>
                  <a:pt x="28125" y="21600"/>
                </a:lnTo>
                <a:lnTo>
                  <a:pt x="0" y="21600"/>
                </a:lnTo>
                <a:close/>
              </a:path>
              <a:path fill="lightenLess" w="28125" h="21600">
                <a:moveTo>
                  <a:pt x="0" y="0"/>
                </a:moveTo>
                <a:lnTo>
                  <a:pt x="28125" y="0"/>
                </a:lnTo>
                <a:lnTo>
                  <a:pt x="26725" y="1400"/>
                </a:lnTo>
                <a:lnTo>
                  <a:pt x="1400" y="1400"/>
                </a:lnTo>
                <a:close/>
              </a:path>
              <a:path fill="darken" w="28125" h="21600">
                <a:moveTo>
                  <a:pt x="28125" y="0"/>
                </a:moveTo>
                <a:lnTo>
                  <a:pt x="28125" y="21600"/>
                </a:lnTo>
                <a:lnTo>
                  <a:pt x="26725" y="20200"/>
                </a:lnTo>
                <a:lnTo>
                  <a:pt x="26725" y="1400"/>
                </a:lnTo>
                <a:close/>
              </a:path>
              <a:path fill="darkenLess" w="28125" h="21600">
                <a:moveTo>
                  <a:pt x="2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5" y="20200"/>
                </a:lnTo>
                <a:close/>
              </a:path>
              <a:path fill="lighten" w="2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43" name="AutoShape 40"/>
          <p:cNvSpPr/>
          <p:nvPr/>
        </p:nvSpPr>
        <p:spPr>
          <a:xfrm>
            <a:off x="2987640" y="549360"/>
            <a:ext cx="4248360" cy="1511280"/>
          </a:xfrm>
          <a:prstGeom prst="cloudCallout">
            <a:avLst>
              <a:gd name="adj1" fmla="val -7995"/>
              <a:gd name="adj2" fmla="val 285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называется орган равновеси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41"/>
          <p:cNvSpPr/>
          <p:nvPr/>
        </p:nvSpPr>
        <p:spPr>
          <a:xfrm>
            <a:off x="214200" y="28584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46" name="AutoShape 40"/>
          <p:cNvSpPr/>
          <p:nvPr/>
        </p:nvSpPr>
        <p:spPr>
          <a:xfrm>
            <a:off x="2916360" y="404640"/>
            <a:ext cx="5111640" cy="2737080"/>
          </a:xfrm>
          <a:prstGeom prst="cloudCallout">
            <a:avLst>
              <a:gd name="adj1" fmla="val 29805"/>
              <a:gd name="adj2" fmla="val 142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самую подвижную кость лицевого отдела скелета голо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1"/>
          <p:cNvSpPr/>
          <p:nvPr/>
        </p:nvSpPr>
        <p:spPr>
          <a:xfrm>
            <a:off x="214200" y="214200"/>
            <a:ext cx="8786880" cy="6429600"/>
          </a:xfrm>
          <a:custGeom>
            <a:avLst/>
            <a:gdLst>
              <a:gd name="textAreaLeft" fmla="*/ 416520 w 8786880"/>
              <a:gd name="textAreaRight" fmla="*/ 8370360 w 8786880"/>
              <a:gd name="textAreaTop" fmla="*/ 416520 h 6429600"/>
              <a:gd name="textAreaBottom" fmla="*/ 6013080 h 6429600"/>
            </a:gdLst>
            <a:ahLst/>
            <a:rect l="textAreaLeft" t="textAreaTop" r="textAreaRight" b="textAreaBottom"/>
            <a:pathLst>
              <a:path w="29519" h="21600">
                <a:moveTo>
                  <a:pt x="0" y="0"/>
                </a:moveTo>
                <a:lnTo>
                  <a:pt x="29519" y="0"/>
                </a:lnTo>
                <a:lnTo>
                  <a:pt x="29519" y="21600"/>
                </a:lnTo>
                <a:lnTo>
                  <a:pt x="0" y="21600"/>
                </a:lnTo>
                <a:close/>
              </a:path>
              <a:path fill="lightenLess" w="29519" h="21600">
                <a:moveTo>
                  <a:pt x="0" y="0"/>
                </a:moveTo>
                <a:lnTo>
                  <a:pt x="29519" y="0"/>
                </a:lnTo>
                <a:lnTo>
                  <a:pt x="28119" y="1400"/>
                </a:lnTo>
                <a:lnTo>
                  <a:pt x="1400" y="1400"/>
                </a:lnTo>
                <a:close/>
              </a:path>
              <a:path fill="darken" w="29519" h="21600">
                <a:moveTo>
                  <a:pt x="29519" y="0"/>
                </a:moveTo>
                <a:lnTo>
                  <a:pt x="29519" y="21600"/>
                </a:lnTo>
                <a:lnTo>
                  <a:pt x="28119" y="20200"/>
                </a:lnTo>
                <a:lnTo>
                  <a:pt x="28119" y="1400"/>
                </a:lnTo>
                <a:close/>
              </a:path>
              <a:path fill="darkenLess" w="29519" h="21600">
                <a:moveTo>
                  <a:pt x="29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19" y="20200"/>
                </a:lnTo>
                <a:close/>
              </a:path>
              <a:path fill="lighten" w="29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928800" y="40680"/>
            <a:ext cx="7500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миг связаться с кислородом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ет только он один.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«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вет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»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эритроцитах,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зовут? 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49" name="AutoShape 40"/>
          <p:cNvSpPr/>
          <p:nvPr/>
        </p:nvSpPr>
        <p:spPr>
          <a:xfrm>
            <a:off x="2916360" y="476280"/>
            <a:ext cx="4248000" cy="2881440"/>
          </a:xfrm>
          <a:prstGeom prst="cloudCallout">
            <a:avLst>
              <a:gd name="adj1" fmla="val 54069"/>
              <a:gd name="adj2" fmla="val 128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называется клетка, являющаяся единицей строения нервной тка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41"/>
          <p:cNvSpPr/>
          <p:nvPr/>
        </p:nvSpPr>
        <p:spPr>
          <a:xfrm>
            <a:off x="142920" y="-142920"/>
            <a:ext cx="8786880" cy="6858000"/>
          </a:xfrm>
          <a:custGeom>
            <a:avLst/>
            <a:gdLst>
              <a:gd name="textAreaLeft" fmla="*/ 444240 w 8786880"/>
              <a:gd name="textAreaRight" fmla="*/ 8342640 w 87868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675" h="21600">
                <a:moveTo>
                  <a:pt x="0" y="0"/>
                </a:moveTo>
                <a:lnTo>
                  <a:pt x="27675" y="0"/>
                </a:lnTo>
                <a:lnTo>
                  <a:pt x="27675" y="21600"/>
                </a:lnTo>
                <a:lnTo>
                  <a:pt x="0" y="21600"/>
                </a:lnTo>
                <a:close/>
              </a:path>
              <a:path fill="lightenLess" w="27675" h="21600">
                <a:moveTo>
                  <a:pt x="0" y="0"/>
                </a:moveTo>
                <a:lnTo>
                  <a:pt x="27675" y="0"/>
                </a:lnTo>
                <a:lnTo>
                  <a:pt x="26275" y="1400"/>
                </a:lnTo>
                <a:lnTo>
                  <a:pt x="1400" y="1400"/>
                </a:lnTo>
                <a:close/>
              </a:path>
              <a:path fill="darken" w="27675" h="21600">
                <a:moveTo>
                  <a:pt x="27675" y="0"/>
                </a:moveTo>
                <a:lnTo>
                  <a:pt x="27675" y="21600"/>
                </a:lnTo>
                <a:lnTo>
                  <a:pt x="26275" y="20200"/>
                </a:lnTo>
                <a:lnTo>
                  <a:pt x="26275" y="1400"/>
                </a:lnTo>
                <a:close/>
              </a:path>
              <a:path fill="darkenLess" w="27675" h="21600">
                <a:moveTo>
                  <a:pt x="27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75" y="20200"/>
                </a:lnTo>
                <a:close/>
              </a:path>
              <a:path fill="lighten" w="27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дведение итог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Impact"/>
              </a:rPr>
              <a:t>«Учитесь, читайте, размышляйте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Impact"/>
              </a:rPr>
              <a:t>и извлекайте из всего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Impact"/>
              </a:rPr>
              <a:t>самое полезное»</a:t>
            </a:r>
            <a:br>
              <a:rPr sz="3200"/>
            </a:b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Н.И. Пирог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53" name="Picture 4" descr="j0301252"/>
          <p:cNvPicPr/>
          <p:nvPr/>
        </p:nvPicPr>
        <p:blipFill>
          <a:blip r:embed="rId1"/>
          <a:stretch/>
        </p:blipFill>
        <p:spPr>
          <a:xfrm>
            <a:off x="324000" y="2781360"/>
            <a:ext cx="36734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59612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Спасибо за игру!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"/>
          <p:cNvSpPr/>
          <p:nvPr/>
        </p:nvSpPr>
        <p:spPr>
          <a:xfrm>
            <a:off x="857160" y="227880"/>
            <a:ext cx="75009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т орган кровь толкает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 главный, каждый знает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внутри есть клапан-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«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ерца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»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за орган? Это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857160" y="1581840"/>
            <a:ext cx="7429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вкусной пище он привык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 вкуса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аш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"/>
          <p:cNvSpPr/>
          <p:nvPr/>
        </p:nvSpPr>
        <p:spPr>
          <a:xfrm>
            <a:off x="857160" y="453960"/>
            <a:ext cx="7429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ща в организме расщепляется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вещества простые превращается;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щи происходит усвоение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тому виной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785880" y="1798560"/>
            <a:ext cx="7572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го из легких удаляем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дыхаем каждый раз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му он не нужен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3:14:54Z</dcterms:created>
  <dc:creator>Юрий Ширяев</dc:creator>
  <dc:description/>
  <dc:language>en-US</dc:language>
  <cp:lastModifiedBy>Ёля</cp:lastModifiedBy>
  <dcterms:modified xsi:type="dcterms:W3CDTF">2014-05-04T14:47:31Z</dcterms:modified>
  <cp:revision>89</cp:revision>
  <dc:subject/>
  <dc:title>Слайд 1</dc:title>
</cp:coreProperties>
</file>