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Орищенко ЕИ" initials="ОЕ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2-04-16T13:28:04.30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0D9-17C1-4B8B-9703-D065CDE7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27E-D740-4850-BBBB-E7DDB074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F12-6640-462E-BBBE-76ADC615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101-AE48-41A8-9017-E8383D9C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54B4-529D-4658-9E16-6B59278E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1F88-A125-4627-806F-63FA0B00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7DE3-8825-4FCE-9365-4794C3BE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8094-6300-4D8F-B251-34C873D5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345C-882B-41CF-8ACD-EF572B53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2406-0900-453A-AC81-8CDE3411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607C-4911-45CC-9173-B5475AFF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F81-F0F7-4D6E-B390-F750ADAA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750F-1482-4B08-8B41-70727A4A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4A78-7266-4970-998F-EE4A0589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C22C-31C9-49C4-8B2B-466D69EF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9E4B-5B21-4C7A-99F0-AE78CBD1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1936-9A17-49EB-AEB2-19E775A8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5D3-5608-4AE3-83F6-D9DF135E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7BF-0711-49FA-BD13-9CB1AE73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82F-DC6E-40AB-9C94-0FC79854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29E-284A-4B3A-8D6C-646A2042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1A7-F2B4-453C-8C51-94F1EC9D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CB1-DBDB-43A7-A094-7ACD0BEE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983-250F-4D68-9119-3F7CB805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0720"/>
                <a:ext cx="1833120" cy="1668960"/>
                <a:chOff x="852840" y="4050720"/>
                <a:chExt cx="1833120" cy="16689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5120" y="3933720"/>
                  <a:ext cx="477360" cy="12459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5960"/>
                    <a:gd name="textAreaBottom" fmla="*/ 1246320 h 12459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7360" y="4979520"/>
                  <a:ext cx="110520" cy="51084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840"/>
                    <a:gd name="textAreaBottom" fmla="*/ 511200 h 5108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8275-7CDC-415D-A57F-9EC793ACED1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1440" y="58320"/>
              <a:ext cx="3628440" cy="6141240"/>
              <a:chOff x="5401440" y="58320"/>
              <a:chExt cx="3628440" cy="6141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4760" y="343080"/>
                <a:ext cx="2112480" cy="2355480"/>
              </a:xfrm>
              <a:custGeom>
                <a:avLst/>
                <a:gdLst>
                  <a:gd name="textAreaLeft" fmla="*/ 0 w 2112480"/>
                  <a:gd name="textAreaRight" fmla="*/ 2112840 w 2112480"/>
                  <a:gd name="textAreaTop" fmla="*/ -360 h 2355480"/>
                  <a:gd name="textAreaBottom" fmla="*/ 2355480 h 23554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3200" y="1962000"/>
                <a:ext cx="905040" cy="842400"/>
              </a:xfrm>
              <a:custGeom>
                <a:avLst/>
                <a:gdLst>
                  <a:gd name="textAreaLeft" fmla="*/ 0 w 905040"/>
                  <a:gd name="textAreaRight" fmla="*/ 905400 w 90504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8588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3280" y="668880"/>
                <a:ext cx="388080" cy="55044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-360 h 550440"/>
                  <a:gd name="textAreaBottom" fmla="*/ 550440 h 55044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120" y="265140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2320" y="124164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1720" y="2939040"/>
                <a:ext cx="522720" cy="3266640"/>
              </a:xfrm>
              <a:custGeom>
                <a:avLst/>
                <a:gdLst>
                  <a:gd name="textAreaLeft" fmla="*/ 0 w 522720"/>
                  <a:gd name="textAreaRight" fmla="*/ 523080 w 522720"/>
                  <a:gd name="textAreaTop" fmla="*/ 360 h 3266640"/>
                  <a:gd name="textAreaBottom" fmla="*/ 3267360 h 32666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>
                <a:gd name="textAreaLeft" fmla="*/ 0 w 1999080"/>
                <a:gd name="textAreaRight" fmla="*/ 1999440 w 199908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1000" y="303480"/>
              <a:ext cx="889560" cy="833040"/>
              <a:chOff x="5661000" y="303480"/>
              <a:chExt cx="889560" cy="8330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600" y="805680"/>
                <a:ext cx="178560" cy="36216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8600" y="47772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61120" y="40320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66080"/>
              <a:ext cx="1055160" cy="834120"/>
              <a:chOff x="969480" y="5266080"/>
              <a:chExt cx="10551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200" y="5525640"/>
                <a:ext cx="250920" cy="29916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45600"/>
                <a:ext cx="429840" cy="24840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90640"/>
                <a:ext cx="449280" cy="1263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3160"/>
              <a:ext cx="1690560" cy="1146600"/>
              <a:chOff x="375840" y="44316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164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868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088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8640" y="3712320"/>
              <a:ext cx="1156320" cy="1607760"/>
              <a:chOff x="738864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33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408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700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8353-1C49-480D-9412-40046D4A3D8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44000" cy="35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Презентация к внеклассному мероприятию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 ИГРА-ПУТЕШЕСТВИЕ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 «ТРОПИНКАМИ ЗДОРОВЬЯ»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Meiryo UI"/>
                <a:ea typeface="Meiryo UI"/>
              </a:rPr>
              <a:t>  </a:t>
            </a:r>
            <a:r>
              <a:rPr b="0" lang="ru-RU" sz="1800" spc="-1" strike="noStrike">
                <a:solidFill>
                  <a:srgbClr val="006666"/>
                </a:solidFill>
                <a:latin typeface="Meiryo UI"/>
                <a:ea typeface="Meiryo UI"/>
              </a:rPr>
              <a:t>подготовил учитель начальных классов МКОУ Копанская ООШ Россошанского муниципального района Воронежской области Орищенко Елена Ивановна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3" descr="imgpreviewCAQ3P6TP.jpg"/>
          <p:cNvPicPr/>
          <p:nvPr/>
        </p:nvPicPr>
        <p:blipFill>
          <a:blip r:embed="rId1"/>
          <a:stretch/>
        </p:blipFill>
        <p:spPr>
          <a:xfrm>
            <a:off x="1619280" y="1052640"/>
            <a:ext cx="5977080" cy="4464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9"/>
          <p:cNvSpPr/>
          <p:nvPr/>
        </p:nvSpPr>
        <p:spPr>
          <a:xfrm>
            <a:off x="1714680" y="285840"/>
            <a:ext cx="6286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ЧЁЛ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1"/>
          <p:cNvSpPr/>
          <p:nvPr/>
        </p:nvSpPr>
        <p:spPr>
          <a:xfrm>
            <a:off x="971640" y="1197000"/>
            <a:ext cx="7200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539640" y="530280"/>
            <a:ext cx="7848720" cy="54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just">
              <a:lnSpc>
                <a:spcPct val="9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Защищать уши от сильного шума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Защищать уши от ветра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ковырять в ушах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сморкаться сильно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допускать попадания воды в уши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Если уши заболели, обратиться к врачу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Правильно чистить уши: намыленным пальцем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Мыть уши каждый день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514440" indent="-51444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alibri"/>
                <a:ea typeface="Times New Roman"/>
              </a:rPr>
              <a:t>Каждое утро разминать ушную раковину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AATW2SWCAUW84FTCAE5FUYBCAJYB6W9CAWG42I7CAIWFYM4CALEJLT3CA02M164CAB30LOCCAIXAGYICABLZLUDCA1V5QDNCAC3X7ZFCAK8VFG4CADZTAYGCAK2E62BCA0KATZ2CA6COYCUCA5N6ZEQCAQB0C44.jpg"/>
          <p:cNvPicPr/>
          <p:nvPr/>
        </p:nvPicPr>
        <p:blipFill>
          <a:blip r:embed="rId1"/>
          <a:stretch/>
        </p:blipFill>
        <p:spPr>
          <a:xfrm>
            <a:off x="2214720" y="714240"/>
            <a:ext cx="50004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то из вас всегда готов жизнь прожить без докторов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971640" y="1557360"/>
            <a:ext cx="76327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то не хочет быть здоровым, бодрым стройным и весёлым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620280"/>
            <a:ext cx="824400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то из вас не ходит хмурый, любит спорт и физкультуру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1116000" y="3068640"/>
            <a:ext cx="698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549360"/>
            <a:ext cx="8244000" cy="33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то из вас не ходит хмурый, любит спорт и физкультуру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1763640" y="126432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мороза не боится, на коньках летит, как птица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6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Ну а кто начнет обед жвачкой с парою конфет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042920" y="973080"/>
            <a:ext cx="720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же любит помидоры, фрукты, овощи, лимоны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Comic Sans MS"/>
              </a:rPr>
              <a:t>В гости к леснику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9" name="Picture 10" descr="C:\Users\Орищенко ЕИ\Pictures\DSCF1267.jpg"/>
          <p:cNvPicPr/>
          <p:nvPr/>
        </p:nvPicPr>
        <p:blipFill>
          <a:blip r:embed="rId1"/>
          <a:stretch/>
        </p:blipFill>
        <p:spPr>
          <a:xfrm>
            <a:off x="1692360" y="2457360"/>
            <a:ext cx="57592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5003640" y="5734080"/>
            <a:ext cx="338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191280" y="5950080"/>
            <a:ext cx="2952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5435640" y="5373720"/>
            <a:ext cx="26654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971640" y="1196640"/>
            <a:ext cx="720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поел и чистит зубки регулярно дважды в сутки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3"/>
          <p:cNvSpPr/>
          <p:nvPr/>
        </p:nvSpPr>
        <p:spPr>
          <a:xfrm>
            <a:off x="5003640" y="5445000"/>
            <a:ext cx="316872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684360" y="122724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из вас, из малышей, ходит грязный до ушей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Oval 5"/>
          <p:cNvSpPr/>
          <p:nvPr/>
        </p:nvSpPr>
        <p:spPr>
          <a:xfrm>
            <a:off x="5076720" y="5805360"/>
            <a:ext cx="359892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116000" y="83340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 согласно распорядку выполняет физзарядку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3"/>
          <p:cNvSpPr/>
          <p:nvPr/>
        </p:nvSpPr>
        <p:spPr>
          <a:xfrm>
            <a:off x="5003640" y="5661000"/>
            <a:ext cx="288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11280" y="138276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2c30"/>
                </a:solidFill>
                <a:latin typeface="Tahoma"/>
                <a:ea typeface="Calibri"/>
              </a:rPr>
              <a:t>Кто, хочу у вас узнать, любит петь и отдыхать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6666"/>
                </a:solidFill>
                <a:latin typeface="Comic Sans MS"/>
              </a:rPr>
              <a:t>Молодцы!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сточни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http://images.yandex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http://viki.rdf.ru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http://fotki.yandex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http://plant.geoman.ru</a:t>
            </a:r>
            <a:r>
              <a:rPr b="0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http://forest.geoman.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Закрой глаза и прислушайся к окружающим тебя звукам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4" descr="природа"/>
          <p:cNvPicPr/>
          <p:nvPr/>
        </p:nvPicPr>
        <p:blipFill>
          <a:blip r:embed="rId1"/>
          <a:stretch/>
        </p:blipFill>
        <p:spPr>
          <a:xfrm>
            <a:off x="971640" y="2421000"/>
            <a:ext cx="727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БЕЛ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6" descr="C:\Users\Орищенко ЕИ\Pictures\0006-005-Belka.jpg"/>
          <p:cNvPicPr/>
          <p:nvPr/>
        </p:nvPicPr>
        <p:blipFill>
          <a:blip r:embed="rId1"/>
          <a:stretch/>
        </p:blipFill>
        <p:spPr>
          <a:xfrm>
            <a:off x="1714680" y="1844640"/>
            <a:ext cx="5715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ЗАЙ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8" descr="C:\Users\Орищенко ЕИ\Pictures\0003-002-Zajats.jpg"/>
          <p:cNvPicPr/>
          <p:nvPr/>
        </p:nvPicPr>
        <p:blipFill>
          <a:blip r:embed="rId1"/>
          <a:stretch/>
        </p:blipFill>
        <p:spPr>
          <a:xfrm>
            <a:off x="1116000" y="1844640"/>
            <a:ext cx="712800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305920" cy="606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</a:t>
            </a: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ерегите нос от ушибов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Не ковыряйте в носу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Не суйте в нос посторонние       предметы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Закаляйтесь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Берегите органы от простуды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*Не курите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УЛИТ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6" descr="C:\Users\Орищенко ЕИ\Pictures\ulitka06.jpg"/>
          <p:cNvPicPr/>
          <p:nvPr/>
        </p:nvPicPr>
        <p:blipFill>
          <a:blip r:embed="rId1"/>
          <a:stretch/>
        </p:blipFill>
        <p:spPr>
          <a:xfrm>
            <a:off x="1979640" y="2286000"/>
            <a:ext cx="48960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Verdana"/>
              </a:rPr>
              <a:t>Вредно или полезно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Читать лежа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мотреть на яркий свет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мотреть близко телевизор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берегать глаз от ударов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мывать по утрам глаза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ереть глаза грязными руками;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Читать при хорошем освещении.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468360" y="381240"/>
            <a:ext cx="813600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9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Умываться по утрам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Смотреть телевизор не более 1-1,5 часов вдень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Сидеть не ближе 3 м от телевизор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читать леж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Не читать в транспорте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Оберегать глаза от попаданий в них инородных предметов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При чтении и письме свет должен освещать страницу слев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Расстояние от глаз до текста рекомендуется 30-35 см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Times New Roman"/>
              </a:rPr>
              <a:t>Употреблять в пищу достаточное). количество растительных продуктов (морковь, лук, петрушку, помидоры, сладкий красный перец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DejaVu Sans"/>
              </a:rPr>
              <a:t>10.</a:t>
            </a:r>
            <a:r>
              <a:rPr b="1" lang="ru-RU" sz="2400" spc="-1" strike="noStrike">
                <a:solidFill>
                  <a:srgbClr val="006666"/>
                </a:solidFill>
                <a:latin typeface="Calibri"/>
                <a:ea typeface="DejaVu Sans"/>
              </a:rPr>
              <a:t>Делать гимнастику для глаз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4:42:35Z</dcterms:created>
  <dc:creator>***$USER$***</dc:creator>
  <dc:description/>
  <dc:language>en-US</dc:language>
  <cp:lastModifiedBy>Орищенко ЕИ</cp:lastModifiedBy>
  <dcterms:modified xsi:type="dcterms:W3CDTF">2014-01-24T08:13:48Z</dcterms:modified>
  <cp:revision>41</cp:revision>
  <dc:subject/>
  <dc:title>В гости к Смешарикам</dc:title>
</cp:coreProperties>
</file>