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4D9-342F-4A86-A2E8-0848C6DF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0CD-2E82-4B43-8742-97F86784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251-67C0-411A-BE9F-8EFFA001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1D5-CA46-4726-8EFD-45C8CAD4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FA3-6CB8-4DD0-A34A-E5901D44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9DB-3311-4B62-8CA1-FD392298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CCF-A3A0-48FF-A340-0CFCFE62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272-ADA8-4006-BCE0-5714DC19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AEA-2375-4C3A-8067-A6967E9A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1BD-36FA-4AFA-99BC-840A80D4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B77-9121-42D5-BFA0-8588DD50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4D5-311A-4354-8CCC-5DB59AFE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C8E1-8FD8-4F6F-BB19-1631E2C64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3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0_ae170_269a0ecc_L.png"/>
          <p:cNvPicPr/>
          <p:nvPr/>
        </p:nvPicPr>
        <p:blipFill>
          <a:blip r:embed="rId1"/>
          <a:stretch/>
        </p:blipFill>
        <p:spPr>
          <a:xfrm>
            <a:off x="324000" y="1989000"/>
            <a:ext cx="4176720" cy="380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2060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                                         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для учащихся 5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Состав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Муниципального  бюджетного  образовательного  учр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«Семьинская 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Юрьев-Польского района, Владими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Георгиевский Сергей Андрее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2014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-92160" y="79200"/>
            <a:ext cx="936468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 он решать задач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о считать собач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гемота – танцев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слона в футбол игр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учитель для звер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его скор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Дрессировщ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5-конечная звезда 4"/>
          <p:cNvSpPr/>
          <p:nvPr/>
        </p:nvSpPr>
        <p:spPr>
          <a:xfrm>
            <a:off x="7643880" y="5214960"/>
            <a:ext cx="1071360" cy="928800"/>
          </a:xfrm>
          <a:custGeom>
            <a:avLst/>
            <a:gdLst>
              <a:gd name="textAreaLeft" fmla="*/ 330840 w 1071360"/>
              <a:gd name="textAreaRight" fmla="*/ 740520 w 107136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71562" h="928687">
                <a:moveTo>
                  <a:pt x="1" y="354726"/>
                </a:moveTo>
                <a:lnTo>
                  <a:pt x="409303" y="354728"/>
                </a:lnTo>
                <a:lnTo>
                  <a:pt x="535781" y="0"/>
                </a:lnTo>
                <a:lnTo>
                  <a:pt x="662259" y="354728"/>
                </a:lnTo>
                <a:lnTo>
                  <a:pt x="1071561" y="354726"/>
                </a:lnTo>
                <a:lnTo>
                  <a:pt x="740428" y="573957"/>
                </a:lnTo>
                <a:lnTo>
                  <a:pt x="866912" y="928684"/>
                </a:lnTo>
                <a:lnTo>
                  <a:pt x="535781" y="709449"/>
                </a:lnTo>
                <a:lnTo>
                  <a:pt x="204650" y="928684"/>
                </a:lnTo>
                <a:lnTo>
                  <a:pt x="331134" y="57395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этой волшеб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й худож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кисти и краск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гребень и нож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Парикмахер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5-конечная звезда 3"/>
          <p:cNvSpPr/>
          <p:nvPr/>
        </p:nvSpPr>
        <p:spPr>
          <a:xfrm>
            <a:off x="7643880" y="5214960"/>
            <a:ext cx="1071360" cy="928800"/>
          </a:xfrm>
          <a:custGeom>
            <a:avLst/>
            <a:gdLst>
              <a:gd name="textAreaLeft" fmla="*/ 330840 w 1071360"/>
              <a:gd name="textAreaRight" fmla="*/ 740520 w 107136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71562" h="928687">
                <a:moveTo>
                  <a:pt x="1" y="354726"/>
                </a:moveTo>
                <a:lnTo>
                  <a:pt x="409303" y="354728"/>
                </a:lnTo>
                <a:lnTo>
                  <a:pt x="535781" y="0"/>
                </a:lnTo>
                <a:lnTo>
                  <a:pt x="662259" y="354728"/>
                </a:lnTo>
                <a:lnTo>
                  <a:pt x="1071561" y="354726"/>
                </a:lnTo>
                <a:lnTo>
                  <a:pt x="740428" y="573957"/>
                </a:lnTo>
                <a:lnTo>
                  <a:pt x="866912" y="928684"/>
                </a:lnTo>
                <a:lnTo>
                  <a:pt x="535781" y="709449"/>
                </a:lnTo>
                <a:lnTo>
                  <a:pt x="204650" y="928684"/>
                </a:lnTo>
                <a:lnTo>
                  <a:pt x="331134" y="57395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работе день-деньск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 командует рук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нимает та р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о пудов под обла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Крановщи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5-конечная звезда 3">
            <a:hlinkClick r:id="rId1" action="ppaction://hlinksldjump"/>
          </p:cNvPr>
          <p:cNvSpPr/>
          <p:nvPr/>
        </p:nvSpPr>
        <p:spPr>
          <a:xfrm>
            <a:off x="7715160" y="5000760"/>
            <a:ext cx="928800" cy="928440"/>
          </a:xfrm>
          <a:custGeom>
            <a:avLst/>
            <a:gdLst>
              <a:gd name="textAreaLeft" fmla="*/ 286920 w 928800"/>
              <a:gd name="textAreaRight" fmla="*/ 641880 w 92880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928688" h="928688">
                <a:moveTo>
                  <a:pt x="1" y="354726"/>
                </a:moveTo>
                <a:lnTo>
                  <a:pt x="354729" y="354729"/>
                </a:lnTo>
                <a:lnTo>
                  <a:pt x="464344" y="0"/>
                </a:lnTo>
                <a:lnTo>
                  <a:pt x="573959" y="354729"/>
                </a:lnTo>
                <a:lnTo>
                  <a:pt x="928687" y="354726"/>
                </a:lnTo>
                <a:lnTo>
                  <a:pt x="641705" y="573958"/>
                </a:lnTo>
                <a:lnTo>
                  <a:pt x="751325" y="928685"/>
                </a:lnTo>
                <a:lnTo>
                  <a:pt x="464344" y="709450"/>
                </a:lnTo>
                <a:lnTo>
                  <a:pt x="177363" y="928685"/>
                </a:lnTo>
                <a:lnTo>
                  <a:pt x="286983" y="573958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леб ржаной, батоны, бу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добудешь на прогул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юди хлеб в полях лелеют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л для хлеба не жалею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Хлеборо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5-конечная звезда 3">
            <a:hlinkClick r:id="rId1" action="ppaction://hlinksldjump"/>
          </p:cNvPr>
          <p:cNvSpPr/>
          <p:nvPr/>
        </p:nvSpPr>
        <p:spPr>
          <a:xfrm>
            <a:off x="7786800" y="4857840"/>
            <a:ext cx="1000080" cy="11430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000125" h="1143000">
                <a:moveTo>
                  <a:pt x="1" y="436586"/>
                </a:moveTo>
                <a:lnTo>
                  <a:pt x="382016" y="436589"/>
                </a:lnTo>
                <a:lnTo>
                  <a:pt x="500063" y="0"/>
                </a:lnTo>
                <a:lnTo>
                  <a:pt x="618109" y="436589"/>
                </a:lnTo>
                <a:lnTo>
                  <a:pt x="1000124" y="436586"/>
                </a:lnTo>
                <a:lnTo>
                  <a:pt x="691066" y="706409"/>
                </a:lnTo>
                <a:lnTo>
                  <a:pt x="809118" y="1142996"/>
                </a:lnTo>
                <a:lnTo>
                  <a:pt x="500063" y="873168"/>
                </a:lnTo>
                <a:lnTo>
                  <a:pt x="191007" y="1142996"/>
                </a:lnTo>
                <a:lnTo>
                  <a:pt x="309059" y="706409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виженья плавны, ловки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занимать сноровк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лошади подков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гновенье и готов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 Кузнец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5-конечная звезда 3">
            <a:hlinkClick r:id="rId1" action="ppaction://hlinksldjump"/>
          </p:cNvPr>
          <p:cNvSpPr/>
          <p:nvPr/>
        </p:nvSpPr>
        <p:spPr>
          <a:xfrm>
            <a:off x="7643880" y="47149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зеркальном на катк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единственном коньк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 проехался разок —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распался весь като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Стеклорез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5-конечная звезда 3">
            <a:hlinkClick r:id="rId1" action="ppaction://hlinksldjump"/>
          </p:cNvPr>
          <p:cNvSpPr/>
          <p:nvPr/>
        </p:nvSpPr>
        <p:spPr>
          <a:xfrm>
            <a:off x="7715160" y="4929120"/>
            <a:ext cx="928800" cy="1000080"/>
          </a:xfrm>
          <a:custGeom>
            <a:avLst/>
            <a:gdLst>
              <a:gd name="textAreaLeft" fmla="*/ 286920 w 928800"/>
              <a:gd name="textAreaRight" fmla="*/ 641880 w 92880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928688" h="1000125">
                <a:moveTo>
                  <a:pt x="1" y="382013"/>
                </a:moveTo>
                <a:lnTo>
                  <a:pt x="354729" y="382015"/>
                </a:lnTo>
                <a:lnTo>
                  <a:pt x="464344" y="0"/>
                </a:lnTo>
                <a:lnTo>
                  <a:pt x="573959" y="382015"/>
                </a:lnTo>
                <a:lnTo>
                  <a:pt x="928687" y="382013"/>
                </a:lnTo>
                <a:lnTo>
                  <a:pt x="641705" y="618108"/>
                </a:lnTo>
                <a:lnTo>
                  <a:pt x="751325" y="1000122"/>
                </a:lnTo>
                <a:lnTo>
                  <a:pt x="464344" y="764022"/>
                </a:lnTo>
                <a:lnTo>
                  <a:pt x="177363" y="1000122"/>
                </a:lnTo>
                <a:lnTo>
                  <a:pt x="286983" y="61810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у людей всегда в ходу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оть мой характер кру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де надо стукнуть — я приду, 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дь мой ударный тру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Молоток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5-конечная звезда 3">
            <a:hlinkClick r:id="rId1" action="ppaction://hlinksldjump"/>
          </p:cNvPr>
          <p:cNvSpPr/>
          <p:nvPr/>
        </p:nvSpPr>
        <p:spPr>
          <a:xfrm>
            <a:off x="7715160" y="500076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25" h="1000125">
                <a:moveTo>
                  <a:pt x="1" y="382013"/>
                </a:moveTo>
                <a:lnTo>
                  <a:pt x="382016" y="382015"/>
                </a:lnTo>
                <a:lnTo>
                  <a:pt x="500063" y="0"/>
                </a:lnTo>
                <a:lnTo>
                  <a:pt x="618109" y="382015"/>
                </a:lnTo>
                <a:lnTo>
                  <a:pt x="1000124" y="382013"/>
                </a:lnTo>
                <a:lnTo>
                  <a:pt x="691066" y="618108"/>
                </a:lnTo>
                <a:lnTo>
                  <a:pt x="809118" y="1000122"/>
                </a:lnTo>
                <a:lnTo>
                  <a:pt x="500063" y="764022"/>
                </a:lnTo>
                <a:lnTo>
                  <a:pt x="191007" y="1000122"/>
                </a:lnTo>
                <a:lnTo>
                  <a:pt x="309059" y="61810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т каменный круг —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струментам лучший друг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звихрит искры над собою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трым сделает тупо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Точил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5-конечная звезда 4">
            <a:hlinkClick r:id="rId1" action="ppaction://hlinksldjump"/>
          </p:cNvPr>
          <p:cNvSpPr/>
          <p:nvPr/>
        </p:nvSpPr>
        <p:spPr>
          <a:xfrm>
            <a:off x="7786800" y="5000760"/>
            <a:ext cx="928440" cy="928440"/>
          </a:xfrm>
          <a:custGeom>
            <a:avLst/>
            <a:gdLst>
              <a:gd name="textAreaLeft" fmla="*/ 286920 w 928440"/>
              <a:gd name="textAreaRight" fmla="*/ 641520 w 92844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928687" h="928688">
                <a:moveTo>
                  <a:pt x="1" y="354726"/>
                </a:moveTo>
                <a:lnTo>
                  <a:pt x="354729" y="354729"/>
                </a:lnTo>
                <a:lnTo>
                  <a:pt x="464344" y="0"/>
                </a:lnTo>
                <a:lnTo>
                  <a:pt x="573958" y="354729"/>
                </a:lnTo>
                <a:lnTo>
                  <a:pt x="928686" y="354726"/>
                </a:lnTo>
                <a:lnTo>
                  <a:pt x="641704" y="573958"/>
                </a:lnTo>
                <a:lnTo>
                  <a:pt x="751324" y="928685"/>
                </a:lnTo>
                <a:lnTo>
                  <a:pt x="464344" y="709450"/>
                </a:lnTo>
                <a:lnTo>
                  <a:pt x="177363" y="928685"/>
                </a:lnTo>
                <a:lnTo>
                  <a:pt x="286983" y="57395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за слово, угада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 в нём — загадк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—нот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ая-иг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ое встретится у столяр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олот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5-конечная звезда 3"/>
          <p:cNvSpPr/>
          <p:nvPr/>
        </p:nvSpPr>
        <p:spPr>
          <a:xfrm>
            <a:off x="7929720" y="5143680"/>
            <a:ext cx="857160" cy="857160"/>
          </a:xfrm>
          <a:custGeom>
            <a:avLst/>
            <a:gdLst>
              <a:gd name="textAreaLeft" fmla="*/ 264960 w 857160"/>
              <a:gd name="textAreaRight" fmla="*/ 592200 w 85716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857250" h="857250">
                <a:moveTo>
                  <a:pt x="1" y="327439"/>
                </a:moveTo>
                <a:lnTo>
                  <a:pt x="327442" y="327442"/>
                </a:lnTo>
                <a:lnTo>
                  <a:pt x="428625" y="0"/>
                </a:lnTo>
                <a:lnTo>
                  <a:pt x="529808" y="327442"/>
                </a:lnTo>
                <a:lnTo>
                  <a:pt x="857249" y="327439"/>
                </a:lnTo>
                <a:lnTo>
                  <a:pt x="592342" y="529807"/>
                </a:lnTo>
                <a:lnTo>
                  <a:pt x="693530" y="857247"/>
                </a:lnTo>
                <a:lnTo>
                  <a:pt x="428625" y="654876"/>
                </a:lnTo>
                <a:lnTo>
                  <a:pt x="163720" y="857247"/>
                </a:lnTo>
                <a:lnTo>
                  <a:pt x="264908" y="52980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любопытный инструмент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ю всё в один момент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зде сую свой нос вит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кну дыру в стен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узнать, а что на т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тной стороне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верл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5-конечная звезда 3"/>
          <p:cNvSpPr/>
          <p:nvPr/>
        </p:nvSpPr>
        <p:spPr>
          <a:xfrm>
            <a:off x="7643880" y="4929120"/>
            <a:ext cx="1071360" cy="1071720"/>
          </a:xfrm>
          <a:custGeom>
            <a:avLst/>
            <a:gdLst>
              <a:gd name="textAreaLeft" fmla="*/ 330840 w 1071360"/>
              <a:gd name="textAreaRight" fmla="*/ 740520 w 1071360"/>
              <a:gd name="textAreaTop" fmla="*/ 409320 h 1071720"/>
              <a:gd name="textAreaBottom" fmla="*/ 818640 h 1071720"/>
            </a:gdLst>
            <a:ahLst/>
            <a:rect l="textAreaLeft" t="textAreaTop" r="textAreaRight" b="textAreaBottom"/>
            <a:pathLst>
              <a:path w="1071562" h="1071562">
                <a:moveTo>
                  <a:pt x="1" y="409299"/>
                </a:moveTo>
                <a:lnTo>
                  <a:pt x="409303" y="409302"/>
                </a:lnTo>
                <a:lnTo>
                  <a:pt x="535781" y="0"/>
                </a:lnTo>
                <a:lnTo>
                  <a:pt x="662259" y="409302"/>
                </a:lnTo>
                <a:lnTo>
                  <a:pt x="1071561" y="409299"/>
                </a:lnTo>
                <a:lnTo>
                  <a:pt x="740428" y="662258"/>
                </a:lnTo>
                <a:lnTo>
                  <a:pt x="866912" y="1071558"/>
                </a:lnTo>
                <a:lnTo>
                  <a:pt x="535781" y="818595"/>
                </a:lnTo>
                <a:lnTo>
                  <a:pt x="204650" y="1071558"/>
                </a:lnTo>
                <a:lnTo>
                  <a:pt x="331134" y="66225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Группа 40"/>
          <p:cNvGrpSpPr/>
          <p:nvPr/>
        </p:nvGrpSpPr>
        <p:grpSpPr>
          <a:xfrm>
            <a:off x="344520" y="851040"/>
            <a:ext cx="8475480" cy="4947480"/>
            <a:chOff x="344520" y="851040"/>
            <a:chExt cx="8475480" cy="4947480"/>
          </a:xfrm>
        </p:grpSpPr>
        <p:sp>
          <p:nvSpPr>
            <p:cNvPr id="45" name="Скругленный прямоугольник 3"/>
            <p:cNvSpPr/>
            <p:nvPr/>
          </p:nvSpPr>
          <p:spPr>
            <a:xfrm>
              <a:off x="357480" y="220824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Скругленный прямоугольник 6"/>
            <p:cNvSpPr/>
            <p:nvPr/>
          </p:nvSpPr>
          <p:spPr>
            <a:xfrm>
              <a:off x="357480" y="471420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Скругленный прямоугольник 7"/>
            <p:cNvSpPr/>
            <p:nvPr/>
          </p:nvSpPr>
          <p:spPr>
            <a:xfrm>
              <a:off x="344520" y="851040"/>
              <a:ext cx="257148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ословицы и поговор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 труд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Скругленный прямоугольник 8"/>
            <p:cNvSpPr/>
            <p:nvPr/>
          </p:nvSpPr>
          <p:spPr>
            <a:xfrm>
              <a:off x="357480" y="349416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0"/>
            <p:cNvSpPr/>
            <p:nvPr/>
          </p:nvSpPr>
          <p:spPr>
            <a:xfrm>
              <a:off x="571680" y="2279520"/>
              <a:ext cx="207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Загадки о  профессия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1"/>
            <p:cNvSpPr/>
            <p:nvPr/>
          </p:nvSpPr>
          <p:spPr>
            <a:xfrm>
              <a:off x="643320" y="3637080"/>
              <a:ext cx="20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Загадки об инструмент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2"/>
            <p:cNvSpPr/>
            <p:nvPr/>
          </p:nvSpPr>
          <p:spPr>
            <a:xfrm>
              <a:off x="643320" y="4851360"/>
              <a:ext cx="2142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Загадки-обман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Скругленный прямоугольник 15"/>
            <p:cNvSpPr/>
            <p:nvPr/>
          </p:nvSpPr>
          <p:spPr>
            <a:xfrm>
              <a:off x="32148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Скругленный прямоугольник 17"/>
            <p:cNvSpPr/>
            <p:nvPr/>
          </p:nvSpPr>
          <p:spPr>
            <a:xfrm>
              <a:off x="414324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Скругленный прямоугольник 18"/>
            <p:cNvSpPr/>
            <p:nvPr/>
          </p:nvSpPr>
          <p:spPr>
            <a:xfrm>
              <a:off x="5076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Скругленный прямоугольник 19"/>
            <p:cNvSpPr/>
            <p:nvPr/>
          </p:nvSpPr>
          <p:spPr>
            <a:xfrm>
              <a:off x="6084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3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Скругленный прямоугольник 20"/>
            <p:cNvSpPr/>
            <p:nvPr/>
          </p:nvSpPr>
          <p:spPr>
            <a:xfrm>
              <a:off x="7020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Скругленный прямоугольник 21"/>
            <p:cNvSpPr/>
            <p:nvPr/>
          </p:nvSpPr>
          <p:spPr>
            <a:xfrm>
              <a:off x="7956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Скругленный прямоугольник 22"/>
            <p:cNvSpPr/>
            <p:nvPr/>
          </p:nvSpPr>
          <p:spPr>
            <a:xfrm>
              <a:off x="3214800" y="22082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Скругленный прямоугольник 23"/>
            <p:cNvSpPr/>
            <p:nvPr/>
          </p:nvSpPr>
          <p:spPr>
            <a:xfrm>
              <a:off x="3214800" y="349416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Скругленный прямоугольник 24"/>
            <p:cNvSpPr/>
            <p:nvPr/>
          </p:nvSpPr>
          <p:spPr>
            <a:xfrm>
              <a:off x="4214880" y="22082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Скругленный прямоугольник 25"/>
            <p:cNvSpPr/>
            <p:nvPr/>
          </p:nvSpPr>
          <p:spPr>
            <a:xfrm>
              <a:off x="5148000" y="2202480"/>
              <a:ext cx="797040" cy="1071360"/>
            </a:xfrm>
            <a:custGeom>
              <a:avLst/>
              <a:gdLst>
                <a:gd name="textAreaLeft" fmla="*/ 38880 w 797040"/>
                <a:gd name="textAreaRight" fmla="*/ 758160 w 797040"/>
                <a:gd name="textAreaTop" fmla="*/ 38880 h 1071360"/>
                <a:gd name="textAreaBottom" fmla="*/ 1032480 h 107136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9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Скругленный прямоугольник 26"/>
            <p:cNvSpPr/>
            <p:nvPr/>
          </p:nvSpPr>
          <p:spPr>
            <a:xfrm>
              <a:off x="6143400" y="220248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0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Скругленный прямоугольник 27"/>
            <p:cNvSpPr/>
            <p:nvPr/>
          </p:nvSpPr>
          <p:spPr>
            <a:xfrm>
              <a:off x="7072200" y="220248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Скругленный прямоугольник 28"/>
            <p:cNvSpPr/>
            <p:nvPr/>
          </p:nvSpPr>
          <p:spPr>
            <a:xfrm>
              <a:off x="8028000" y="220248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2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Скругленный прямоугольник 29"/>
            <p:cNvSpPr/>
            <p:nvPr/>
          </p:nvSpPr>
          <p:spPr>
            <a:xfrm>
              <a:off x="4214880" y="349416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Скругленный прямоугольник 30"/>
            <p:cNvSpPr/>
            <p:nvPr/>
          </p:nvSpPr>
          <p:spPr>
            <a:xfrm>
              <a:off x="521496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4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Скругленный прямоугольник 31"/>
            <p:cNvSpPr/>
            <p:nvPr/>
          </p:nvSpPr>
          <p:spPr>
            <a:xfrm>
              <a:off x="615600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5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Скругленный прямоугольник 32"/>
            <p:cNvSpPr/>
            <p:nvPr/>
          </p:nvSpPr>
          <p:spPr>
            <a:xfrm>
              <a:off x="709200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6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Скругленный прямоугольник 33"/>
            <p:cNvSpPr/>
            <p:nvPr/>
          </p:nvSpPr>
          <p:spPr>
            <a:xfrm>
              <a:off x="802800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7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Скругленный прямоугольник 34"/>
            <p:cNvSpPr/>
            <p:nvPr/>
          </p:nvSpPr>
          <p:spPr>
            <a:xfrm>
              <a:off x="3214800" y="4722840"/>
              <a:ext cx="857160" cy="1071360"/>
            </a:xfrm>
            <a:custGeom>
              <a:avLst/>
              <a:gdLst>
                <a:gd name="textAreaLeft" fmla="*/ 41760 w 857160"/>
                <a:gd name="textAreaRight" fmla="*/ 815400 w 857160"/>
                <a:gd name="textAreaTop" fmla="*/ 41760 h 1071360"/>
                <a:gd name="textAreaBottom" fmla="*/ 1029600 h 1071360"/>
              </a:gdLst>
              <a:ahLst/>
              <a:rect l="textAreaLeft" t="textAreaTop" r="textAreaRight" b="textAreaBottom"/>
              <a:pathLst>
                <a:path w="21600" h="26995">
                  <a:moveTo>
                    <a:pt x="3600" y="0"/>
                  </a:moveTo>
                  <a:arcTo wR="3600" hR="3600" stAng="16200000" swAng="-5400000"/>
                  <a:lnTo>
                    <a:pt x="0" y="23395"/>
                  </a:lnTo>
                  <a:arcTo wR="3600" hR="3600" stAng="10800000" swAng="-5400000"/>
                  <a:lnTo>
                    <a:pt x="18000" y="2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8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Скругленный прямоугольник 35"/>
            <p:cNvSpPr/>
            <p:nvPr/>
          </p:nvSpPr>
          <p:spPr>
            <a:xfrm>
              <a:off x="4214880" y="4722840"/>
              <a:ext cx="857160" cy="1071360"/>
            </a:xfrm>
            <a:custGeom>
              <a:avLst/>
              <a:gdLst>
                <a:gd name="textAreaLeft" fmla="*/ 41760 w 857160"/>
                <a:gd name="textAreaRight" fmla="*/ 815400 w 857160"/>
                <a:gd name="textAreaTop" fmla="*/ 41760 h 1071360"/>
                <a:gd name="textAreaBottom" fmla="*/ 1029600 h 1071360"/>
              </a:gdLst>
              <a:ahLst/>
              <a:rect l="textAreaLeft" t="textAreaTop" r="textAreaRight" b="textAreaBottom"/>
              <a:pathLst>
                <a:path w="21600" h="26995">
                  <a:moveTo>
                    <a:pt x="3600" y="0"/>
                  </a:moveTo>
                  <a:arcTo wR="3600" hR="3600" stAng="16200000" swAng="-5400000"/>
                  <a:lnTo>
                    <a:pt x="0" y="23395"/>
                  </a:lnTo>
                  <a:arcTo wR="3600" hR="3600" stAng="10800000" swAng="-5400000"/>
                  <a:lnTo>
                    <a:pt x="18000" y="2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9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Скругленный прямоугольник 36"/>
            <p:cNvSpPr/>
            <p:nvPr/>
          </p:nvSpPr>
          <p:spPr>
            <a:xfrm>
              <a:off x="5214960" y="4722840"/>
              <a:ext cx="797040" cy="1071360"/>
            </a:xfrm>
            <a:custGeom>
              <a:avLst/>
              <a:gdLst>
                <a:gd name="textAreaLeft" fmla="*/ 38880 w 797040"/>
                <a:gd name="textAreaRight" fmla="*/ 758160 w 797040"/>
                <a:gd name="textAreaTop" fmla="*/ 38880 h 1071360"/>
                <a:gd name="textAreaBottom" fmla="*/ 1032480 h 107136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0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Скругленный прямоугольник 37"/>
            <p:cNvSpPr/>
            <p:nvPr/>
          </p:nvSpPr>
          <p:spPr>
            <a:xfrm>
              <a:off x="6156000" y="4722840"/>
              <a:ext cx="792000" cy="10713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1071360"/>
                <a:gd name="textAreaBottom" fmla="*/ 1032840 h 107136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Скругленный прямоугольник 38"/>
            <p:cNvSpPr/>
            <p:nvPr/>
          </p:nvSpPr>
          <p:spPr>
            <a:xfrm>
              <a:off x="7092000" y="4722840"/>
              <a:ext cx="792000" cy="10713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1071360"/>
                <a:gd name="textAreaBottom" fmla="*/ 1032840 h 107136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2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Скругленный прямоугольник 39"/>
            <p:cNvSpPr/>
            <p:nvPr/>
          </p:nvSpPr>
          <p:spPr>
            <a:xfrm>
              <a:off x="8028000" y="4722840"/>
              <a:ext cx="792000" cy="10713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1071360"/>
                <a:gd name="textAreaBottom" fmla="*/ 1032840 h 107136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3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46"/>
            <p:cNvSpPr/>
            <p:nvPr/>
          </p:nvSpPr>
          <p:spPr>
            <a:xfrm>
              <a:off x="3357720" y="993600"/>
              <a:ext cx="428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4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конька у горбун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ревянные бок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него из-под копы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ужка белая бежи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Рубанок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5-конечная звезда 3"/>
          <p:cNvSpPr/>
          <p:nvPr/>
        </p:nvSpPr>
        <p:spPr>
          <a:xfrm>
            <a:off x="7643880" y="492912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25" h="1000125">
                <a:moveTo>
                  <a:pt x="1" y="382013"/>
                </a:moveTo>
                <a:lnTo>
                  <a:pt x="382016" y="382015"/>
                </a:lnTo>
                <a:lnTo>
                  <a:pt x="500063" y="0"/>
                </a:lnTo>
                <a:lnTo>
                  <a:pt x="618109" y="382015"/>
                </a:lnTo>
                <a:lnTo>
                  <a:pt x="1000124" y="382013"/>
                </a:lnTo>
                <a:lnTo>
                  <a:pt x="691066" y="618108"/>
                </a:lnTo>
                <a:lnTo>
                  <a:pt x="809118" y="1000122"/>
                </a:lnTo>
                <a:lnTo>
                  <a:pt x="500063" y="764022"/>
                </a:lnTo>
                <a:lnTo>
                  <a:pt x="191007" y="1000122"/>
                </a:lnTo>
                <a:lnTo>
                  <a:pt x="309059" y="61810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улки нам и кал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ждый день пекут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врачи, а пекар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5-конечная звезда 3"/>
          <p:cNvSpPr/>
          <p:nvPr/>
        </p:nvSpPr>
        <p:spPr>
          <a:xfrm>
            <a:off x="8001000" y="5143680"/>
            <a:ext cx="928800" cy="857160"/>
          </a:xfrm>
          <a:custGeom>
            <a:avLst/>
            <a:gdLst>
              <a:gd name="textAreaLeft" fmla="*/ 286920 w 928800"/>
              <a:gd name="textAreaRight" fmla="*/ 641880 w 92880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928688" h="857250">
                <a:moveTo>
                  <a:pt x="1" y="327439"/>
                </a:moveTo>
                <a:lnTo>
                  <a:pt x="354729" y="327442"/>
                </a:lnTo>
                <a:lnTo>
                  <a:pt x="464344" y="0"/>
                </a:lnTo>
                <a:lnTo>
                  <a:pt x="573959" y="327442"/>
                </a:lnTo>
                <a:lnTo>
                  <a:pt x="928687" y="327439"/>
                </a:lnTo>
                <a:lnTo>
                  <a:pt x="641705" y="529807"/>
                </a:lnTo>
                <a:lnTo>
                  <a:pt x="751325" y="857247"/>
                </a:lnTo>
                <a:lnTo>
                  <a:pt x="464344" y="654876"/>
                </a:lnTo>
                <a:lnTo>
                  <a:pt x="177363" y="857247"/>
                </a:lnTo>
                <a:lnTo>
                  <a:pt x="286983" y="5298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1468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ладки, карманы и ровненький кант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атье красивое сшил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музыкант, а портно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5-конечная звезда 3"/>
          <p:cNvSpPr/>
          <p:nvPr/>
        </p:nvSpPr>
        <p:spPr>
          <a:xfrm>
            <a:off x="7500960" y="492912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25" h="1000125">
                <a:moveTo>
                  <a:pt x="1" y="382013"/>
                </a:moveTo>
                <a:lnTo>
                  <a:pt x="382016" y="382015"/>
                </a:lnTo>
                <a:lnTo>
                  <a:pt x="500063" y="0"/>
                </a:lnTo>
                <a:lnTo>
                  <a:pt x="618109" y="382015"/>
                </a:lnTo>
                <a:lnTo>
                  <a:pt x="1000124" y="382013"/>
                </a:lnTo>
                <a:lnTo>
                  <a:pt x="691066" y="618108"/>
                </a:lnTo>
                <a:lnTo>
                  <a:pt x="809118" y="1000122"/>
                </a:lnTo>
                <a:lnTo>
                  <a:pt x="500063" y="764022"/>
                </a:lnTo>
                <a:lnTo>
                  <a:pt x="191007" y="1000122"/>
                </a:lnTo>
                <a:lnTo>
                  <a:pt x="309059" y="61810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ёрный весь, как будто грач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нашей крыши лезет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врач, а трубочис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5-конечная звезда 3"/>
          <p:cNvSpPr/>
          <p:nvPr/>
        </p:nvSpPr>
        <p:spPr>
          <a:xfrm>
            <a:off x="7643880" y="5143680"/>
            <a:ext cx="1214280" cy="928440"/>
          </a:xfrm>
          <a:custGeom>
            <a:avLst/>
            <a:gdLst>
              <a:gd name="textAreaLeft" fmla="*/ 375120 w 1214280"/>
              <a:gd name="textAreaRight" fmla="*/ 839160 w 121428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1214437" h="928688">
                <a:moveTo>
                  <a:pt x="1" y="354726"/>
                </a:moveTo>
                <a:lnTo>
                  <a:pt x="463876" y="354729"/>
                </a:lnTo>
                <a:lnTo>
                  <a:pt x="607219" y="0"/>
                </a:lnTo>
                <a:lnTo>
                  <a:pt x="750561" y="354729"/>
                </a:lnTo>
                <a:lnTo>
                  <a:pt x="1214436" y="354726"/>
                </a:lnTo>
                <a:lnTo>
                  <a:pt x="839151" y="573958"/>
                </a:lnTo>
                <a:lnTo>
                  <a:pt x="982501" y="928685"/>
                </a:lnTo>
                <a:lnTo>
                  <a:pt x="607219" y="709450"/>
                </a:lnTo>
                <a:lnTo>
                  <a:pt x="231936" y="928685"/>
                </a:lnTo>
                <a:lnTo>
                  <a:pt x="375286" y="573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заводах по три см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станков стоят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спортсмены, а рабочи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5-конечная звезда 3"/>
          <p:cNvSpPr/>
          <p:nvPr/>
        </p:nvSpPr>
        <p:spPr>
          <a:xfrm>
            <a:off x="7643880" y="4929120"/>
            <a:ext cx="857160" cy="1000080"/>
          </a:xfrm>
          <a:custGeom>
            <a:avLst/>
            <a:gdLst>
              <a:gd name="textAreaLeft" fmla="*/ 264960 w 857160"/>
              <a:gd name="textAreaRight" fmla="*/ 592200 w 85716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857250" h="1000125">
                <a:moveTo>
                  <a:pt x="1" y="382013"/>
                </a:moveTo>
                <a:lnTo>
                  <a:pt x="327442" y="382015"/>
                </a:lnTo>
                <a:lnTo>
                  <a:pt x="428625" y="0"/>
                </a:lnTo>
                <a:lnTo>
                  <a:pt x="529808" y="382015"/>
                </a:lnTo>
                <a:lnTo>
                  <a:pt x="857249" y="382013"/>
                </a:lnTo>
                <a:lnTo>
                  <a:pt x="592342" y="618108"/>
                </a:lnTo>
                <a:lnTo>
                  <a:pt x="693530" y="1000122"/>
                </a:lnTo>
                <a:lnTo>
                  <a:pt x="428625" y="764022"/>
                </a:lnTo>
                <a:lnTo>
                  <a:pt x="163720" y="1000122"/>
                </a:lnTo>
                <a:lnTo>
                  <a:pt x="264908" y="61810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 куполом цирка в опасный полё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правится смелый и сильный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пилот, а воздушный гимнас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5-конечная звезда 3"/>
          <p:cNvSpPr/>
          <p:nvPr/>
        </p:nvSpPr>
        <p:spPr>
          <a:xfrm>
            <a:off x="7715160" y="5000760"/>
            <a:ext cx="1071720" cy="92844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1071563" h="928688">
                <a:moveTo>
                  <a:pt x="1" y="354726"/>
                </a:moveTo>
                <a:lnTo>
                  <a:pt x="409303" y="354729"/>
                </a:lnTo>
                <a:lnTo>
                  <a:pt x="535782" y="0"/>
                </a:lnTo>
                <a:lnTo>
                  <a:pt x="662260" y="354729"/>
                </a:lnTo>
                <a:lnTo>
                  <a:pt x="1071562" y="354726"/>
                </a:lnTo>
                <a:lnTo>
                  <a:pt x="740428" y="573958"/>
                </a:lnTo>
                <a:lnTo>
                  <a:pt x="866913" y="928685"/>
                </a:lnTo>
                <a:lnTo>
                  <a:pt x="535782" y="709450"/>
                </a:lnTo>
                <a:lnTo>
                  <a:pt x="204650" y="928685"/>
                </a:lnTo>
                <a:lnTo>
                  <a:pt x="331135" y="573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садить новые саженцы в ель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нова отправится утром наш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мельник, а лесни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5-конечная звезда 3"/>
          <p:cNvSpPr/>
          <p:nvPr/>
        </p:nvSpPr>
        <p:spPr>
          <a:xfrm>
            <a:off x="8001000" y="5000760"/>
            <a:ext cx="857160" cy="928440"/>
          </a:xfrm>
          <a:custGeom>
            <a:avLst/>
            <a:gdLst>
              <a:gd name="textAreaLeft" fmla="*/ 264960 w 857160"/>
              <a:gd name="textAreaRight" fmla="*/ 592200 w 85716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857250" h="928688">
                <a:moveTo>
                  <a:pt x="1" y="354726"/>
                </a:moveTo>
                <a:lnTo>
                  <a:pt x="327442" y="354729"/>
                </a:lnTo>
                <a:lnTo>
                  <a:pt x="428625" y="0"/>
                </a:lnTo>
                <a:lnTo>
                  <a:pt x="529808" y="354729"/>
                </a:lnTo>
                <a:lnTo>
                  <a:pt x="857249" y="354726"/>
                </a:lnTo>
                <a:lnTo>
                  <a:pt x="592342" y="573958"/>
                </a:lnTo>
                <a:lnTo>
                  <a:pt x="693530" y="928685"/>
                </a:lnTo>
                <a:lnTo>
                  <a:pt x="428625" y="709450"/>
                </a:lnTo>
                <a:lnTo>
                  <a:pt x="163720" y="928685"/>
                </a:lnTo>
                <a:lnTo>
                  <a:pt x="264908" y="573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www.vsezagadki.ru/2010/11/zagadki-o-trude/    - загадки о профессиях и инструм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riddle-middle.ru/pogovorki_i_poslovicy/trud/  - пословицы и поговорки о тру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еревья смотри в плодах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 людей смотри в дел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5-конечная звезда 3">
            <a:hlinkClick r:id="rId1" action="ppaction://hlinksldjump"/>
          </p:cNvPr>
          <p:cNvSpPr/>
          <p:nvPr/>
        </p:nvSpPr>
        <p:spPr>
          <a:xfrm>
            <a:off x="6929280" y="5214960"/>
            <a:ext cx="857520" cy="714240"/>
          </a:xfrm>
          <a:custGeom>
            <a:avLst/>
            <a:gdLst>
              <a:gd name="textAreaLeft" fmla="*/ 264960 w 857520"/>
              <a:gd name="textAreaRight" fmla="*/ 592560 w 857520"/>
              <a:gd name="textAreaTop" fmla="*/ 272880 h 714240"/>
              <a:gd name="textAreaBottom" fmla="*/ 545760 h 714240"/>
            </a:gdLst>
            <a:ahLst/>
            <a:rect l="textAreaLeft" t="textAreaTop" r="textAreaRight" b="textAreaBottom"/>
            <a:pathLst>
              <a:path w="857250" h="714375">
                <a:moveTo>
                  <a:pt x="1" y="272866"/>
                </a:moveTo>
                <a:lnTo>
                  <a:pt x="327442" y="272868"/>
                </a:lnTo>
                <a:lnTo>
                  <a:pt x="428625" y="0"/>
                </a:lnTo>
                <a:lnTo>
                  <a:pt x="529808" y="272868"/>
                </a:lnTo>
                <a:lnTo>
                  <a:pt x="857249" y="272866"/>
                </a:lnTo>
                <a:lnTo>
                  <a:pt x="592342" y="441506"/>
                </a:lnTo>
                <a:lnTo>
                  <a:pt x="693530" y="714373"/>
                </a:lnTo>
                <a:lnTo>
                  <a:pt x="428625" y="545730"/>
                </a:lnTo>
                <a:lnTo>
                  <a:pt x="163720" y="714373"/>
                </a:lnTo>
                <a:lnTo>
                  <a:pt x="264908" y="4415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тицу узнают в полёт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 человека в работ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5-конечная звезда 3">
            <a:hlinkClick r:id="rId1" action="ppaction://hlinksldjump"/>
          </p:cNvPr>
          <p:cNvSpPr/>
          <p:nvPr/>
        </p:nvSpPr>
        <p:spPr>
          <a:xfrm>
            <a:off x="7429680" y="5143680"/>
            <a:ext cx="928440" cy="857160"/>
          </a:xfrm>
          <a:custGeom>
            <a:avLst/>
            <a:gdLst>
              <a:gd name="textAreaLeft" fmla="*/ 286920 w 928440"/>
              <a:gd name="textAreaRight" fmla="*/ 641520 w 92844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928688" h="857250">
                <a:moveTo>
                  <a:pt x="1" y="327439"/>
                </a:moveTo>
                <a:lnTo>
                  <a:pt x="354729" y="327442"/>
                </a:lnTo>
                <a:lnTo>
                  <a:pt x="464344" y="0"/>
                </a:lnTo>
                <a:lnTo>
                  <a:pt x="573959" y="327442"/>
                </a:lnTo>
                <a:lnTo>
                  <a:pt x="928687" y="327439"/>
                </a:lnTo>
                <a:lnTo>
                  <a:pt x="641705" y="529807"/>
                </a:lnTo>
                <a:lnTo>
                  <a:pt x="751325" y="857247"/>
                </a:lnTo>
                <a:lnTo>
                  <a:pt x="464344" y="654876"/>
                </a:lnTo>
                <a:lnTo>
                  <a:pt x="177363" y="857247"/>
                </a:lnTo>
                <a:lnTo>
                  <a:pt x="286983" y="52980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лазам страшно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 руки делаю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5-конечная звезда 3">
            <a:hlinkClick r:id="rId1" action="ppaction://hlinksldjump"/>
          </p:cNvPr>
          <p:cNvSpPr/>
          <p:nvPr/>
        </p:nvSpPr>
        <p:spPr>
          <a:xfrm>
            <a:off x="7358040" y="5000760"/>
            <a:ext cx="1071720" cy="100008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71562" h="1000125">
                <a:moveTo>
                  <a:pt x="1" y="382013"/>
                </a:moveTo>
                <a:lnTo>
                  <a:pt x="409303" y="382015"/>
                </a:lnTo>
                <a:lnTo>
                  <a:pt x="535781" y="0"/>
                </a:lnTo>
                <a:lnTo>
                  <a:pt x="662259" y="382015"/>
                </a:lnTo>
                <a:lnTo>
                  <a:pt x="1071561" y="382013"/>
                </a:lnTo>
                <a:lnTo>
                  <a:pt x="740428" y="618108"/>
                </a:lnTo>
                <a:lnTo>
                  <a:pt x="866912" y="1000122"/>
                </a:lnTo>
                <a:lnTo>
                  <a:pt x="535781" y="764022"/>
                </a:lnTo>
                <a:lnTo>
                  <a:pt x="204650" y="1000122"/>
                </a:lnTo>
                <a:lnTo>
                  <a:pt x="331134" y="61810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аленькое дело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учше большого бездель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5-конечная звезда 3">
            <a:hlinkClick r:id="rId1" action="ppaction://hlinksldjump"/>
          </p:cNvPr>
          <p:cNvSpPr/>
          <p:nvPr/>
        </p:nvSpPr>
        <p:spPr>
          <a:xfrm>
            <a:off x="7572240" y="5143680"/>
            <a:ext cx="857520" cy="714240"/>
          </a:xfrm>
          <a:custGeom>
            <a:avLst/>
            <a:gdLst>
              <a:gd name="textAreaLeft" fmla="*/ 264960 w 857520"/>
              <a:gd name="textAreaRight" fmla="*/ 592560 w 857520"/>
              <a:gd name="textAreaTop" fmla="*/ 272880 h 714240"/>
              <a:gd name="textAreaBottom" fmla="*/ 545760 h 714240"/>
            </a:gdLst>
            <a:ahLst/>
            <a:rect l="textAreaLeft" t="textAreaTop" r="textAreaRight" b="textAreaBottom"/>
            <a:pathLst>
              <a:path w="857250" h="714375">
                <a:moveTo>
                  <a:pt x="1" y="272866"/>
                </a:moveTo>
                <a:lnTo>
                  <a:pt x="327442" y="272868"/>
                </a:lnTo>
                <a:lnTo>
                  <a:pt x="428625" y="0"/>
                </a:lnTo>
                <a:lnTo>
                  <a:pt x="529808" y="272868"/>
                </a:lnTo>
                <a:lnTo>
                  <a:pt x="857249" y="272866"/>
                </a:lnTo>
                <a:lnTo>
                  <a:pt x="592342" y="441506"/>
                </a:lnTo>
                <a:lnTo>
                  <a:pt x="693530" y="714373"/>
                </a:lnTo>
                <a:lnTo>
                  <a:pt x="428625" y="545730"/>
                </a:lnTo>
                <a:lnTo>
                  <a:pt x="163720" y="714373"/>
                </a:lnTo>
                <a:lnTo>
                  <a:pt x="264908" y="4415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коро сказка сказывается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а не скоро дело делается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5-конечная звезда 3">
            <a:hlinkClick r:id="rId1" action="ppaction://hlinksldjump"/>
          </p:cNvPr>
          <p:cNvSpPr/>
          <p:nvPr/>
        </p:nvSpPr>
        <p:spPr>
          <a:xfrm>
            <a:off x="7429680" y="5429160"/>
            <a:ext cx="1000080" cy="7146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272880 h 714600"/>
              <a:gd name="textAreaBottom" fmla="*/ 546120 h 714600"/>
            </a:gdLst>
            <a:ahLst/>
            <a:rect l="textAreaLeft" t="textAreaTop" r="textAreaRight" b="textAreaBottom"/>
            <a:pathLst>
              <a:path w="1000125" h="714375">
                <a:moveTo>
                  <a:pt x="1" y="272866"/>
                </a:moveTo>
                <a:lnTo>
                  <a:pt x="382016" y="272868"/>
                </a:lnTo>
                <a:lnTo>
                  <a:pt x="500063" y="0"/>
                </a:lnTo>
                <a:lnTo>
                  <a:pt x="618109" y="272868"/>
                </a:lnTo>
                <a:lnTo>
                  <a:pt x="1000124" y="272866"/>
                </a:lnTo>
                <a:lnTo>
                  <a:pt x="691066" y="441506"/>
                </a:lnTo>
                <a:lnTo>
                  <a:pt x="809118" y="714373"/>
                </a:lnTo>
                <a:lnTo>
                  <a:pt x="500063" y="545730"/>
                </a:lnTo>
                <a:lnTo>
                  <a:pt x="191007" y="714373"/>
                </a:lnTo>
                <a:lnTo>
                  <a:pt x="309059" y="4415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ыла бы охота 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удет ладиться работ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5-конечная звезда 5">
            <a:hlinkClick r:id="rId1" action="ppaction://hlinksldjump"/>
          </p:cNvPr>
          <p:cNvSpPr/>
          <p:nvPr/>
        </p:nvSpPr>
        <p:spPr>
          <a:xfrm>
            <a:off x="7429680" y="4714920"/>
            <a:ext cx="1000080" cy="9288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8" y="928685"/>
                </a:lnTo>
                <a:lnTo>
                  <a:pt x="500063" y="709450"/>
                </a:lnTo>
                <a:lnTo>
                  <a:pt x="191007" y="928685"/>
                </a:lnTo>
                <a:lnTo>
                  <a:pt x="309059" y="57395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т на краешке с опаск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железо красит краской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го в руке ведро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 раскрашен он пестр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аля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5-конечная звезда 3">
            <a:hlinkClick r:id="rId1" action="ppaction://hlinksldjump"/>
          </p:cNvPr>
          <p:cNvSpPr/>
          <p:nvPr/>
        </p:nvSpPr>
        <p:spPr>
          <a:xfrm>
            <a:off x="7715160" y="5143680"/>
            <a:ext cx="785880" cy="857160"/>
          </a:xfrm>
          <a:custGeom>
            <a:avLst/>
            <a:gdLst>
              <a:gd name="textAreaLeft" fmla="*/ 242640 w 785880"/>
              <a:gd name="textAreaRight" fmla="*/ 543240 w 78588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785813" h="857250">
                <a:moveTo>
                  <a:pt x="1" y="327439"/>
                </a:moveTo>
                <a:lnTo>
                  <a:pt x="300156" y="327442"/>
                </a:lnTo>
                <a:lnTo>
                  <a:pt x="392907" y="0"/>
                </a:lnTo>
                <a:lnTo>
                  <a:pt x="485657" y="327442"/>
                </a:lnTo>
                <a:lnTo>
                  <a:pt x="785812" y="327439"/>
                </a:lnTo>
                <a:lnTo>
                  <a:pt x="542981" y="529807"/>
                </a:lnTo>
                <a:lnTo>
                  <a:pt x="635736" y="857247"/>
                </a:lnTo>
                <a:lnTo>
                  <a:pt x="392907" y="654876"/>
                </a:lnTo>
                <a:lnTo>
                  <a:pt x="150077" y="857247"/>
                </a:lnTo>
                <a:lnTo>
                  <a:pt x="242832" y="52980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14:16:56Z</dcterms:created>
  <dc:creator>1</dc:creator>
  <dc:description/>
  <dc:language>en-US</dc:language>
  <cp:lastModifiedBy>Ёля</cp:lastModifiedBy>
  <dcterms:modified xsi:type="dcterms:W3CDTF">2014-02-05T17:00:05Z</dcterms:modified>
  <cp:revision>25</cp:revision>
  <dc:subject/>
  <dc:title>Слайд 1</dc:title>
</cp:coreProperties>
</file>