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5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AE0-AC56-45B8-B1C5-ADCAFBC6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206-7986-4FF7-9D5D-CF52F081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1D8-85A2-4CF3-9790-88829344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991-9AAD-4378-AC86-6D193664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4119-8D14-42B8-A0BD-B59DC90D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8096-FC82-4F8D-B1FF-D8900ECF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0736-5600-4488-9FE0-19E987D1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A118-60A3-4F09-B357-FC7E6DEB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D6EE-8E50-46A6-A105-A822548D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85A2-22B3-48C4-8929-AC5528C3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F553-7605-4E37-B760-2347F498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AB5-849F-48D8-A5D1-9C7015BC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8E6D-C7C3-4F03-B011-7A5C93E1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9305-96A4-4312-BF5D-A8AD7488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AF73-8CFF-4E41-82D6-EF3A9DAB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3A3A-B251-426F-9689-FBE1D573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CA9F-C893-4C91-B820-CD1E8073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4D3-C6AF-46AD-9CAA-CD87997F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7AF-4231-42E2-A38F-A2269703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424-B194-48CC-B62C-5E23312E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860-9C85-4FED-8452-0236FCD6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1A6-505D-400E-B0D2-F8CEBC90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8F3-DE93-4100-BDC3-5FCEB318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730-B2DB-410D-9EFA-5057DE1D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3274-7EBC-40C5-9FD1-67A39710260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EC90-342F-4ABB-B834-D22123564C5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19040" y="2285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Культура  и искусство первой половины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XX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век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2" descr="081f17fe8e28"/>
          <p:cNvPicPr/>
          <p:nvPr/>
        </p:nvPicPr>
        <p:blipFill>
          <a:blip r:embed="rId1"/>
          <a:stretch/>
        </p:blipFill>
        <p:spPr>
          <a:xfrm>
            <a:off x="457200" y="380880"/>
            <a:ext cx="1789200" cy="213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568240"/>
          <p:cNvPicPr/>
          <p:nvPr/>
        </p:nvPicPr>
        <p:blipFill>
          <a:blip r:embed="rId2"/>
          <a:stretch/>
        </p:blipFill>
        <p:spPr>
          <a:xfrm>
            <a:off x="6858000" y="304920"/>
            <a:ext cx="1657440" cy="2209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847440"/>
          <p:cNvPicPr/>
          <p:nvPr/>
        </p:nvPicPr>
        <p:blipFill>
          <a:blip r:embed="rId3"/>
          <a:stretch/>
        </p:blipFill>
        <p:spPr>
          <a:xfrm>
            <a:off x="3581280" y="304920"/>
            <a:ext cx="198936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File:AubreyBeardsley-Hollyer1.jpg"/>
          <p:cNvPicPr/>
          <p:nvPr/>
        </p:nvPicPr>
        <p:blipFill>
          <a:blip r:embed="rId4"/>
          <a:stretch/>
        </p:blipFill>
        <p:spPr>
          <a:xfrm>
            <a:off x="228600" y="4572000"/>
            <a:ext cx="2514600" cy="212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С фотографии Этьена Каржа"/>
          <p:cNvPicPr/>
          <p:nvPr/>
        </p:nvPicPr>
        <p:blipFill>
          <a:blip r:embed="rId5"/>
          <a:stretch/>
        </p:blipFill>
        <p:spPr>
          <a:xfrm>
            <a:off x="7162920" y="4343400"/>
            <a:ext cx="17031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 начале 20 века по- иному были поставлены проблемы изучения человеческого созн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 конце 19 – начале 20 века в странах Европы и США получила развитие социология – наука о различных сторонах развития обществ и общественного поведения люд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Verdana"/>
              </a:rPr>
              <a:t>1 период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Verdana"/>
              </a:rPr>
              <a:t>( 1900-1914 гг.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лучил название             « декаданс» - упадо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ризис – это элемент роста, развития, сочетающий в себе отмирание старого и рождение новог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ремя взлётов, талантов, новых ид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2 пери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20-30- е год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лияние оказали совершенно новые явления и событ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Фашизм и нарастающая угроза войны способствовала оттоку творческой интеллиген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Худ. мир переселился в Нью - Йор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10840" y="358560"/>
            <a:ext cx="8350200" cy="10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Особенности художественной культу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одернизм -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о условное обозначение периода культуры конца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– середины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века от импрессионизма до театра абсурд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но из крупнейших направлений в искусстве (в литературе, музыке и живописи), возникшее во Франции в 1870-80-х гг. и достигшее наибольшего развития на рубеже XIX и XX веков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0840" y="358560"/>
            <a:ext cx="8350200" cy="10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3b76"/>
                </a:solidFill>
                <a:latin typeface="Arial"/>
              </a:rPr>
              <a:t>Символизм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 "/>
          <p:cNvPicPr/>
          <p:nvPr/>
        </p:nvPicPr>
        <p:blipFill>
          <a:blip r:embed="rId1"/>
          <a:stretch/>
        </p:blipFill>
        <p:spPr>
          <a:xfrm>
            <a:off x="380880" y="1600200"/>
            <a:ext cx="2238480" cy="3048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510840" y="358560"/>
            <a:ext cx="8350200" cy="10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Представители символизм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Picture 13" descr="i-1464"/>
          <p:cNvPicPr/>
          <p:nvPr/>
        </p:nvPicPr>
        <p:blipFill>
          <a:blip r:embed="rId2"/>
          <a:stretch/>
        </p:blipFill>
        <p:spPr>
          <a:xfrm>
            <a:off x="3733920" y="1600200"/>
            <a:ext cx="2465280" cy="30099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5"/>
          <p:cNvSpPr/>
          <p:nvPr/>
        </p:nvSpPr>
        <p:spPr>
          <a:xfrm>
            <a:off x="228600" y="4419720"/>
            <a:ext cx="2286000" cy="8380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М. Вагнер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музы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3657600" y="4495680"/>
            <a:ext cx="259092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Ш. Бодле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19" descr="0_6cc4f_7652b354_XL"/>
          <p:cNvPicPr/>
          <p:nvPr/>
        </p:nvPicPr>
        <p:blipFill>
          <a:blip r:embed="rId3"/>
          <a:stretch/>
        </p:blipFill>
        <p:spPr>
          <a:xfrm>
            <a:off x="6477120" y="1600200"/>
            <a:ext cx="2263680" cy="2895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0"/>
          <p:cNvSpPr/>
          <p:nvPr/>
        </p:nvSpPr>
        <p:spPr>
          <a:xfrm>
            <a:off x="6324480" y="4495680"/>
            <a:ext cx="259092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П. Верле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AutoShape 22"/>
          <p:cNvSpPr/>
          <p:nvPr/>
        </p:nvSpPr>
        <p:spPr>
          <a:xfrm>
            <a:off x="4876920" y="5029200"/>
            <a:ext cx="2743200" cy="762120"/>
          </a:xfrm>
          <a:prstGeom prst="upArrowCallout">
            <a:avLst>
              <a:gd name="adj1" fmla="val 89994"/>
              <a:gd name="adj2" fmla="val 89986"/>
              <a:gd name="adj3" fmla="val 16667"/>
              <a:gd name="adj4" fmla="val 6666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)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редполагает сочетание реального и таинственного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, социального и индивидуального, обращение к мифам, поиск мистического откров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)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В основе – симво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)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Центром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был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культ Вечной Женственности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как символ и земной образ высшего совершен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10840" y="358560"/>
            <a:ext cx="8350200" cy="10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Черты символиз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0160" y="189000"/>
            <a:ext cx="8421840" cy="687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Художники – символист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8" name="Picture 16" descr="Beardsley-peacockskirt"/>
          <p:cNvPicPr/>
          <p:nvPr/>
        </p:nvPicPr>
        <p:blipFill>
          <a:blip r:embed="rId1"/>
          <a:stretch/>
        </p:blipFill>
        <p:spPr>
          <a:xfrm>
            <a:off x="6469200" y="2971800"/>
            <a:ext cx="2674800" cy="36576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8"/>
          <p:cNvSpPr/>
          <p:nvPr/>
        </p:nvSpPr>
        <p:spPr>
          <a:xfrm>
            <a:off x="152280" y="4952880"/>
            <a:ext cx="3276720" cy="91440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Одри Бердсле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( Англия)</a:t>
            </a: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8" descr="File:AubreyBeardsley-Hollyer1.jpg"/>
          <p:cNvPicPr/>
          <p:nvPr/>
        </p:nvPicPr>
        <p:blipFill>
          <a:blip r:embed="rId2"/>
          <a:stretch/>
        </p:blipFill>
        <p:spPr>
          <a:xfrm>
            <a:off x="152280" y="2035080"/>
            <a:ext cx="3295800" cy="27860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8"/>
          <p:cNvSpPr/>
          <p:nvPr/>
        </p:nvSpPr>
        <p:spPr>
          <a:xfrm>
            <a:off x="5715000" y="6172200"/>
            <a:ext cx="3429000" cy="533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 Павлинья юбк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11" descr="File:RapeLock7Cave of Spleen.jpeg"/>
          <p:cNvPicPr/>
          <p:nvPr/>
        </p:nvPicPr>
        <p:blipFill>
          <a:blip r:embed="rId3"/>
          <a:stretch/>
        </p:blipFill>
        <p:spPr>
          <a:xfrm>
            <a:off x="3657600" y="990720"/>
            <a:ext cx="2674800" cy="3809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8"/>
          <p:cNvSpPr/>
          <p:nvPr/>
        </p:nvSpPr>
        <p:spPr>
          <a:xfrm>
            <a:off x="3505320" y="4648320"/>
            <a:ext cx="3429000" cy="53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Пещера сплин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96720" y="206280"/>
            <a:ext cx="8350200" cy="10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Художники – символист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17" descr="puvis07"/>
          <p:cNvPicPr/>
          <p:nvPr/>
        </p:nvPicPr>
        <p:blipFill>
          <a:blip r:embed="rId1"/>
          <a:stretch/>
        </p:blipFill>
        <p:spPr>
          <a:xfrm>
            <a:off x="5181480" y="1447920"/>
            <a:ext cx="3630600" cy="5067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8"/>
          <p:cNvSpPr/>
          <p:nvPr/>
        </p:nvSpPr>
        <p:spPr>
          <a:xfrm>
            <a:off x="0" y="4952880"/>
            <a:ext cx="4724280" cy="9907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Пюви де Шаван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( Франция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5181480" y="6172200"/>
            <a:ext cx="358164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Смерть и девушки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9" descr="С фотографии Этьена Каржа"/>
          <p:cNvPicPr/>
          <p:nvPr/>
        </p:nvPicPr>
        <p:blipFill>
          <a:blip r:embed="rId2"/>
          <a:stretch/>
        </p:blipFill>
        <p:spPr>
          <a:xfrm>
            <a:off x="838080" y="1371600"/>
            <a:ext cx="25765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96720" y="206280"/>
            <a:ext cx="8350200" cy="10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Художники – символист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10" descr="Золотая Адель :: Гюстав Климт"/>
          <p:cNvPicPr/>
          <p:nvPr/>
        </p:nvPicPr>
        <p:blipFill>
          <a:blip r:embed="rId1"/>
          <a:stretch/>
        </p:blipFill>
        <p:spPr>
          <a:xfrm>
            <a:off x="425520" y="1295280"/>
            <a:ext cx="3479760" cy="358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Фриз Бетховена, Wandgem :: Густав Климт ( Австрия )"/>
          <p:cNvPicPr/>
          <p:nvPr/>
        </p:nvPicPr>
        <p:blipFill>
          <a:blip r:embed="rId2"/>
          <a:stretch/>
        </p:blipFill>
        <p:spPr>
          <a:xfrm>
            <a:off x="5486400" y="1333440"/>
            <a:ext cx="3162240" cy="41911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3"/>
          <p:cNvSpPr/>
          <p:nvPr/>
        </p:nvSpPr>
        <p:spPr>
          <a:xfrm>
            <a:off x="228600" y="4952880"/>
            <a:ext cx="3886200" cy="106704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Густав Клим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( Австрия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160" y="189000"/>
            <a:ext cx="8498160" cy="687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Художники – символист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16" descr="File:Arnold Boecklin - Island of the Dead, Third Version.JPG"/>
          <p:cNvPicPr/>
          <p:nvPr/>
        </p:nvPicPr>
        <p:blipFill>
          <a:blip r:embed="rId1"/>
          <a:stretch/>
        </p:blipFill>
        <p:spPr>
          <a:xfrm>
            <a:off x="3657600" y="914400"/>
            <a:ext cx="5029200" cy="2765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Автопортрет. 1877—1876"/>
          <p:cNvPicPr/>
          <p:nvPr/>
        </p:nvPicPr>
        <p:blipFill>
          <a:blip r:embed="rId2"/>
          <a:stretch/>
        </p:blipFill>
        <p:spPr>
          <a:xfrm>
            <a:off x="304920" y="1523880"/>
            <a:ext cx="3254400" cy="40388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3"/>
          <p:cNvSpPr/>
          <p:nvPr/>
        </p:nvSpPr>
        <p:spPr>
          <a:xfrm>
            <a:off x="152280" y="5105520"/>
            <a:ext cx="3886200" cy="10666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Арнольд Бёкл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( Германия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10" descr="File:Arnold Böcklin 003.jpg"/>
          <p:cNvPicPr/>
          <p:nvPr/>
        </p:nvPicPr>
        <p:blipFill>
          <a:blip r:embed="rId3"/>
          <a:stretch/>
        </p:blipFill>
        <p:spPr>
          <a:xfrm>
            <a:off x="6324480" y="3624120"/>
            <a:ext cx="2581560" cy="3233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8"/>
          <p:cNvSpPr/>
          <p:nvPr/>
        </p:nvSpPr>
        <p:spPr>
          <a:xfrm>
            <a:off x="4419720" y="990720"/>
            <a:ext cx="3200400" cy="53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Остров мёртвых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6477120" y="6324480"/>
            <a:ext cx="2666880" cy="533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Весн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урока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есь с основными направлениями развития западного искусств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е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мся с открытиями в области естествозна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им место культуры в жизни человек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35"/>
          <p:cNvPicPr/>
          <p:nvPr/>
        </p:nvPicPr>
        <p:blipFill>
          <a:blip r:embed="rId1"/>
          <a:stretch/>
        </p:blipFill>
        <p:spPr>
          <a:xfrm>
            <a:off x="228600" y="1523880"/>
            <a:ext cx="2743200" cy="2011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0_9fa8_d8d9f1e0_XL"/>
          <p:cNvPicPr/>
          <p:nvPr/>
        </p:nvPicPr>
        <p:blipFill>
          <a:blip r:embed="rId2"/>
          <a:stretch/>
        </p:blipFill>
        <p:spPr>
          <a:xfrm>
            <a:off x="6248520" y="1523880"/>
            <a:ext cx="2690640" cy="2017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1"/>
          <p:cNvPicPr/>
          <p:nvPr/>
        </p:nvPicPr>
        <p:blipFill>
          <a:blip r:embed="rId3"/>
          <a:stretch/>
        </p:blipFill>
        <p:spPr>
          <a:xfrm>
            <a:off x="228600" y="41911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cinema"/>
          <p:cNvPicPr/>
          <p:nvPr/>
        </p:nvPicPr>
        <p:blipFill>
          <a:blip r:embed="rId4"/>
          <a:stretch/>
        </p:blipFill>
        <p:spPr>
          <a:xfrm>
            <a:off x="3429000" y="2133720"/>
            <a:ext cx="2444760" cy="3495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statue_39-05"/>
          <p:cNvPicPr/>
          <p:nvPr/>
        </p:nvPicPr>
        <p:blipFill>
          <a:blip r:embed="rId5"/>
          <a:stretch/>
        </p:blipFill>
        <p:spPr>
          <a:xfrm>
            <a:off x="6248520" y="4191120"/>
            <a:ext cx="2685960" cy="2189160"/>
          </a:xfrm>
          <a:prstGeom prst="rect">
            <a:avLst/>
          </a:prstGeom>
          <a:ln w="0">
            <a:noFill/>
          </a:ln>
        </p:spPr>
      </p:pic>
      <p:pic>
        <p:nvPicPr>
          <p:cNvPr id="235" name="vrvpered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2"/>
          <p:cNvSpPr/>
          <p:nvPr/>
        </p:nvSpPr>
        <p:spPr>
          <a:xfrm>
            <a:off x="343080" y="152280"/>
            <a:ext cx="8458200" cy="1113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Кинематограф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акс Линде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арольд Ллой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8" descr=" "/>
          <p:cNvPicPr/>
          <p:nvPr/>
        </p:nvPicPr>
        <p:blipFill>
          <a:blip r:embed="rId1"/>
          <a:stretch/>
        </p:blipFill>
        <p:spPr>
          <a:xfrm>
            <a:off x="457200" y="22096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did"/>
          <p:cNvPicPr/>
          <p:nvPr/>
        </p:nvPicPr>
        <p:blipFill>
          <a:blip r:embed="rId2"/>
          <a:stretch/>
        </p:blipFill>
        <p:spPr>
          <a:xfrm>
            <a:off x="3276720" y="39625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lloyd"/>
          <p:cNvPicPr/>
          <p:nvPr/>
        </p:nvPicPr>
        <p:blipFill>
          <a:blip r:embed="rId3"/>
          <a:stretch/>
        </p:blipFill>
        <p:spPr>
          <a:xfrm>
            <a:off x="5943600" y="25909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3"/>
          <p:cNvSpPr/>
          <p:nvPr/>
        </p:nvSpPr>
        <p:spPr>
          <a:xfrm>
            <a:off x="3352680" y="3246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ндре Ди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343080" y="152280"/>
            <a:ext cx="8458200" cy="1113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Первые комик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правление, появившееся в последней трети XIX века, стремящееся передать неуловимые изменения в природе, движение света в воздухе, писали дробными мазкам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43080" y="152280"/>
            <a:ext cx="8458200" cy="1113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Импрессиониз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Импрессионист Э. Ма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9" descr="File:Edouard Manet 049.jpg"/>
          <p:cNvPicPr/>
          <p:nvPr/>
        </p:nvPicPr>
        <p:blipFill>
          <a:blip r:embed="rId1"/>
          <a:stretch/>
        </p:blipFill>
        <p:spPr>
          <a:xfrm>
            <a:off x="304920" y="1752480"/>
            <a:ext cx="3306600" cy="4343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Мальчик с вишнями"/>
          <p:cNvPicPr/>
          <p:nvPr/>
        </p:nvPicPr>
        <p:blipFill>
          <a:blip r:embed="rId2"/>
          <a:stretch/>
        </p:blipFill>
        <p:spPr>
          <a:xfrm>
            <a:off x="4572000" y="1523880"/>
            <a:ext cx="3532320" cy="42674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"/>
          <p:cNvSpPr/>
          <p:nvPr/>
        </p:nvSpPr>
        <p:spPr>
          <a:xfrm>
            <a:off x="0" y="6172200"/>
            <a:ext cx="4267080" cy="53352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Arial"/>
              </a:rPr>
              <a:t>« Портрет Эмиля Золя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4267080" y="5715000"/>
            <a:ext cx="4267440" cy="53352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Arial"/>
              </a:rPr>
              <a:t>« Мальчик в красном 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12640" y="207360"/>
            <a:ext cx="8118720" cy="1029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Импрессионист Э. Дег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7" descr="Edgar Germain Hilaire Degas 076.jpg"/>
          <p:cNvPicPr/>
          <p:nvPr/>
        </p:nvPicPr>
        <p:blipFill>
          <a:blip r:embed="rId1"/>
          <a:stretch/>
        </p:blipFill>
        <p:spPr>
          <a:xfrm>
            <a:off x="152280" y="2133720"/>
            <a:ext cx="4199040" cy="4343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File:Edgar Germain Hilaire Degas 021.jpg"/>
          <p:cNvPicPr/>
          <p:nvPr/>
        </p:nvPicPr>
        <p:blipFill>
          <a:blip r:embed="rId2"/>
          <a:stretch/>
        </p:blipFill>
        <p:spPr>
          <a:xfrm>
            <a:off x="4952880" y="12193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152280" y="5791320"/>
            <a:ext cx="41148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Голубы́е танцо́вщицы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4572000" y="5410080"/>
            <a:ext cx="43434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 Урок танцев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419720" y="144756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ранцузский живописец, график и скульптор, один из основных представител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мпрессионизма. Ренуар известен в первую очередь как мастер светского портрета, не лишённого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нтиментальности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Picture 8" descr="File:PARenoir.jpg"/>
          <p:cNvPicPr/>
          <p:nvPr/>
        </p:nvPicPr>
        <p:blipFill>
          <a:blip r:embed="rId1"/>
          <a:stretch/>
        </p:blipFill>
        <p:spPr>
          <a:xfrm>
            <a:off x="304920" y="457200"/>
            <a:ext cx="3814560" cy="50292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9"/>
          <p:cNvSpPr/>
          <p:nvPr/>
        </p:nvSpPr>
        <p:spPr>
          <a:xfrm>
            <a:off x="304920" y="5486400"/>
            <a:ext cx="4114800" cy="91440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Огюст Ренуа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8" descr="Pierre-Auguste Renoir - Nature morte au bouquet.jpg"/>
          <p:cNvPicPr/>
          <p:nvPr/>
        </p:nvPicPr>
        <p:blipFill>
          <a:blip r:embed="rId1"/>
          <a:stretch/>
        </p:blipFill>
        <p:spPr>
          <a:xfrm>
            <a:off x="0" y="533520"/>
            <a:ext cx="4330800" cy="5486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Pierre-Auguste Renoir, Le Moulin de la Galette.jpg"/>
          <p:cNvPicPr/>
          <p:nvPr/>
        </p:nvPicPr>
        <p:blipFill>
          <a:blip r:embed="rId2"/>
          <a:stretch/>
        </p:blipFill>
        <p:spPr>
          <a:xfrm>
            <a:off x="4572000" y="304920"/>
            <a:ext cx="4343400" cy="323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File:Pierre-Auguste Renoir 021.jpg"/>
          <p:cNvPicPr/>
          <p:nvPr/>
        </p:nvPicPr>
        <p:blipFill>
          <a:blip r:embed="rId3"/>
          <a:stretch/>
        </p:blipFill>
        <p:spPr>
          <a:xfrm>
            <a:off x="4572000" y="3657600"/>
            <a:ext cx="43434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266720" y="53352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французский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живописец, один из первых и наиболе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следовательных представителей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импрессионизма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Picture 8" descr="File:Camille Pissarro 040.jpg"/>
          <p:cNvPicPr/>
          <p:nvPr/>
        </p:nvPicPr>
        <p:blipFill>
          <a:blip r:embed="rId1"/>
          <a:stretch/>
        </p:blipFill>
        <p:spPr>
          <a:xfrm>
            <a:off x="228600" y="380880"/>
            <a:ext cx="4027320" cy="49435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304920" y="5334120"/>
            <a:ext cx="4114800" cy="91440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Камиль Писсарр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9" descr="File:Camille Pissarro 007.jpg"/>
          <p:cNvPicPr/>
          <p:nvPr/>
        </p:nvPicPr>
        <p:blipFill>
          <a:blip r:embed="rId1"/>
          <a:stretch/>
        </p:blipFill>
        <p:spPr>
          <a:xfrm>
            <a:off x="324000" y="380880"/>
            <a:ext cx="8496000" cy="58546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0"/>
          <p:cNvSpPr/>
          <p:nvPr/>
        </p:nvSpPr>
        <p:spPr>
          <a:xfrm>
            <a:off x="457200" y="5943600"/>
            <a:ext cx="8077320" cy="91440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 Бульвар Монмартр в Париже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266720" y="1599840"/>
            <a:ext cx="4496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французский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живописец, один из основателей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импрессионизм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8" name="Picture 9" descr="File:Claude Monet 1899 Nadar.jpg"/>
          <p:cNvPicPr/>
          <p:nvPr/>
        </p:nvPicPr>
        <p:blipFill>
          <a:blip r:embed="rId1"/>
          <a:stretch/>
        </p:blipFill>
        <p:spPr>
          <a:xfrm>
            <a:off x="304920" y="380880"/>
            <a:ext cx="3468600" cy="56390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0"/>
          <p:cNvSpPr/>
          <p:nvPr/>
        </p:nvSpPr>
        <p:spPr>
          <a:xfrm>
            <a:off x="304920" y="6019920"/>
            <a:ext cx="3809880" cy="83808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од Мо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волюция в естествознании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художественной культуры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имволиз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8" descr="File:RouenCathedral Monet 1894.jpg"/>
          <p:cNvPicPr/>
          <p:nvPr/>
        </p:nvPicPr>
        <p:blipFill>
          <a:blip r:embed="rId1"/>
          <a:stretch/>
        </p:blipFill>
        <p:spPr>
          <a:xfrm>
            <a:off x="304920" y="228600"/>
            <a:ext cx="3395520" cy="4780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Beach at Pourville.jpg"/>
          <p:cNvPicPr/>
          <p:nvPr/>
        </p:nvPicPr>
        <p:blipFill>
          <a:blip r:embed="rId2"/>
          <a:stretch/>
        </p:blipFill>
        <p:spPr>
          <a:xfrm>
            <a:off x="3962520" y="1447920"/>
            <a:ext cx="4952880" cy="4078080"/>
          </a:xfrm>
          <a:prstGeom prst="rect">
            <a:avLst/>
          </a:prstGeom>
          <a:ln w="0">
            <a:noFill/>
          </a:ln>
        </p:spPr>
      </p:pic>
      <p:sp>
        <p:nvSpPr>
          <p:cNvPr id="272" name="WordArt 11"/>
          <p:cNvSpPr txBox="1"/>
          <p:nvPr/>
        </p:nvSpPr>
        <p:spPr>
          <a:xfrm>
            <a:off x="4800600" y="5562720"/>
            <a:ext cx="3657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 Пляж в Пурвиле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3" name="WordArt 12"/>
          <p:cNvSpPr txBox="1"/>
          <p:nvPr/>
        </p:nvSpPr>
        <p:spPr>
          <a:xfrm>
            <a:off x="380880" y="4952880"/>
            <a:ext cx="3353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 Руанский собор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альнейшие поиски привели к появлению нового напра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т импрессионистов они унаследовали чистоту цве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аботы отличались одухотворённостью, эмоциональност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Постимпрессиониз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9" descr="Vincent Willem van Gogh 127.jpg"/>
          <p:cNvPicPr/>
          <p:nvPr/>
        </p:nvPicPr>
        <p:blipFill>
          <a:blip r:embed="rId1"/>
          <a:stretch/>
        </p:blipFill>
        <p:spPr>
          <a:xfrm>
            <a:off x="5562720" y="3429000"/>
            <a:ext cx="2473200" cy="3124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VanGoghIrises2.jpg"/>
          <p:cNvPicPr/>
          <p:nvPr/>
        </p:nvPicPr>
        <p:blipFill>
          <a:blip r:embed="rId2"/>
          <a:stretch/>
        </p:blipFill>
        <p:spPr>
          <a:xfrm>
            <a:off x="4876920" y="152280"/>
            <a:ext cx="3733560" cy="29448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0" y="4800600"/>
            <a:ext cx="396252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Винсент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Ван Го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9" name="Picture 11" descr="File:VanGogh 1887 Selbstbildnis.jpg"/>
          <p:cNvPicPr/>
          <p:nvPr/>
        </p:nvPicPr>
        <p:blipFill>
          <a:blip r:embed="rId3"/>
          <a:stretch/>
        </p:blipFill>
        <p:spPr>
          <a:xfrm>
            <a:off x="304920" y="228600"/>
            <a:ext cx="35337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1911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французский художник-живописец, яркий представите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стимпрессионизма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Picture 7" descr="File:Paul Cézanne 149.jpg"/>
          <p:cNvPicPr/>
          <p:nvPr/>
        </p:nvPicPr>
        <p:blipFill>
          <a:blip r:embed="rId1"/>
          <a:stretch/>
        </p:blipFill>
        <p:spPr>
          <a:xfrm>
            <a:off x="304920" y="533520"/>
            <a:ext cx="3922560" cy="50292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8"/>
          <p:cNvSpPr/>
          <p:nvPr/>
        </p:nvSpPr>
        <p:spPr>
          <a:xfrm>
            <a:off x="304920" y="5486400"/>
            <a:ext cx="4114800" cy="91440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ь Сезан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9" descr="File:Cézanne, Paul - Still Life with a Curtain.jpg"/>
          <p:cNvPicPr/>
          <p:nvPr/>
        </p:nvPicPr>
        <p:blipFill>
          <a:blip r:embed="rId1"/>
          <a:stretch/>
        </p:blipFill>
        <p:spPr>
          <a:xfrm>
            <a:off x="304920" y="457200"/>
            <a:ext cx="3733560" cy="2744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" descr="File:Paul Cézanne 060.jpg"/>
          <p:cNvPicPr/>
          <p:nvPr/>
        </p:nvPicPr>
        <p:blipFill>
          <a:blip r:embed="rId2"/>
          <a:stretch/>
        </p:blipFill>
        <p:spPr>
          <a:xfrm>
            <a:off x="6019920" y="990720"/>
            <a:ext cx="2606400" cy="3267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File:Cezanne marne.jpg"/>
          <p:cNvPicPr/>
          <p:nvPr/>
        </p:nvPicPr>
        <p:blipFill>
          <a:blip r:embed="rId3"/>
          <a:stretch/>
        </p:blipFill>
        <p:spPr>
          <a:xfrm>
            <a:off x="1905120" y="3809880"/>
            <a:ext cx="373356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Постимпрессиониз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Picture 8" descr="File:Paul Gauguin 1891.png"/>
          <p:cNvPicPr/>
          <p:nvPr/>
        </p:nvPicPr>
        <p:blipFill>
          <a:blip r:embed="rId1"/>
          <a:stretch/>
        </p:blipFill>
        <p:spPr>
          <a:xfrm>
            <a:off x="457200" y="1523880"/>
            <a:ext cx="3548160" cy="4530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0"/>
          <p:cNvSpPr/>
          <p:nvPr/>
        </p:nvSpPr>
        <p:spPr>
          <a:xfrm>
            <a:off x="457200" y="5943600"/>
            <a:ext cx="4114800" cy="9144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Поль Гоге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9" descr="жанровая картина &lt; Таитянская деревня &gt; :: Поль Гоген"/>
          <p:cNvPicPr/>
          <p:nvPr/>
        </p:nvPicPr>
        <p:blipFill>
          <a:blip r:embed="rId2"/>
          <a:stretch/>
        </p:blipFill>
        <p:spPr>
          <a:xfrm>
            <a:off x="4572000" y="1447920"/>
            <a:ext cx="2224080" cy="28191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жанровая картина &lt; Таитянки под деревом &gt; :: Поль Гоген"/>
          <p:cNvPicPr/>
          <p:nvPr/>
        </p:nvPicPr>
        <p:blipFill>
          <a:blip r:embed="rId3"/>
          <a:stretch/>
        </p:blipFill>
        <p:spPr>
          <a:xfrm>
            <a:off x="6629400" y="3657600"/>
            <a:ext cx="2308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Кубизм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вангардное направление в живописи начала XX века, представители которого изображали мир в виде геометрических знаков и композиционных конструкций, деформируя облик реальных предм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убизм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снователь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. Пикассо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5" name="Picture 4" descr="ж44 Пикассо"/>
          <p:cNvPicPr/>
          <p:nvPr/>
        </p:nvPicPr>
        <p:blipFill>
          <a:blip r:embed="rId1"/>
          <a:stretch/>
        </p:blipFill>
        <p:spPr>
          <a:xfrm>
            <a:off x="0" y="0"/>
            <a:ext cx="2127240" cy="3429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Пикассо Герника"/>
          <p:cNvPicPr/>
          <p:nvPr/>
        </p:nvPicPr>
        <p:blipFill>
          <a:blip r:embed="rId2"/>
          <a:stretch/>
        </p:blipFill>
        <p:spPr>
          <a:xfrm>
            <a:off x="2133720" y="205740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Фовизм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чение во французской живописи начала XX века, в основе которого используются яркие контрастные цвета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0" descr="гоген две таитянки"/>
          <p:cNvPicPr/>
          <p:nvPr/>
        </p:nvPicPr>
        <p:blipFill>
          <a:blip r:embed="rId1"/>
          <a:stretch/>
        </p:blipFill>
        <p:spPr>
          <a:xfrm>
            <a:off x="1600200" y="0"/>
            <a:ext cx="6172200" cy="43257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Фовизм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ставители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А. Матисс, П. Гоген, П. Сезан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Picture 4" descr="матисс1"/>
          <p:cNvPicPr/>
          <p:nvPr/>
        </p:nvPicPr>
        <p:blipFill>
          <a:blip r:embed="rId2"/>
          <a:stretch/>
        </p:blipFill>
        <p:spPr>
          <a:xfrm>
            <a:off x="0" y="2133720"/>
            <a:ext cx="3514680" cy="4724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cezanne"/>
          <p:cNvPicPr/>
          <p:nvPr/>
        </p:nvPicPr>
        <p:blipFill>
          <a:blip r:embed="rId3"/>
          <a:stretch/>
        </p:blipFill>
        <p:spPr>
          <a:xfrm>
            <a:off x="5208480" y="2209680"/>
            <a:ext cx="3935520" cy="4648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ткрытие элементарных части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никли в тайны матер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аскрыли строение атома                   ( электрон, нейтрон, протон, позейтрон, кванты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 конце 30-х годов подошли к практическому освоению атомной энерг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228600" y="152280"/>
            <a:ext cx="8534520" cy="10670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Экспрессионизм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Художественное направление XX века, для которого характерно субъективное восприятие действительности, деформированное изображение реального мира, гипертрофия переживаний и упоение отчая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Экспрессионизм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ставитель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Э. Мун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8" name="Picture 4" descr="post-700-1115494090"/>
          <p:cNvPicPr/>
          <p:nvPr/>
        </p:nvPicPr>
        <p:blipFill>
          <a:blip r:embed="rId1"/>
          <a:stretch/>
        </p:blipFill>
        <p:spPr>
          <a:xfrm>
            <a:off x="0" y="2133720"/>
            <a:ext cx="3997440" cy="4724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pic45"/>
          <p:cNvPicPr/>
          <p:nvPr/>
        </p:nvPicPr>
        <p:blipFill>
          <a:blip r:embed="rId2"/>
          <a:stretch/>
        </p:blipFill>
        <p:spPr>
          <a:xfrm>
            <a:off x="3962520" y="2995560"/>
            <a:ext cx="51814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Неопримитивизм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характеризуется интересом к Востоку, детскому творчеству, искусству самоучек, древней наскальной живопис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ставител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А. Руссо, Н. Гончаров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2" name="Picture 4" descr="malevich"/>
          <p:cNvPicPr/>
          <p:nvPr/>
        </p:nvPicPr>
        <p:blipFill>
          <a:blip r:embed="rId1"/>
          <a:stretch/>
        </p:blipFill>
        <p:spPr>
          <a:xfrm>
            <a:off x="0" y="3057480"/>
            <a:ext cx="3800520" cy="380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image001"/>
          <p:cNvPicPr/>
          <p:nvPr/>
        </p:nvPicPr>
        <p:blipFill>
          <a:blip r:embed="rId2"/>
          <a:stretch/>
        </p:blipFill>
        <p:spPr>
          <a:xfrm>
            <a:off x="3809880" y="3048120"/>
            <a:ext cx="5334120" cy="3809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Абстракционизм -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отказ от изображения реальных предметов и создание образа на основе самодостаточной выразительности цвета. Линий, форм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снователи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В. Кандинский и П. Мондриан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6" name="Picture 4" descr="кандинский маленькие удовольствия"/>
          <p:cNvPicPr/>
          <p:nvPr/>
        </p:nvPicPr>
        <p:blipFill>
          <a:blip r:embed="rId1"/>
          <a:stretch/>
        </p:blipFill>
        <p:spPr>
          <a:xfrm>
            <a:off x="0" y="3429000"/>
            <a:ext cx="472428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кандинский композиция 10"/>
          <p:cNvPicPr/>
          <p:nvPr/>
        </p:nvPicPr>
        <p:blipFill>
          <a:blip r:embed="rId2"/>
          <a:stretch/>
        </p:blipFill>
        <p:spPr>
          <a:xfrm>
            <a:off x="4076640" y="2514600"/>
            <a:ext cx="5067360" cy="332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упрематизм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одно из течений абстрактного искусства, относится к типу геометрической абстракци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ставители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К. Малевич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0" name="Picture 5" descr="1177759144_3"/>
          <p:cNvPicPr/>
          <p:nvPr/>
        </p:nvPicPr>
        <p:blipFill>
          <a:blip r:embed="rId1"/>
          <a:stretch/>
        </p:blipFill>
        <p:spPr>
          <a:xfrm>
            <a:off x="304920" y="2133720"/>
            <a:ext cx="3097080" cy="3124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малевич худ реализм крестьянки в 2 измерениях"/>
          <p:cNvPicPr/>
          <p:nvPr/>
        </p:nvPicPr>
        <p:blipFill>
          <a:blip r:embed="rId2"/>
          <a:stretch/>
        </p:blipFill>
        <p:spPr>
          <a:xfrm>
            <a:off x="5715000" y="3657600"/>
            <a:ext cx="2971800" cy="2928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dali"/>
          <p:cNvPicPr/>
          <p:nvPr/>
        </p:nvPicPr>
        <p:blipFill>
          <a:blip r:embed="rId1"/>
          <a:stretch/>
        </p:blipFill>
        <p:spPr>
          <a:xfrm>
            <a:off x="3581280" y="29638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адаизм –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крайнее авангардное течение отрицающее классические традици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ставители: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М. Дюшан, М. Эрнст, Т. Тца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5" name="Picture 6" descr="Tzara_by_Tihanyi"/>
          <p:cNvPicPr/>
          <p:nvPr/>
        </p:nvPicPr>
        <p:blipFill>
          <a:blip r:embed="rId2"/>
          <a:stretch/>
        </p:blipFill>
        <p:spPr>
          <a:xfrm>
            <a:off x="0" y="1752480"/>
            <a:ext cx="358308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Сюррелизм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вангардное течение в искусстве XX века, представители которого обращались к сновидениям, автоматическому сознанию, подсознательном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сихологический реализ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.Фолкнер         Э.Хемингуэй        Г. Бёл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. Цвейг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центре внимания их творчества – личность, её судьба в меняющемся мире, поиск ею смысла жизни. Их герои, как правило – человек ищущий, стремящийся к счастью для других, к любви. Главная его победа – это победа над самим собой.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5" descr="Faulkner2"/>
          <p:cNvPicPr/>
          <p:nvPr/>
        </p:nvPicPr>
        <p:blipFill>
          <a:blip r:embed="rId1"/>
          <a:stretch/>
        </p:blipFill>
        <p:spPr>
          <a:xfrm>
            <a:off x="457200" y="213372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plnIS67Nbw"/>
          <p:cNvPicPr/>
          <p:nvPr/>
        </p:nvPicPr>
        <p:blipFill>
          <a:blip r:embed="rId2"/>
          <a:stretch/>
        </p:blipFill>
        <p:spPr>
          <a:xfrm>
            <a:off x="2666880" y="2133720"/>
            <a:ext cx="1708200" cy="2305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12356346601bad"/>
          <p:cNvPicPr/>
          <p:nvPr/>
        </p:nvPicPr>
        <p:blipFill>
          <a:blip r:embed="rId3"/>
          <a:stretch/>
        </p:blipFill>
        <p:spPr>
          <a:xfrm>
            <a:off x="4800600" y="2133720"/>
            <a:ext cx="1660680" cy="2286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Zveig"/>
          <p:cNvPicPr/>
          <p:nvPr/>
        </p:nvPicPr>
        <p:blipFill>
          <a:blip r:embed="rId4"/>
          <a:stretch/>
        </p:blipFill>
        <p:spPr>
          <a:xfrm>
            <a:off x="6934320" y="2133720"/>
            <a:ext cx="1741320" cy="228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images.rambler.ru/search?query=%D0%90.%D0%91%D0%B5%D1%80%D0%B3%D1%81%D0%BE%D0%B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wm-painting.ru/MasterPieces/p19_sectionid/5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commons.wikimedia.org/wiki/File:Arnold_B%C3%B6cklin_003.jpg?uselang=r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http://commons.wikimedia.org/wiki/File:RapeLock7Cave_of_Spleen.jpeg?uselang=ru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514600" y="4800600"/>
            <a:ext cx="6629400" cy="19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тоненкова А.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итель истории  1 категор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У Будинской ООШ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еория относительности Энштейна изменила понимание пространства, времени и движ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Были заложены основы науки о передаче наследственных признаков  ( генетик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лучила распространение биохимия, физическая химия, геофизика, электрохими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12640" y="207360"/>
            <a:ext cx="8118720" cy="1029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ольших успехов достигла микробиология и фармацевтическая промышлен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пулярными стали произведения сторонников философии жизни А. Шопенгауэр и Ф. Ницш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12" descr="081f17fe8e28"/>
          <p:cNvPicPr/>
          <p:nvPr/>
        </p:nvPicPr>
        <p:blipFill>
          <a:blip r:embed="rId1"/>
          <a:stretch/>
        </p:blipFill>
        <p:spPr>
          <a:xfrm>
            <a:off x="152280" y="1447920"/>
            <a:ext cx="2340000" cy="2790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0" y="3886200"/>
            <a:ext cx="274320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А. Шопенгауэ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15" descr="nietzsche-785802"/>
          <p:cNvPicPr/>
          <p:nvPr/>
        </p:nvPicPr>
        <p:blipFill>
          <a:blip r:embed="rId2"/>
          <a:stretch/>
        </p:blipFill>
        <p:spPr>
          <a:xfrm>
            <a:off x="2819520" y="3124080"/>
            <a:ext cx="2049480" cy="28958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6"/>
          <p:cNvSpPr/>
          <p:nvPr/>
        </p:nvSpPr>
        <p:spPr>
          <a:xfrm>
            <a:off x="2362320" y="5867280"/>
            <a:ext cx="274320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Ф. Ницш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пулярность приобретают работы Зигмунда Фрейда о психоанализ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Picture 14" descr="1006176_6176_301"/>
          <p:cNvPicPr/>
          <p:nvPr/>
        </p:nvPicPr>
        <p:blipFill>
          <a:blip r:embed="rId1"/>
          <a:stretch/>
        </p:blipFill>
        <p:spPr>
          <a:xfrm>
            <a:off x="609480" y="1676520"/>
            <a:ext cx="3254400" cy="46479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5"/>
          <p:cNvSpPr/>
          <p:nvPr/>
        </p:nvSpPr>
        <p:spPr>
          <a:xfrm>
            <a:off x="457200" y="6095880"/>
            <a:ext cx="3505320" cy="60984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З. Фрей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льшое значение для понимания особенностей художественного творчества и познания имело учение французского философа А. Бергсо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9" descr="568240"/>
          <p:cNvPicPr/>
          <p:nvPr/>
        </p:nvPicPr>
        <p:blipFill>
          <a:blip r:embed="rId1"/>
          <a:stretch/>
        </p:blipFill>
        <p:spPr>
          <a:xfrm>
            <a:off x="533520" y="1523880"/>
            <a:ext cx="3314520" cy="4419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457200" y="5867280"/>
            <a:ext cx="3505320" cy="60984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А. Бергсо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онц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IX –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чал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ЕКА В Европе и США получает популярность социология – наука о развитии общества и общественного поведения людей. Популярными становятся труд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. Вебе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14800" y="286200"/>
            <a:ext cx="8342280" cy="107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9" descr="847440"/>
          <p:cNvPicPr/>
          <p:nvPr/>
        </p:nvPicPr>
        <p:blipFill>
          <a:blip r:embed="rId1"/>
          <a:stretch/>
        </p:blipFill>
        <p:spPr>
          <a:xfrm>
            <a:off x="914400" y="1676520"/>
            <a:ext cx="3149640" cy="4343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"/>
          <p:cNvSpPr/>
          <p:nvPr/>
        </p:nvSpPr>
        <p:spPr>
          <a:xfrm>
            <a:off x="685800" y="5943600"/>
            <a:ext cx="3505320" cy="6094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М. Вебе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ольцева Э.М-А.</cp:lastModifiedBy>
  <dcterms:modified xsi:type="dcterms:W3CDTF">2013-10-08T16:49:4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