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8E5-515F-47E3-AFE7-36E15778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B8F-C480-4C2F-B4BB-8AF6972F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4FD-5DD7-41E9-9F4B-B823CF13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98C-6AF9-41B8-B613-661859F5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BF4-959A-48AF-848E-EDA1B14B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59C-F8EC-4B51-B486-AB94BC1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D0A-37F4-4312-A37F-19625306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5847-41B3-454B-AD1C-35FCBE7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B5E3-48F6-46E3-A403-CA0DE8C5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7867-BE2B-4FBA-9328-6C70164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25BA-31BF-42D5-B4AF-34B2176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C1F-2727-4668-A77F-CAAFB6C6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6045-0EC7-46E1-833A-593AABE1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A06-B87E-4BE3-B3A5-85D16B3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A11C-DF14-42AC-8216-64E6505C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735-CF11-4C9B-90A2-52311C6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3196-BAAC-415C-BDCE-F2B6A1C6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D924-687D-4497-8796-38EC23D3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3F8A-B011-4AE6-980E-A96319A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99A7-BFA6-4703-A635-F353E2F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1C09-71C7-4F70-ACD5-107D82E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52D9-0CB4-4191-9DFB-263DA398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5C3-8179-40C9-889B-A695BC40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EC0E-EB4D-4AFB-B9EA-53714A61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1FFB-3597-40D3-A67B-5499A98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56BC-9AB8-4882-A448-21B8A663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A410-E230-4CA9-93DE-772B3058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A603-7180-40FB-88C0-B7AFFFAA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AABCE-2ED9-4571-9AAD-4FFF78CE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6E37-7F7B-4C7C-83BD-68B02084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E135-2972-4913-B7C5-0E36A5C9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0312-999A-4E4D-9653-51969D34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C6D9-C175-4234-85BA-E483077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82C-B417-4650-BA6A-40DA8B7B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17E5-BF32-492E-8749-F996C884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926A-4205-451E-A6D7-92A73C1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9808-3324-47DD-A010-7BBE2338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C070-F2E8-434E-BE77-F13D00A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5CEDA-9209-4C4D-BACA-C8EA2B7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A10A-67A2-4014-B13F-0D48EA55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8423-D56C-4A8D-BFFB-FCE05894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6F1F-87C9-4B2E-8B1C-45AF098A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4104-4560-4F5B-B55E-6D5BD8B0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8D37-4D05-4289-ADBD-E8169E29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592-B58D-4B03-86F2-E835006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1E6E-484D-4AF1-87FF-38C671B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C628-60C1-4402-A94B-FE50A4B7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9883-8C89-4569-BEB1-EDB94E31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061C-458F-403F-9F5C-B2545413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186F0-BE61-40DE-BAE4-D6FC6681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3318-5A9C-48B8-B433-52739D7E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5B60-44E8-48DA-A570-1EFE605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39F6-0634-4924-BA13-1BF37CA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BEBC-7098-4BEE-B7CB-03F2647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E6FF-8E5B-4868-AEF1-5515C06F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C63-05A1-4325-AEB7-5FDCF145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532A-1DE5-4238-B40D-5E2A3D67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1F68-765C-4BD6-9459-42840621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AE1FC-9332-4C8B-971C-7DEA95A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0282-432D-46F7-A635-1BA9C303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5D502-7C9B-4D7D-A2FC-6E93F5A0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D669-81BA-44B8-8BB7-17C85D85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655B-37D6-4022-A74B-E8DAE87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137E-4312-43D0-AE16-DC12CAB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0710-7EFA-493C-BD96-673FDC6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A83C-203A-43D0-A79B-2B63CD72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778-8CF6-4B3D-B482-47EF833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24E0-D1A8-4079-95AA-3007E6A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DAB9-AB34-414F-8CD2-3A57C93C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29C1-01C7-4327-BA1B-B83C94E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69E5-3DCE-409A-963E-E62FE33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3BBF9-C061-4D53-A06C-95F3A3BE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DAA1-86CD-4966-9B8C-D39F427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D43E-564E-46FD-AE2F-48BB5BF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9A41-D15E-4F65-9227-5760AB8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0EB43-4982-4EBD-B7FE-1429DE51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23F10-3A91-4A9F-B7BB-94314D9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B94-A4CA-43EA-9B81-9652C31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8870-C505-482A-9A60-1F89774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F9ED-E145-4B31-9A02-BB84ED4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B25D-7D1D-45B1-9A0F-BDE678E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E93C-42DD-4DEC-A6FF-235D5D8E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45AA-35DB-430D-93C7-24204D73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23F79-55A7-4C8F-A0A5-A85FA94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6F474-E9D3-44FF-82C1-2D172EC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0BD94-BC03-4A19-9D36-8395D7E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DA2EB-A41F-43C6-A533-E38EF3D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381A-51F6-4214-8126-F76A23A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E1B-045D-4183-826F-19BB471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77260-2FF7-4C75-8DEE-8618C98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E506-921C-4D9E-91A6-B2A68EC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36091-1E94-4426-8BC4-2A758F1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1727-CB61-4E89-8EEF-5DDCDD9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16B1-0490-4147-BEC9-F1439E60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28830-CE03-410B-ACB1-E5D30B50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C201-1C8C-4ED0-AF9B-3213C0F4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FD7-748C-4253-80BB-F60B6AF4E0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B49-D179-44C6-B2D4-70A89F8FE3A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2BB9-61B0-4425-8DFD-840D7E4C44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E8B6-F682-4BAE-AD84-E1A005CA0C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561-DDEC-435A-B50F-15CA9234F7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502-04A3-4E16-9EF3-C2FBC0E462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DD45-1D47-4D3C-8C47-F045FDD295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D16D-7D7C-4637-AA1B-0681D98644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9" descr="0_8da05_9df99442_XL.png"/>
          <p:cNvPicPr/>
          <p:nvPr/>
        </p:nvPicPr>
        <p:blipFill>
          <a:blip r:embed="rId1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1523880" y="281952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Повторение изуч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cademy"/>
              </a:rPr>
              <a:t>в 5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6668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Чачкова Ан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cademy"/>
              </a:rPr>
              <a:t>МОУ Будинской ООШ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оугольник 8" descr=""/>
          <p:cNvPicPr/>
          <p:nvPr/>
        </p:nvPicPr>
        <p:blipFill>
          <a:blip r:embed="rId2"/>
          <a:stretch/>
        </p:blipFill>
        <p:spPr>
          <a:xfrm>
            <a:off x="0" y="103320"/>
            <a:ext cx="5310360" cy="811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3"/>
          <a:stretch/>
        </p:blipFill>
        <p:spPr>
          <a:xfrm>
            <a:off x="225360" y="1006560"/>
            <a:ext cx="8699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52280" y="808200"/>
            <a:ext cx="899172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ть правило с. 5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533520" y="10764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a1f28"/>
                </a:solidFill>
                <a:latin typeface="Times New Roman"/>
              </a:rPr>
              <a:t>Цель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 лексикологии как науки о я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е «лексическое» и «грамматическое» значение сл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репить понятия однозначные и многозначные слова, переносное значение слова; синонимы, ант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304920" y="-2520"/>
            <a:ext cx="8686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       </a:t>
            </a: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Словарно-орфограф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св..тить стихотворение, пос..деть у говорливого ручья, разр..дить обстановку, разд..дил морковь, дремл..т камыш(?), горячий ключ(?), хороший товарищ(?), ярк..м колоритом, пл..хая погода, верн..го 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304920" y="-1800"/>
            <a:ext cx="853416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лова, для правильного написания которых необходимо знать их лексическ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синонимы к прилаг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антонимы к слов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р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шите слова, употребленные в переносном значении. Составьте словосочетания, в которых они имели бы прям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04920" y="306000"/>
            <a:ext cx="8534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 по материалам словарного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ишите слово, значение которого можно определить только в контексте (словосочетании или предложении). Как называются такие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я толковый словарь учебника, определите, однозначное или многозначное слово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яч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1800"/>
            <a:ext cx="853416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ябнет оси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рожит на вет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ынет на солныш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ет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Если б дали березке расчес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менила б березка причес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речку, как в зеркало, гляд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чесала б кудрявые пряд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вошло б у нее в привы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утрам заплетать коси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Токмак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52280" y="-212040"/>
            <a:ext cx="8991720" cy="66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Работаем с текс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етаф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метафоры использует поэт, чтобы образнее ярче представить кар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первого отрывка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рзн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кова их роль в тек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шите из второго отрывка глаголы, которые употребляются в переносном значении. Графически объясните в них правописание гласной в коне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и запишите синонимы к слов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яде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ли возможна синонимическая замена? Например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мотреть (глядеть) 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152280" y="518760"/>
            <a:ext cx="899172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-34308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лексическому значению слово и запиш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лова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рный запас одного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 лингвистики, изучающий лекс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одно 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, имеющие несколько лексических знач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 одинаковые по звучанию и написанию, но разные по 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а одной части речи, обозначающие одно и то же, но с разными оттенками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152280" y="154080"/>
            <a:ext cx="899172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244440" tIns="342720" bIns="46800" anchor="ctr">
            <a:spAutoFit/>
          </a:bodyPr>
          <a:p>
            <a:pPr marL="611280" indent="12600"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f28"/>
                </a:solidFill>
                <a:latin typeface="Times New Roman"/>
              </a:rPr>
              <a:t>Проверьте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ексиколог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огозначные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мони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11280" indent="12600">
              <a:buClr>
                <a:srgbClr val="000000"/>
              </a:buClr>
              <a:buFont typeface="Arial"/>
              <a:buAutoNum type="arabicParenR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09-29T06:2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