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AF8-94B2-4945-B0D4-F016D83E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C7F-B1A3-4DBA-AC38-F26369BF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3D7-B6A6-47C2-9947-58C84A3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78E-D8C7-47C4-9764-6D1EADB1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184-82F0-40F0-999A-D7964B9D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D57-3317-41D1-881A-AFBAD95B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6CC-FB98-49E6-A781-FA6337A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DC8-720E-47F1-86F8-CF93BA85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8CD-1740-4B41-A4BB-8A155CAE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6E2-0170-4228-8531-90C2AC1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07F-16DD-4FA6-B114-6BCB2C8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E73-FB75-4A27-A921-2BDD8BE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61D-EC9A-4F2C-A8F8-D938384C0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FF8-7BCD-4FC3-8B0D-BACFFBC30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61инкора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3706920"/>
            <a:ext cx="6004080" cy="131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304920" y="308160"/>
            <a:ext cx="6248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правление образования администрации города  Прокопьев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казенное образовательное учреждение для детей-сирот и детей, оставшихся без попечения родителей 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законных представителей) «Специальный (коррекционный) детский дом № 6 для детей-сирот и детей, оставшихся без попечения родителей (законных представителей), с ограниченными возможностями здоровья»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МКОУ «Детский дом № 6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750400" y="9296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опьевск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1" descr="1.gif"/>
          <p:cNvPicPr/>
          <p:nvPr/>
        </p:nvPicPr>
        <p:blipFill>
          <a:blip r:embed="rId3"/>
          <a:stretch/>
        </p:blipFill>
        <p:spPr>
          <a:xfrm>
            <a:off x="304920" y="5943600"/>
            <a:ext cx="3514680" cy="3063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822840" y="5943600"/>
            <a:ext cx="277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ова Елена Васил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04920"/>
            <a:ext cx="594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е занятие имеет логически законченную, целостную ограниченную временными рамками систему. В коррекционном занятии представлены почти все основные элементы коррекционно-образовательного процесса: задачи, содержание, средства, методы организаци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Качество занятия зависит от правильного определения каждого из этих компонентов и их рационального сочетани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При построении коррекционного занятия, необходимо определить на каком уровне ребенок будет усваивать  предлагаем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в процессе сопряжённых (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с помощью полусопряжённых  (частично 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осприятия (работа после обучающего экспери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применения знаний по образц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речевой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ое содержание специального образования детей с особыми образовательными потребностями определяют ряд обязательных требований к коррекционному занятию, которые необходимо учитывать при построении структуры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занятия имеют гибкую структуру, разработанную с учетом возрастных особенностей детей и степени выраженности де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97B3-20F4-4152-9748-B54653D56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3520" y="57600"/>
            <a:ext cx="59436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 строятся на основе принципов интегрирования (включение элементов музо-, изо-, песко-, водо-, кукло-, танцевально-двигательной терап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нятиях должна прослеживаться системность и преем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ематики занятий должен определяться характером нарушения развития детей с особыми образовательными потребностями и подбором наиболее адекватной тактики коррекционной 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должны определяться задачами занятия, для которых характерно сочетание как традиционных приемов и методов (фронтальные и индивидуальные занятия), так и инновацио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инновационным прие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ребенка в процесс взаимодействия с педагогом, группой детей или сверстником с использованием метода «аттракции» (называние по имени, активное включение в процесс рассматривания себя в зеркале, телесный контакт с ребенком с целью расслабления, успокоение, вселение уверенност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сование под музыку, используя различные методики рисования – ладошкой, пальчиком, губкой, тампоном и т.д. (из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(песк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водой (вод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куклами (куклотерапия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F1F-3B06-4D27-866B-B1403B1F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81885ffaaae5.png"/>
          <p:cNvPicPr/>
          <p:nvPr/>
        </p:nvPicPr>
        <p:blipFill>
          <a:blip r:embed="rId2"/>
          <a:stretch/>
        </p:blipFill>
        <p:spPr>
          <a:xfrm>
            <a:off x="4114800" y="7184880"/>
            <a:ext cx="2430360" cy="2721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248520" y="929628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80880" y="457200"/>
            <a:ext cx="6172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традиционным приё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е должно включать как познавательный материал, так и различные релаксационные упражнения, которые способствуют развитию у детей коммуникативных умений, обогащают эмоциональный опыт, формируют личност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в структуру занятий заданий, способствующих развитию поисков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ожение материала на занятии должно быть вариативным по своей струк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дних случаях предъявляется готовая информация в форме практического объяснения, сопровождающегося показом, демонстрацией определённых действий с простой речевой инстру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угих случаях используется частичная инструкция, регламентирующая частичное выполнение действия, задания с последующими усложнениями. Используются варианты  сопряжённых и полусопряжённых действий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4e96c18fed68.png"/>
          <p:cNvPicPr/>
          <p:nvPr/>
        </p:nvPicPr>
        <p:blipFill>
          <a:blip r:embed="rId2"/>
          <a:stretch/>
        </p:blipFill>
        <p:spPr>
          <a:xfrm>
            <a:off x="2133720" y="6472080"/>
            <a:ext cx="3124080" cy="287352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90A-DA6B-4682-9DC7-9BA0380B3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0994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A674-0535-4F5A-9B13-78A3C2C96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2"/>
          <a:stretch/>
        </p:blipFill>
        <p:spPr>
          <a:xfrm>
            <a:off x="1109520" y="585720"/>
            <a:ext cx="4761000" cy="2462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dosk126.png"/>
          <p:cNvPicPr/>
          <p:nvPr/>
        </p:nvPicPr>
        <p:blipFill>
          <a:blip r:embed="rId3"/>
          <a:stretch/>
        </p:blipFill>
        <p:spPr>
          <a:xfrm>
            <a:off x="1295280" y="3429000"/>
            <a:ext cx="4740480" cy="4040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880" y="1397880"/>
            <a:ext cx="624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обдумай тему сочинения. Помни: каждое слово в названии темы имеет значение. Определи, о чем следует писать в сочи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думай свой замысел, зачем, кому адресуешь своё сочинение, какова его мысль.  Что и как (в каком стиле и в какой форме) напишешь, чтобы ее раскрыть. Составь, если нужно,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круг слов, предложений для отражения темы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ервый вариант своего сочинения: раскрыты ли в нем тема и основная мысль? Зачеркни то, о чём можно не говорить в сочинении на данную тему (лишнее); дополни те части сочинения, в которых тема и основная мысль раскрыты недостаточно. Соответствует ли заголовок сочинения его содерж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 внимание на язык сочинения. Насколько удачно выражены мысли и чувства? Внеси ис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359000" y="91440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ЧИ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1B3C-88B9-4B0F-8E51-B7A1B69A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9" descr="29244dc814c5.png"/>
          <p:cNvPicPr/>
          <p:nvPr/>
        </p:nvPicPr>
        <p:blipFill>
          <a:blip r:embed="rId2"/>
          <a:stretch/>
        </p:blipFill>
        <p:spPr>
          <a:xfrm>
            <a:off x="2438280" y="7010280"/>
            <a:ext cx="1943280" cy="28958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856080"/>
            <a:ext cx="5029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 ДИКТА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04B-80E7-4665-841A-227946106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4414d6e477eb.png"/>
          <p:cNvPicPr/>
          <p:nvPr/>
        </p:nvPicPr>
        <p:blipFill>
          <a:blip r:embed="rId2"/>
          <a:stretch/>
        </p:blipFill>
        <p:spPr>
          <a:xfrm>
            <a:off x="1676520" y="5486400"/>
            <a:ext cx="3373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685800" y="731520"/>
            <a:ext cx="5715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ИЗ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10F-3B1E-4A09-83D8-148491816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199cc7796884.png"/>
          <p:cNvPicPr/>
          <p:nvPr/>
        </p:nvPicPr>
        <p:blipFill>
          <a:blip r:embed="rId2"/>
          <a:stretch/>
        </p:blipFill>
        <p:spPr>
          <a:xfrm>
            <a:off x="2438280" y="6477120"/>
            <a:ext cx="230184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404040" y="9448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80880" y="417600"/>
            <a:ext cx="6096240" cy="82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АРАГРАФОМ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итай название параграфа, уясни, и чём в нём гово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весь параграф. Найди в нём главное. Отметь непонятные места, выражения, слова. Попытайся разобраться в них самостоятельно. В случае необходимости обратись к предыдущим параграфам, к своим товарищам, а если нужно, к воспита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, из каких частей состоит правило, какие признаки изучаемого материала в нём отличаются. Найди эти признаки в приме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ь изучаемый параграф с параграфом, в котором излагается похожий материал, изученный ранее. Найди в них сходное и разли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, что ты узнал из нового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содержание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ытайся запомнить вывод из параграфа, а правило выучи наизу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 по учебнику, как применяется данное правило. Сделай то же на своем примере. Если ты выполнял задание письменно, проверь написанное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924-5B17-4A0C-87FC-0783ABFEF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0c119f17d7bc.png"/>
          <p:cNvPicPr/>
          <p:nvPr/>
        </p:nvPicPr>
        <p:blipFill>
          <a:blip r:embed="rId2"/>
          <a:stretch/>
        </p:blipFill>
        <p:spPr>
          <a:xfrm>
            <a:off x="4495680" y="7763040"/>
            <a:ext cx="20574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25176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304920" y="696960"/>
            <a:ext cx="60195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еть порядок выполнения проверки: сначала проверь по смыслу, потом проверь по напис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смысл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редложение всл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слова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слов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ём говорится в предложении, бывает ли 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написани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 каждое слово по порядку по слогам и выделяй каждый с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буквы к сл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бук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2990-1A40-4F76-A86E-9DE6C077A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f5d620e07ee2.png"/>
          <p:cNvPicPr/>
          <p:nvPr/>
        </p:nvPicPr>
        <p:blipFill>
          <a:blip r:embed="rId2"/>
          <a:stretch/>
        </p:blipFill>
        <p:spPr>
          <a:xfrm>
            <a:off x="1981080" y="6429240"/>
            <a:ext cx="2863800" cy="3476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219320" y="609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136152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 медленном тем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ть слова, которые тебе непоня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райся ответить на глав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ком говорится в рассказ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ействующие лица (персонажи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ем говорится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 у воспитателя значения новых или  незнакомых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тексте слова, которыми автор характеризует главного героя, либо описывает природу (дерево, цветок, животно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ти рассказ еще раз, выделяя смыслов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ждой части выдели важные мысли (2-3 пред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текст по частям (при затруднении можно заглядывать в кни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1.gif"/>
          <p:cNvPicPr/>
          <p:nvPr/>
        </p:nvPicPr>
        <p:blipFill>
          <a:blip r:embed="rId2"/>
          <a:stretch/>
        </p:blipFill>
        <p:spPr>
          <a:xfrm>
            <a:off x="3886200" y="6640560"/>
            <a:ext cx="1828800" cy="326556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12C-C73C-4024-A4C6-27D11C00E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D54-D47F-4DC6-AC64-36E294DF1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33520" y="457200"/>
            <a:ext cx="601956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  Коррекционный уголок………………………………………………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   Содержание коррекционно-развивающего уголка………………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………………………………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  Список используемой литературы…………………………………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  Приложения…………………………………………………………...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33520" y="228600"/>
            <a:ext cx="5867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над какой темой работали на   уроке. Творчество и произведения какого автора изу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ти опорные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статью или теоретический   материал по за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прочит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хрестоматии по литературе нет художественного произведения, которое задали прочитать, возьми его в библиот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ься с текстом целиком или с отдельно взятыми частями, в зависимости от получен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 на вопросы учебника и выполни, если задано, индивидуальное задание устно или письменно в тетради по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FFAA-7F5E-4FF3-BDC7-16DBAF326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6" descr="4414d6e477eb.png"/>
          <p:cNvPicPr/>
          <p:nvPr/>
        </p:nvPicPr>
        <p:blipFill>
          <a:blip r:embed="rId2"/>
          <a:stretch/>
        </p:blipFill>
        <p:spPr>
          <a:xfrm>
            <a:off x="533520" y="6580080"/>
            <a:ext cx="2886120" cy="3326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57200" y="402840"/>
            <a:ext cx="59436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МАТЕМА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что изучали на уроке, просмотри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и усвой материал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ния, изуч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какие правила и приёмы следует применять для их выполнения, пользуясь, если нужно, предыдущей письменной работой, общими и частными приёмам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нужно, выполни полностью или частично задание на чернов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тем или иным способом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выполненное задание в тетрадь, соблюдая правила ведения тетради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правильность записей, чертежей,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40FE-AEF7-4611-84D5-4C362EB24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32808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 flipV="1" rot="10800000">
            <a:off x="533520" y="385920"/>
            <a:ext cx="58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чу и представь себе, о чем говорится в зад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задачу кратко или выполни чертё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, что показывает каждое число, повтори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можно ли сразу ответить на вопрос задачи. Если нет, то почему. Что нужно узнать сначала, что по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лан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решение и ответь на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5" descr="0c119f17d7bc.png"/>
          <p:cNvPicPr/>
          <p:nvPr/>
        </p:nvPicPr>
        <p:blipFill>
          <a:blip r:embed="rId2"/>
          <a:stretch/>
        </p:blipFill>
        <p:spPr>
          <a:xfrm>
            <a:off x="2438280" y="5334120"/>
            <a:ext cx="365472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2F7B-CE1A-4467-9136-0E12475CE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30A-76D7-434D-8579-EE0E04CA4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969920" y="457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80880" y="1600200"/>
            <a:ext cx="624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жков, М.И. Воспитание трудного ребенка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 Рожков М.И.-М: ВЛАДОС, 2003-24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лест, Е.Г. Использование игры в работе с детьми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лест Е.Г.-Спб: Речь, 2009-103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  Шевченко, С.Г. Коррекционно-развивающее обучение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вченко Е.Г.- М: ВЛАДОС, 2010-136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828800" y="4572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азано, что на развитие ребенка большое влияние оказывает окружающее его пространство, среда, в которой он находится большую часть времени. В условиях детского дома такой средой является групповая ком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80880" y="2666880"/>
            <a:ext cx="609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ями организуются индивидуальные и подгрупповые коррекционно-ориентированные формы взаимодействия с детьми. Предметно-развивающая среда позволяет обогатить опыт эмоционально-практического взаимодействия ребенка со сверстниками и педагогом, включить в активную познавательную деятельность всех детей группы. Среда стимулирует развитие самостоятельности, инициативности. В ней дети реализуют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c28c59bf13bc.png"/>
          <p:cNvPicPr/>
          <p:nvPr/>
        </p:nvPicPr>
        <p:blipFill>
          <a:blip r:embed="rId2"/>
          <a:stretch/>
        </p:blipFill>
        <p:spPr>
          <a:xfrm>
            <a:off x="304920" y="533520"/>
            <a:ext cx="158256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8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403-BE8F-4F12-A3B1-02AE42B6D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2" descr="e513ec98b236.png"/>
          <p:cNvPicPr/>
          <p:nvPr/>
        </p:nvPicPr>
        <p:blipFill>
          <a:blip r:embed="rId3"/>
          <a:stretch/>
        </p:blipFill>
        <p:spPr>
          <a:xfrm>
            <a:off x="1905120" y="6019920"/>
            <a:ext cx="315108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8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pic>
          <p:nvPicPr>
            <p:cNvPr id="59" name="Рисунок 3" descr="4ccca622295c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"/>
            <p:cNvSpPr/>
            <p:nvPr/>
          </p:nvSpPr>
          <p:spPr>
            <a:xfrm>
              <a:off x="1828800" y="380880"/>
              <a:ext cx="4800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состав предметно-развивающей среды входит коррекционный уголок. В его оборудование входят стеллажи, расположенные на разном уровне, игровой, дидактический и наглядный матери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9" descr="0_86ab5_e49c6ace_orig.png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1523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0"/>
            <p:cNvSpPr/>
            <p:nvPr/>
          </p:nvSpPr>
          <p:spPr>
            <a:xfrm>
              <a:off x="380880" y="228600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 их помощью воспитатели создают условия для коррекции отклонений в развитии детей, стимуляции речевой деятельности и речевого общения</a:t>
              </a:r>
              <a:r>
                <a:rPr b="0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380880" y="3505320"/>
              <a:ext cx="33526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 подборе дидактического материала нужно учитывать: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наполняемость уголк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разнообразие материал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оответствие возрасту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доступ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истем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эстетику оформления;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5"/>
            <p:cNvSpPr/>
            <p:nvPr/>
          </p:nvSpPr>
          <p:spPr>
            <a:xfrm>
              <a:off x="304560" y="6324840"/>
              <a:ext cx="62485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бор игрового и дидактического материала осуществляется на основе рекомендаций логопеда, что делает его взаимодействие с воспитателями не формальным, а очень тесным и плодотворным. Дидактическое оснащение должно соответствовать индивидуальным и возрастным особенностям. При случайном, формальном подборе игр объем восприятия детей оказывается перегруженным и обучаемость резко снижа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11" descr="4414d6e477eb.png"/>
          <p:cNvPicPr/>
          <p:nvPr/>
        </p:nvPicPr>
        <p:blipFill>
          <a:blip r:embed="rId3"/>
          <a:stretch/>
        </p:blipFill>
        <p:spPr>
          <a:xfrm>
            <a:off x="3809880" y="3505320"/>
            <a:ext cx="2662200" cy="306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380880" y="38088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содержащийся в коррекционном уголке, имеет многофункциональный характер. Игры должны быть подобраны в порядке нарастающей слож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80880" y="16002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образить деятельность детей в коррекционном уголке.              Дидактическое оснащение должно удовлетворять потребности актуального, ближайшего развития ребенка и его саморазвития. Пу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80880" y="403848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держанию предметное пространство утомляет, побуждает к безделью и агрессии. В то же время не следует перегружать уголок оборудованием, так как это затрудняет вы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80880" y="525780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ь материал должен соответствовать возрасту детей. Например: опора на игру, как на ведущий вид деятельности дошкольников, обеспечивает педагогам значительный положительный эффект в коррекционн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352680" y="670572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оздает условия для неформального общения ребенка со сверстниками и взрослым, предоставляет ему полную свободу действий. Поэтому игровой материал должен быть доступным для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0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7605-9B6E-4124-BFE9-738B9DD3F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f5d620e07ee2.png"/>
          <p:cNvPicPr/>
          <p:nvPr/>
        </p:nvPicPr>
        <p:blipFill>
          <a:blip r:embed="rId2"/>
          <a:stretch/>
        </p:blipFill>
        <p:spPr>
          <a:xfrm>
            <a:off x="533520" y="692460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199cc7796884.png"/>
          <p:cNvPicPr/>
          <p:nvPr/>
        </p:nvPicPr>
        <p:blipFill>
          <a:blip r:embed="rId3"/>
          <a:stretch/>
        </p:blipFill>
        <p:spPr>
          <a:xfrm>
            <a:off x="4876920" y="1828800"/>
            <a:ext cx="172548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6251040" y="92203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380880" y="114120"/>
            <a:ext cx="6019920" cy="89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ложительно влияет на развитие речи и интеллектуальное развитие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й уголок дошкольников будет отличаться от коррекционного уголка детей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го уголка дошкольников должно способствовать развитию психологических процессов, мелкой моторики. Обучение осуществляется через игровую деятельность. Поэтому в коррекционном уголке преобладает наличие игр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ладших школьников ведущим видом деятельности остается игра. Поэтому развитие познавательных процессов проходит через различ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ий школьный возраст - приоритетным направлением является самоподготовка к занятиям, развитие социальных навыков (игра «Магазин», «Поход в театр» и т.п), самообслуживание (штопка и чистка одеж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школьный возраст – приоритетным направлением является профориентационная деятельность, направленная на самоопределение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fld id="{77DFABF5-4AD5-40DD-920E-8F1D49573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251760" y="944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30492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вая развивающую среду группы, очень важно, чтобы окружающая детей обстановка была комфортной и эстетичной. Красота формирует ребенка. Поэтому нужно уделять большое внимание эстетике коррекционного уголка. Его оформление должно быть привлекательным для детей и вызывать у них стремление к самостоятельной деятельности. В то же время необходимо научить детей поддерживать порядок в уголке и воспитывать бережное отношение 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7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45B-F2AE-4431-8762-6500D2C67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f7f44873e759.png"/>
          <p:cNvPicPr/>
          <p:nvPr/>
        </p:nvPicPr>
        <p:blipFill>
          <a:blip r:embed="rId2"/>
          <a:stretch/>
        </p:blipFill>
        <p:spPr>
          <a:xfrm>
            <a:off x="1371600" y="3276720"/>
            <a:ext cx="4500720" cy="4162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640332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80880" y="754200"/>
          <a:ext cx="6019920" cy="8269200"/>
        </p:xfrm>
        <a:graphic>
          <a:graphicData uri="http://schemas.openxmlformats.org/drawingml/2006/table">
            <a:tbl>
              <a:tblPr/>
              <a:tblGrid>
                <a:gridCol w="381240"/>
                <a:gridCol w="1525320"/>
                <a:gridCol w="2284560"/>
                <a:gridCol w="825480"/>
                <a:gridCol w="1003320"/>
              </a:tblGrid>
              <a:tr h="31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ран звукопроизнош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артикуляционной  гимнаст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упражнений (речевой материал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глядный материал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мелкой моторики и графических навык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крупной мотор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на развитие психологических процессов (память, внимание, мышление и т.д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ие пособия для восполнения пробелов в знаниях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аксационные упражн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и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ксты сказо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ита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но и видеотека с релаксационными материала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подгот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рточки-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ые материа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с технологиями подготовки изложения, сочинения, рассказа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цы заполнения деловых бумаг (объяснительная, заявление и т.п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, библиотек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ы упражнений для глаз, для формирования правильной осанки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паузы во время выполнения домашних зада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ле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ая литератур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д.служба, руководитель по ФВ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6"/>
          <p:cNvSpPr/>
          <p:nvPr/>
        </p:nvSpPr>
        <p:spPr>
          <a:xfrm>
            <a:off x="914400" y="152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-развивающего уг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828-6B76-449E-AB1F-6A479DFC9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0880" y="304920"/>
          <a:ext cx="6172200" cy="8764560"/>
        </p:xfrm>
        <a:graphic>
          <a:graphicData uri="http://schemas.openxmlformats.org/drawingml/2006/table">
            <a:tbl>
              <a:tblPr/>
              <a:tblGrid>
                <a:gridCol w="390600"/>
                <a:gridCol w="1563840"/>
                <a:gridCol w="2263680"/>
                <a:gridCol w="925560"/>
                <a:gridCol w="1028520"/>
              </a:tblGrid>
              <a:tr h="14097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удов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ческие карты (самообслуживание, ремонт одежды, книг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обия по вязанию, вышиванию, бисероплетению и т.д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торы по труд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 д/о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1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о-бытовая 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горитмы действий в определенных  жизненных ситуациях (поход в магазин, оплата коммунальных услуг, вызов скорой помощи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семейному воспитанию), инструкторы по труду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и д/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опасность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, памятки, буклеты по действиям в чрезвычайных ситуациях, по правилам дорожного движения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 поведения и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(«Говори правильно!», «В театре», «В гостях»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ф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 (составление резюме, собеседование при приеме на работу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овые 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ик «Куда пойти учиться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ые педаго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7E7-F382-4FBB-A224-15008EB10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5:23:17Z</dcterms:created>
  <dc:creator>1</dc:creator>
  <dc:description/>
  <dc:language>en-US</dc:language>
  <cp:lastModifiedBy>Metod-kopilka.ru</cp:lastModifiedBy>
  <dcterms:modified xsi:type="dcterms:W3CDTF">2013-03-06T07:38:43Z</dcterms:modified>
  <cp:revision>80</cp:revision>
  <dc:subject/>
  <dc:title>Слайд 1</dc:title>
</cp:coreProperties>
</file>