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385-DEAE-4A42-99C1-3AE49B3F6F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C0E9-1CD1-4DDA-B6A8-68F3AF6349D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0F9-4EB7-4D41-887E-25AAB2CD080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3B72-DC7D-4DE5-BF81-8DEFE53D0775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6B2-FA66-46A1-A02D-F23366214BE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512-B542-4FC0-99B5-E62C331F06B7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16C0-67BB-41ED-B3FF-7BE5B11296E2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DDFC-9D66-47F7-A0FF-4780A74BFE3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51BF-BB35-4C55-BA6D-F232ABFF3B3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05A-D508-4376-96D4-7F4DB536A3B6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C630-7B6F-4BE0-BE97-009006BD65D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C2D8-21EF-4ACF-A831-97FB11C53929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976-0EAB-41BF-9FB6-61BE58586EA2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2A3-D0BC-41F3-9346-0DFD967CB5A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D57-C591-472E-B288-A1753A45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B69-5CEF-4111-A693-47257F6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CA4-2330-4B74-8E0F-B8528647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5EA-3C9A-4389-B45D-01C561CB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996-FD03-42F6-B723-37961089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3CC2-F325-4D21-AC9C-3C07D180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498D-3FCD-4C6C-B26F-477BB5A8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849-D286-4ACE-A351-5AC19596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3671-EE5E-4A9C-B450-1ED812CA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E036-88D3-4B73-9A6B-8D0502A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0A41-BA46-4FC0-9CDE-C90D98F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DE1-328D-44AB-9C85-AD900D0F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5A3B-66B3-48F9-8486-D5E4D62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956E-6579-4AC8-A636-CA1AAA1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108E-7EDC-4316-9858-ABDD3A5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C95-94CA-41C4-BB80-E8FC3C54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DCD0-3DF0-4C17-8672-DE57F76B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46B-8911-4C96-8462-A2D02CB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03D-2BCE-4FD7-BC82-944208F6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1AD-F4C4-4DAE-AA7C-9F6C58D9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AC7-0131-4286-BE7E-3E40F2B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A30-AD6E-40A7-86E1-CFBD288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BFE-E256-4E1A-AEE5-095BF55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48F-67A0-4AA1-9743-18A0489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BBA-3166-4F2E-AE79-8A5DA8B0078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C14B-1B16-4803-969C-4E014CCD800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1708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Тема урока: «Решение алгоритмических задач. Исполнение фрагмента программ.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0" y="4437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втор: Барсукова М.А., </a:t>
            </a:r>
            <a:br>
              <a:rPr sz="24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учитель информатик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БОУ СОШ №76 г.Ульяновск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765000"/>
          <a:ext cx="8439120" cy="521208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2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е значение целочисленных переменных после выполнения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8763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5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7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:=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y mod 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t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6" name="Picture 5" descr="j0288928"/>
          <p:cNvPicPr/>
          <p:nvPr/>
        </p:nvPicPr>
        <p:blipFill>
          <a:blip r:embed="rId1"/>
          <a:stretch/>
        </p:blipFill>
        <p:spPr>
          <a:xfrm>
            <a:off x="5195880" y="2349360"/>
            <a:ext cx="261612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36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Решение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м и заполним табл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" y="1295280"/>
          <a:ext cx="7772400" cy="4783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х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у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шага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=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=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y mod 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Что нарисует Улитка, выполнив следующую программу?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1341360"/>
            <a:ext cx="453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РОГРАММА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2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КОНЕЦ   </a:t>
            </a:r>
            <a:br>
              <a:rPr sz="1600"/>
            </a:b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3" name="Group 65"/>
          <p:cNvGrpSpPr/>
          <p:nvPr/>
        </p:nvGrpSpPr>
        <p:grpSpPr>
          <a:xfrm>
            <a:off x="3995640" y="1413000"/>
            <a:ext cx="4392720" cy="4608360"/>
            <a:chOff x="3995640" y="1413000"/>
            <a:chExt cx="4392720" cy="4608360"/>
          </a:xfrm>
        </p:grpSpPr>
        <p:sp>
          <p:nvSpPr>
            <p:cNvPr id="204" name="Line 25"/>
            <p:cNvSpPr/>
            <p:nvPr/>
          </p:nvSpPr>
          <p:spPr>
            <a:xfrm>
              <a:off x="4356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>
              <a:off x="46432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5003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5580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>
              <a:off x="5940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>
              <a:off x="6227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6877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7164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7740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8101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Line 37"/>
            <p:cNvSpPr/>
            <p:nvPr/>
          </p:nvSpPr>
          <p:spPr>
            <a:xfrm>
              <a:off x="5292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6516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Line 41"/>
            <p:cNvSpPr/>
            <p:nvPr/>
          </p:nvSpPr>
          <p:spPr>
            <a:xfrm>
              <a:off x="7451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Line 43"/>
            <p:cNvSpPr/>
            <p:nvPr/>
          </p:nvSpPr>
          <p:spPr>
            <a:xfrm>
              <a:off x="3995640" y="177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Line 44"/>
            <p:cNvSpPr/>
            <p:nvPr/>
          </p:nvSpPr>
          <p:spPr>
            <a:xfrm>
              <a:off x="3995640" y="2060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>
              <a:off x="3995640" y="242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3995640" y="2781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3995640" y="3068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3995640" y="3429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3995640" y="3789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3995640" y="407808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3995640" y="4365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3995640" y="465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Line 55"/>
            <p:cNvSpPr/>
            <p:nvPr/>
          </p:nvSpPr>
          <p:spPr>
            <a:xfrm>
              <a:off x="3995640" y="537372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Line 56"/>
            <p:cNvSpPr/>
            <p:nvPr/>
          </p:nvSpPr>
          <p:spPr>
            <a:xfrm>
              <a:off x="3995640" y="566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Line 58"/>
            <p:cNvSpPr/>
            <p:nvPr/>
          </p:nvSpPr>
          <p:spPr>
            <a:xfrm flipV="1">
              <a:off x="6227640" y="1628640"/>
              <a:ext cx="0" cy="40320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4356000" y="3429000"/>
              <a:ext cx="3816360" cy="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Line 66"/>
          <p:cNvSpPr/>
          <p:nvPr/>
        </p:nvSpPr>
        <p:spPr>
          <a:xfrm>
            <a:off x="6227640" y="3429000"/>
            <a:ext cx="649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687708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Line 68"/>
          <p:cNvSpPr/>
          <p:nvPr/>
        </p:nvSpPr>
        <p:spPr>
          <a:xfrm flipH="1">
            <a:off x="5579640" y="4653000"/>
            <a:ext cx="1297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Line 69"/>
          <p:cNvSpPr/>
          <p:nvPr/>
        </p:nvSpPr>
        <p:spPr>
          <a:xfrm flipV="1">
            <a:off x="558000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6516720" y="378936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Line 72"/>
          <p:cNvSpPr/>
          <p:nvPr/>
        </p:nvSpPr>
        <p:spPr>
          <a:xfrm flipH="1">
            <a:off x="5940000" y="436572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Line 73"/>
          <p:cNvSpPr/>
          <p:nvPr/>
        </p:nvSpPr>
        <p:spPr>
          <a:xfrm flipV="1">
            <a:off x="5940360" y="378900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Line 74"/>
          <p:cNvSpPr/>
          <p:nvPr/>
        </p:nvSpPr>
        <p:spPr>
          <a:xfrm>
            <a:off x="5940360" y="378936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Line 75"/>
          <p:cNvSpPr/>
          <p:nvPr/>
        </p:nvSpPr>
        <p:spPr>
          <a:xfrm flipV="1">
            <a:off x="5580000" y="2781000"/>
            <a:ext cx="6476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Line 76"/>
          <p:cNvSpPr/>
          <p:nvPr/>
        </p:nvSpPr>
        <p:spPr>
          <a:xfrm>
            <a:off x="6227640" y="2781360"/>
            <a:ext cx="6494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4" name="Picture 22" descr="a46"/>
          <p:cNvPicPr/>
          <p:nvPr/>
        </p:nvPicPr>
        <p:blipFill>
          <a:blip r:embed="rId1"/>
          <a:stretch/>
        </p:blipFill>
        <p:spPr>
          <a:xfrm>
            <a:off x="5940360" y="2997360"/>
            <a:ext cx="72072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86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1214E-006 L 0.071 2.31214E-006 E">
                                      <p:cBhvr>
                                        <p:cTn id="28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2.31214E-006 L 0.071 0.16786 E">
                                      <p:cBhvr>
                                        <p:cTn id="295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36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16787 L -0.07084 0.16787 E">
                                      <p:cBhvr>
                                        <p:cTn id="300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36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16787 L -0.07084 -0.0104 E">
                                      <p:cBhvr>
                                        <p:cTn id="30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36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104 L 0.00798 -0.0104 E">
                                      <p:cBhvr>
                                        <p:cTn id="31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36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6 C 0.00972 0.01942 -0.00504 -0.00694 0.00955 0.00856 C 0.01076 0.00994 0.01041 0.01295 0.01111 0.0148 C 0.01198 0.01711 0.01319 0.01896 0.01423 0.02104 C 0.01475 0.02382 0.01423 0.02752 0.0158 0.0296 C 0.01736 0.03168 0.02152 0.0289 0.02222 0.03168 C 0.02413 0.03838 0.02222 0.04578 0.02222 0.05295 E">
                                      <p:cBhvr>
                                        <p:cTn id="321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36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5295 L 0.02222 0.13688 E">
                                      <p:cBhvr>
                                        <p:cTn id="324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036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3688 L -0.0408 0.13688 E">
                                      <p:cBhvr>
                                        <p:cTn id="329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36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13689 L -0.0408 0.05296 E">
                                      <p:cBhvr>
                                        <p:cTn id="33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36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05295 L 0.02222 0.05295 E">
                                      <p:cBhvr>
                                        <p:cTn id="342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536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3 0.05295 C -0.02066 0.03307 -0.06336 0.01318 -0.07934 0.0044 E">
                                      <p:cBhvr>
                                        <p:cTn id="35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86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104 L -0.00781 -0.10473 E">
                                      <p:cBhvr>
                                        <p:cTn id="35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086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10474 L 0.06319 0.00023 E">
                                      <p:cBhvr>
                                        <p:cTn id="35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ндреева Е.В. Математические основы информатики. Элективный курс: Учебное пособие/М.: БИНОМ. Лаборатория знаний, 2005.-328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Бондарев В.М., Рублинецкий В.И., Качко Е.Г. Основы программирования/ Харьков: Фолио, 1997.- 386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Кузнецов А.А. Информатика. Тестовые задания. – 2-е изд., испр. – М.: БИНОМ. Лаборатория знаний, 2003.-232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ациевский С.В., Ишанов С.А., Клевцур С.В. Информатика: Учебное пособие/ Калининград: КГУ, 2003.-140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festival.1september.r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47" name="Picture 4" descr="j0356789"/>
          <p:cNvPicPr/>
          <p:nvPr/>
        </p:nvPicPr>
        <p:blipFill>
          <a:blip r:embed="rId2"/>
          <a:stretch/>
        </p:blipFill>
        <p:spPr>
          <a:xfrm>
            <a:off x="7288200" y="338040"/>
            <a:ext cx="1460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000" y="692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ff"/>
                </a:solidFill>
                <a:latin typeface="Tahoma"/>
              </a:rPr>
              <a:t>Цели урока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епить знания систем команд и конструкций алгоритмов-исполнителей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формировать операционный стиль мышлени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Ход уро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1. Организационной момент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2. Актуализация знаний по теме: «Алгоритмизация и основы программирования в среде Паскаль»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3. Изучение нового материал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4. Закрепление изученного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5. Подведение итогов урок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6. Домашнее задание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icture 2" descr="j0283002"/>
          <p:cNvPicPr/>
          <p:nvPr/>
        </p:nvPicPr>
        <p:blipFill>
          <a:blip r:embed="rId1"/>
          <a:stretch/>
        </p:blipFill>
        <p:spPr>
          <a:xfrm>
            <a:off x="6012000" y="3860640"/>
            <a:ext cx="237168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Фронтальный опр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9"/>
          <p:cNvSpPr/>
          <p:nvPr/>
        </p:nvSpPr>
        <p:spPr>
          <a:xfrm>
            <a:off x="179280" y="902160"/>
            <a:ext cx="84963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четкая, понятная исполнителю серия команд, позволяющая выполнить данную задач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строго по порядк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в котором выполняются в зависимости от выполнения или невыполнения некоторого условия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несколько раз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набор инструкций для компьютера, направленных на решение конкретной задачи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множество величин, объединенных совокупностью допустимых операций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предложение языка программирования, задающее полное описание некоторого действия, которое необходимо выполнит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мы можем запустить написанную нами программу в среде Турбо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формы представления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свойства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Из чего состоит алфавит языка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элементы программирования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Picture 80" descr="j0288870"/>
          <p:cNvPicPr/>
          <p:nvPr/>
        </p:nvPicPr>
        <p:blipFill>
          <a:blip r:embed="rId1"/>
          <a:stretch/>
        </p:blipFill>
        <p:spPr>
          <a:xfrm>
            <a:off x="7192800" y="5013360"/>
            <a:ext cx="12668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Работа с карточк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00240"/>
          <a:ext cx="8280360" cy="5394240"/>
        </p:xfrm>
        <a:graphic>
          <a:graphicData uri="http://schemas.openxmlformats.org/drawingml/2006/table">
            <a:tbl>
              <a:tblPr/>
              <a:tblGrid>
                <a:gridCol w="2760840"/>
                <a:gridCol w="1681200"/>
                <a:gridCol w="3838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Элемент блок-схемы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языке Паскаль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ыполняемые действия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чало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нец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значение переменной </a:t>
                      </a:r>
                      <a:r>
                        <a:rPr b="1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ывода данных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‘результат=’,S)</a:t>
                      </a: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текст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результат=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и значение переменной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S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ператор вы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до вводить два числа с клавиатур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осле выполнения операторов, переменным присваиваются следующие значения: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C=4T, D=A+B, I=I+1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операторы присваивания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57" descr="img1.gif (1061 bytes)"/>
          <p:cNvPicPr/>
          <p:nvPr/>
        </p:nvPicPr>
        <p:blipFill>
          <a:blip r:embed="rId1"/>
          <a:stretch/>
        </p:blipFill>
        <p:spPr>
          <a:xfrm>
            <a:off x="1241280" y="1844640"/>
            <a:ext cx="1386000" cy="48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5" descr="img4.gif (1227 bytes)"/>
          <p:cNvPicPr/>
          <p:nvPr/>
        </p:nvPicPr>
        <p:blipFill>
          <a:blip r:embed="rId2"/>
          <a:stretch/>
        </p:blipFill>
        <p:spPr>
          <a:xfrm>
            <a:off x="539640" y="313992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img6.gif (1087 bytes)"/>
          <p:cNvPicPr/>
          <p:nvPr/>
        </p:nvPicPr>
        <p:blipFill>
          <a:blip r:embed="rId3"/>
          <a:stretch/>
        </p:blipFill>
        <p:spPr>
          <a:xfrm>
            <a:off x="814320" y="4941720"/>
            <a:ext cx="1812960" cy="5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3" descr="img7.gif (1149 bytes)"/>
          <p:cNvPicPr/>
          <p:nvPr/>
        </p:nvPicPr>
        <p:blipFill>
          <a:blip r:embed="rId4"/>
          <a:stretch/>
        </p:blipFill>
        <p:spPr>
          <a:xfrm>
            <a:off x="812880" y="5711760"/>
            <a:ext cx="21747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Какие из перечисленных далее описаний можно рассматривать как алгоритмы? Почему?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954080"/>
            <a:ext cx="8136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Рецепт приготовления торт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а поведения в компьютерном класс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Метод перевода двоичных чисел в другую систему счисления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Доказательство теоремы о трех перпендикулярах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о правописания сочетаний –чу- и –щю- в русском язык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Способ решения головоломки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Каталог товаров, имеющихся в продаже в магазин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Инструкция по распаковке, установке, подключению и настройки телевизор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Picture 7" descr="j0283551"/>
          <p:cNvPicPr/>
          <p:nvPr/>
        </p:nvPicPr>
        <p:blipFill>
          <a:blip r:embed="rId1"/>
          <a:stretch/>
        </p:blipFill>
        <p:spPr>
          <a:xfrm>
            <a:off x="7020000" y="1125360"/>
            <a:ext cx="16556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8f8f8"/>
                </a:solidFill>
                <a:latin typeface="Tahoma"/>
              </a:rPr>
              <a:t>Тема урока:</a:t>
            </a:r>
            <a:br>
              <a:rPr sz="5000"/>
            </a:br>
            <a:br>
              <a:rPr sz="14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00ffff"/>
                </a:solidFill>
                <a:latin typeface="Tahoma"/>
              </a:rPr>
              <a:t>«Решение алгоритмических задач. Исполнение фрагмента программ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j0223770"/>
          <p:cNvPicPr/>
          <p:nvPr/>
        </p:nvPicPr>
        <p:blipFill>
          <a:blip r:embed="rId1"/>
          <a:stretch/>
        </p:blipFill>
        <p:spPr>
          <a:xfrm>
            <a:off x="6680160" y="4437000"/>
            <a:ext cx="192420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404280"/>
            <a:ext cx="8290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1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ь значение целочисленной переменной х после выполнения следующего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Line 64"/>
          <p:cNvSpPr/>
          <p:nvPr/>
        </p:nvSpPr>
        <p:spPr>
          <a:xfrm>
            <a:off x="4932360" y="242100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AutoShape 65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Line 66"/>
          <p:cNvSpPr/>
          <p:nvPr/>
        </p:nvSpPr>
        <p:spPr>
          <a:xfrm>
            <a:off x="4956120" y="355608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AutoShape 67"/>
          <p:cNvSpPr/>
          <p:nvPr/>
        </p:nvSpPr>
        <p:spPr>
          <a:xfrm>
            <a:off x="3954600" y="3927600"/>
            <a:ext cx="2001600" cy="7412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68"/>
          <p:cNvSpPr/>
          <p:nvPr/>
        </p:nvSpPr>
        <p:spPr>
          <a:xfrm>
            <a:off x="5956200" y="4297320"/>
            <a:ext cx="7509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Line 69"/>
          <p:cNvSpPr/>
          <p:nvPr/>
        </p:nvSpPr>
        <p:spPr>
          <a:xfrm>
            <a:off x="67071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Rectangle 70"/>
          <p:cNvSpPr/>
          <p:nvPr/>
        </p:nvSpPr>
        <p:spPr>
          <a:xfrm>
            <a:off x="5956200" y="4668840"/>
            <a:ext cx="175284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Line 71"/>
          <p:cNvSpPr/>
          <p:nvPr/>
        </p:nvSpPr>
        <p:spPr>
          <a:xfrm>
            <a:off x="3454560" y="4297320"/>
            <a:ext cx="500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Line 72"/>
          <p:cNvSpPr/>
          <p:nvPr/>
        </p:nvSpPr>
        <p:spPr>
          <a:xfrm>
            <a:off x="34545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Rectangle 73"/>
          <p:cNvSpPr/>
          <p:nvPr/>
        </p:nvSpPr>
        <p:spPr>
          <a:xfrm>
            <a:off x="3203640" y="4668840"/>
            <a:ext cx="150156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-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Line 74"/>
          <p:cNvSpPr/>
          <p:nvPr/>
        </p:nvSpPr>
        <p:spPr>
          <a:xfrm>
            <a:off x="370368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Line 75"/>
          <p:cNvSpPr/>
          <p:nvPr/>
        </p:nvSpPr>
        <p:spPr>
          <a:xfrm>
            <a:off x="670716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Line 76"/>
          <p:cNvSpPr/>
          <p:nvPr/>
        </p:nvSpPr>
        <p:spPr>
          <a:xfrm>
            <a:off x="3703680" y="5597640"/>
            <a:ext cx="30034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77"/>
          <p:cNvSpPr/>
          <p:nvPr/>
        </p:nvSpPr>
        <p:spPr>
          <a:xfrm>
            <a:off x="4956120" y="5597640"/>
            <a:ext cx="0" cy="3697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Line 78"/>
          <p:cNvSpPr/>
          <p:nvPr/>
        </p:nvSpPr>
        <p:spPr>
          <a:xfrm>
            <a:off x="5956200" y="3184560"/>
            <a:ext cx="25034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Line 79"/>
          <p:cNvSpPr/>
          <p:nvPr/>
        </p:nvSpPr>
        <p:spPr>
          <a:xfrm>
            <a:off x="8459640" y="3184560"/>
            <a:ext cx="0" cy="29685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5707080" y="6153120"/>
            <a:ext cx="27525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Line 81"/>
          <p:cNvSpPr/>
          <p:nvPr/>
        </p:nvSpPr>
        <p:spPr>
          <a:xfrm>
            <a:off x="5707080" y="6153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2"/>
          <p:cNvSpPr/>
          <p:nvPr/>
        </p:nvSpPr>
        <p:spPr>
          <a:xfrm>
            <a:off x="6443640" y="249228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Line 84"/>
          <p:cNvSpPr/>
          <p:nvPr/>
        </p:nvSpPr>
        <p:spPr>
          <a:xfrm>
            <a:off x="4859280" y="132876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Line 105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Line 106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107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108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109"/>
          <p:cNvSpPr/>
          <p:nvPr/>
        </p:nvSpPr>
        <p:spPr>
          <a:xfrm>
            <a:off x="4859280" y="134136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Line 111"/>
          <p:cNvSpPr/>
          <p:nvPr/>
        </p:nvSpPr>
        <p:spPr>
          <a:xfrm>
            <a:off x="4932360" y="240984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112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Text Box 113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Line 114"/>
          <p:cNvSpPr/>
          <p:nvPr/>
        </p:nvSpPr>
        <p:spPr>
          <a:xfrm>
            <a:off x="4932360" y="3562200"/>
            <a:ext cx="0" cy="371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115"/>
          <p:cNvSpPr/>
          <p:nvPr/>
        </p:nvSpPr>
        <p:spPr>
          <a:xfrm>
            <a:off x="3995640" y="3933720"/>
            <a:ext cx="2001960" cy="74160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Text Box 116"/>
          <p:cNvSpPr/>
          <p:nvPr/>
        </p:nvSpPr>
        <p:spPr>
          <a:xfrm>
            <a:off x="2916360" y="3645000"/>
            <a:ext cx="63648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117"/>
          <p:cNvSpPr/>
          <p:nvPr/>
        </p:nvSpPr>
        <p:spPr>
          <a:xfrm>
            <a:off x="6300720" y="3645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Line 118"/>
          <p:cNvSpPr/>
          <p:nvPr/>
        </p:nvSpPr>
        <p:spPr>
          <a:xfrm>
            <a:off x="5940360" y="4292640"/>
            <a:ext cx="75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Line 119"/>
          <p:cNvSpPr/>
          <p:nvPr/>
        </p:nvSpPr>
        <p:spPr>
          <a:xfrm>
            <a:off x="6732720" y="429264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Rectangle 120"/>
          <p:cNvSpPr/>
          <p:nvPr/>
        </p:nvSpPr>
        <p:spPr>
          <a:xfrm>
            <a:off x="5915160" y="4672080"/>
            <a:ext cx="1752480" cy="55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Line 121"/>
          <p:cNvSpPr/>
          <p:nvPr/>
        </p:nvSpPr>
        <p:spPr>
          <a:xfrm>
            <a:off x="6732720" y="522936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Line 122"/>
          <p:cNvSpPr/>
          <p:nvPr/>
        </p:nvSpPr>
        <p:spPr>
          <a:xfrm>
            <a:off x="5003640" y="5589720"/>
            <a:ext cx="1708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Line 123"/>
          <p:cNvSpPr/>
          <p:nvPr/>
        </p:nvSpPr>
        <p:spPr>
          <a:xfrm>
            <a:off x="4932360" y="5589720"/>
            <a:ext cx="0" cy="369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Line 124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Line 125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Line 126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0880" y="380880"/>
          <a:ext cx="8439120" cy="624852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75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75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46:59Z</dcterms:created>
  <dc:creator>User</dc:creator>
  <dc:description/>
  <dc:language>en-US</dc:language>
  <cp:lastModifiedBy>Metod-kopilka.ru</cp:lastModifiedBy>
  <dcterms:modified xsi:type="dcterms:W3CDTF">2013-02-09T06:32:36Z</dcterms:modified>
  <cp:revision>148</cp:revision>
  <dc:subject/>
  <dc:title>МОУ-гуманитарно-педагогический лицей-интернат  г. Балашова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