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500-527B-4C45-A033-08087D70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B1E1-205F-4CB8-A739-F10A78CE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8E6A-3125-4961-B3ED-F41CBDCB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27D-C77D-4255-AD9B-9DDF68E8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2303-FC65-4B22-97DA-B4B22702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1E29-2528-48A1-902D-E2F350ED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85E7-3483-4CD9-8682-409C2AB2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5216-603C-41E5-BFF4-7E7B50D9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B4FD-FE71-4178-869E-0A70F258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19F6-4A61-4CF5-A9A8-ECAFC5C8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4BA9-E774-47F6-81F0-8E7E84D6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B2E-2AB1-4724-856A-D8FBBC9B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52F3-0FFF-4837-869D-ECF21FC1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8878-B28F-44E6-8EDB-47425C5E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0997-3F1A-4620-814B-DDECD434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7FC6-E65E-4FA0-B871-9B215E74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E9B8-39D1-4009-8003-E43946C7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7BBC8-CD33-43B1-88CD-E80F35FC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8393F-222A-41CF-AE00-9A08CC15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64843-CF67-4795-A4C7-BEC3A7C3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C3247-2E93-474A-A17F-F2DE3194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8946E-C987-499D-8810-0ED278CE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C666-EE4A-40B6-836E-3330AC16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8A994-976D-4253-8C61-440ABD84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45624-0BEE-4F11-B690-30BF187D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28A60-81C7-4794-831E-8F89E302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AAFE1-63CF-42BD-8E6F-777734D9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1676E-8E47-405B-8491-7B299587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FAA66-0D2D-4331-9FB8-05DE32C2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0B07C-51A4-4C86-BFB6-EECC5464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D2248-35BD-4A59-8036-D2A41F20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26B97-0180-4194-93D4-701E9316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C46F8-BFA8-467C-8301-9B95498C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216-02BE-446E-ACF3-0995E42B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D7F1C-1B7D-4323-AA2B-7FDAAB26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6FAED-9CD3-442C-9842-28A14048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FFC90-EABD-403E-8490-2068A6AD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B3223-F6DB-4170-BB83-72EB9AD6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D3736-998D-4628-A37A-2154F0FB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ECC43-CA12-4F9E-8624-B2FA9EF4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73155-CC9A-4B9E-AECB-38B825B3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14FED-D44E-4B6B-BF23-740B630F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A930E-C6FB-41AF-A764-0AC1A9C0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61FC4-D629-4823-A013-E0D13FA6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B7F-949A-4B0A-94FE-1915AFC1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5562D-40FA-4608-8061-AD2C3AF5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9AC47-7FA9-4EC1-87E0-6EB986FF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463DE-FBB7-4759-9577-A5C4AAA6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AFAA2-7693-4DF0-B893-66FEA633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0C363-F28A-454B-B1E1-CC50E4BB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2B351-4D17-4562-B087-15800118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06B74-70C0-4EF6-B51F-1F6BEF58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C8205-57F0-4F6C-ABDB-05869991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AB81E-FBE2-41B2-8061-A733FE9B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6E334-305A-4777-A659-B8E719EC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3BAA-39DE-4690-B293-CE11193B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04C44-7D4A-4C14-B4B4-9F5994C1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7127A-0D60-4BDD-952D-8DCC3F92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2EA8B-C4AF-4512-8CDD-A79865AF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F05E0-7CB4-4A0C-8692-B4299E11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6DC10-B990-4656-AB7E-FC2D7DD6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A33A4-1043-4E0F-AB0A-EF6D974A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0A320-64C6-4286-B084-3971761B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71CB6-997E-4D09-8E1D-0168790D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022BE-CB8D-41B4-9C7D-F7ADF103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55EBA-9126-4447-9AA6-ACA58345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7483-7163-43F1-8A6B-21E1FF3C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C123F-139F-45CA-A3E2-61A3AFA2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1F86C-1D2C-447B-8492-1D10AC90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C2C63-C3A7-496A-B59D-8E123C8D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D3D8B-9F51-4894-B4C6-30CEF64A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B32E2-279B-4890-8BB1-35DC38F1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43B51-E766-4106-AF25-A868AC9D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0BC02-2792-4C12-87C2-3AB08C34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EA904-F38B-4963-BBBB-8EC8F43E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E538F-CEA2-414F-AB93-93138C74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3F972-4CDB-4805-9216-D5D17A72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774F-D227-4DDF-88EA-6A5CDA32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65570-5397-43ED-ADFA-8553AB7F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2ED87-49D3-4F28-8A24-952D1640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7D6BB-C4D6-4843-960F-453F9DC2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02A10-D4BC-4972-BB4C-93C0A832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6FE67-36E4-4DD2-A905-60D83EBA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7A62-6BDF-42DD-905B-205A2910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D4B2-BFB7-4303-BB1C-32E28A8C6EB4}" type="slidenum">
              <a:rPr b="0" lang="ru-R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D6CA-0FE6-4BD0-AAF7-D77C242293B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918E-4C2E-4D65-A88D-B95289E5A41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3F55-8A5D-400C-AAAA-45B97D764ADA}" type="slidenum">
              <a:rPr b="0" lang="ru-R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4F63-A0FA-4CCC-95C7-7731753608FB}" type="slidenum">
              <a:rPr b="0" lang="ru-R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02A3-D59C-4ADF-B701-4CEA1AF6C4C8}" type="slidenum">
              <a:rPr b="0" lang="ru-R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63F7-AB01-4950-A414-8BBAC890753E}" type="slidenum">
              <a:rPr b="0" lang="ru-R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378000" y="152280"/>
            <a:ext cx="8315280" cy="1262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42926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убарева Татьяна Владимировн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Прямоугольник 3" descr=""/>
          <p:cNvPicPr/>
          <p:nvPr/>
        </p:nvPicPr>
        <p:blipFill>
          <a:blip r:embed="rId2"/>
          <a:stretch/>
        </p:blipFill>
        <p:spPr>
          <a:xfrm>
            <a:off x="109440" y="1920960"/>
            <a:ext cx="9004320" cy="319392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5" descr="печать-круглая.png"/>
          <p:cNvPicPr/>
          <p:nvPr/>
        </p:nvPicPr>
        <p:blipFill>
          <a:blip r:embed="rId3"/>
          <a:stretch/>
        </p:blipFill>
        <p:spPr>
          <a:xfrm>
            <a:off x="0" y="4708440"/>
            <a:ext cx="21495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Oval 2"/>
          <p:cNvSpPr/>
          <p:nvPr/>
        </p:nvSpPr>
        <p:spPr>
          <a:xfrm>
            <a:off x="468360" y="620640"/>
            <a:ext cx="10080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Oval 3"/>
          <p:cNvSpPr/>
          <p:nvPr/>
        </p:nvSpPr>
        <p:spPr>
          <a:xfrm>
            <a:off x="2268360" y="692280"/>
            <a:ext cx="1008360" cy="1008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Oval 4"/>
          <p:cNvSpPr/>
          <p:nvPr/>
        </p:nvSpPr>
        <p:spPr>
          <a:xfrm>
            <a:off x="4211640" y="620640"/>
            <a:ext cx="100800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Oval 5"/>
          <p:cNvSpPr/>
          <p:nvPr/>
        </p:nvSpPr>
        <p:spPr>
          <a:xfrm>
            <a:off x="6012000" y="620640"/>
            <a:ext cx="100800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Oval 6"/>
          <p:cNvSpPr/>
          <p:nvPr/>
        </p:nvSpPr>
        <p:spPr>
          <a:xfrm>
            <a:off x="7667640" y="692280"/>
            <a:ext cx="1008000" cy="1008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250920" y="5229360"/>
            <a:ext cx="1368360" cy="1368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2050920" y="5229360"/>
            <a:ext cx="1368720" cy="1368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3924360" y="5229360"/>
            <a:ext cx="1368360" cy="136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5724360" y="5229360"/>
            <a:ext cx="1368720" cy="1368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11"/>
          <p:cNvSpPr/>
          <p:nvPr/>
        </p:nvSpPr>
        <p:spPr>
          <a:xfrm>
            <a:off x="7524720" y="5229360"/>
            <a:ext cx="1368360" cy="13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6296E-006 C 0.04965 0.17361 0.09948 0.34722 0.03836 0.38241 C -0.02275 0.41759 -0.28976 0.15741 -0.36667 0.21111 C -0.44358 0.26482 -0.43351 0.48472 -0.42327 0.70463 E">
                                      <p:cBhvr>
                                        <p:cTn id="158" dur="5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92593E-006 C -0.05452 0.14282 -0.10886 0.28564 -0.16164 0.30647 C -0.21441 0.32731 -0.26303 0.09606 -0.31667 0.1243 C -0.37049 0.15254 -0.425 0.47476 -0.48334 0.47545 C -0.54167 0.47615 -0.61112 0.14467 -0.66667 0.1287 C -0.7224 0.11272 -0.79653 0.28564 -0.81823 0.37985 C -0.83994 0.47407 -0.80382 0.64004 -0.79671 0.69328 E">
                                      <p:cBhvr>
                                        <p:cTn id="160" dur="5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Oval 2"/>
          <p:cNvSpPr/>
          <p:nvPr/>
        </p:nvSpPr>
        <p:spPr>
          <a:xfrm>
            <a:off x="468360" y="620640"/>
            <a:ext cx="10080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Oval 3"/>
          <p:cNvSpPr/>
          <p:nvPr/>
        </p:nvSpPr>
        <p:spPr>
          <a:xfrm>
            <a:off x="2268360" y="692280"/>
            <a:ext cx="100836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Oval 4"/>
          <p:cNvSpPr/>
          <p:nvPr/>
        </p:nvSpPr>
        <p:spPr>
          <a:xfrm>
            <a:off x="4211640" y="620640"/>
            <a:ext cx="10080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Oval 5"/>
          <p:cNvSpPr/>
          <p:nvPr/>
        </p:nvSpPr>
        <p:spPr>
          <a:xfrm>
            <a:off x="6012000" y="620640"/>
            <a:ext cx="10080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Oval 6"/>
          <p:cNvSpPr/>
          <p:nvPr/>
        </p:nvSpPr>
        <p:spPr>
          <a:xfrm>
            <a:off x="7667640" y="692280"/>
            <a:ext cx="10080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250920" y="5229360"/>
            <a:ext cx="1368360" cy="1368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2050920" y="5229360"/>
            <a:ext cx="1368720" cy="1368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9"/>
          <p:cNvSpPr/>
          <p:nvPr/>
        </p:nvSpPr>
        <p:spPr>
          <a:xfrm>
            <a:off x="3924360" y="5229360"/>
            <a:ext cx="1368360" cy="136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5724360" y="5229360"/>
            <a:ext cx="1368720" cy="1368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7524720" y="5229360"/>
            <a:ext cx="1368360" cy="13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0093 C 0.06753 0.12037 0.13455 0.24167 0.22431 0.26204 C 0.31406 0.28241 0.44531 0.13449 0.53958 0.1213 C 0.63385 0.1081 0.75052 0.12384 0.78958 0.18241 C 0.82865 0.24097 0.84566 0.43889 0.77431 0.47315 C 0.70295 0.50741 0.48125 0.425 0.36181 0.38796 C 0.24236 0.35092 0.12344 0.23773 0.05764 0.25092 C -0.00816 0.26412 -0.0224 0.3919 -0.03264 0.46759 C -0.04288 0.54329 -0.01059 0.66505 -0.00347 0.70463 E">
                                      <p:cBhvr>
                                        <p:cTn id="166" dur="5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19 0.14097 0.03455 0.28217 0.03333 0.37592 C 0.03212 0.46967 0.04011 0.575 -0.00694 0.56296 C -0.05399 0.55092 -0.17969 0.34514 -0.24878 0.3037 C -0.31753 0.26227 -0.37621 0.32847 -0.42083 0.31481 C -0.46545 0.30116 -0.47917 0.25092 -0.51667 0.22222 C -0.55417 0.19352 -0.60885 0.13958 -0.64583 0.14259 C -0.68281 0.1456 -0.74601 0.19977 -0.73889 0.24074 C -0.73177 0.28171 -0.62621 0.31088 -0.60278 0.38889 C -0.57934 0.4669 -0.59948 0.65625 -0.59861 0.70926 E">
                                      <p:cBhvr>
                                        <p:cTn id="168" dur="5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Oval 2"/>
          <p:cNvSpPr/>
          <p:nvPr/>
        </p:nvSpPr>
        <p:spPr>
          <a:xfrm>
            <a:off x="468360" y="620640"/>
            <a:ext cx="10080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5a63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Oval 3"/>
          <p:cNvSpPr/>
          <p:nvPr/>
        </p:nvSpPr>
        <p:spPr>
          <a:xfrm>
            <a:off x="2268360" y="692280"/>
            <a:ext cx="1008360" cy="1008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5a63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Oval 4"/>
          <p:cNvSpPr/>
          <p:nvPr/>
        </p:nvSpPr>
        <p:spPr>
          <a:xfrm>
            <a:off x="4211640" y="620640"/>
            <a:ext cx="100800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5a63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Oval 5"/>
          <p:cNvSpPr/>
          <p:nvPr/>
        </p:nvSpPr>
        <p:spPr>
          <a:xfrm>
            <a:off x="6012000" y="620640"/>
            <a:ext cx="100800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5a63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Oval 6"/>
          <p:cNvSpPr/>
          <p:nvPr/>
        </p:nvSpPr>
        <p:spPr>
          <a:xfrm>
            <a:off x="7667640" y="692280"/>
            <a:ext cx="1008000" cy="1008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5a63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250920" y="5229360"/>
            <a:ext cx="1368360" cy="1368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2050920" y="5229360"/>
            <a:ext cx="1368720" cy="136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3924360" y="5229360"/>
            <a:ext cx="1368360" cy="1368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5724360" y="5229360"/>
            <a:ext cx="1368720" cy="1368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11"/>
          <p:cNvSpPr/>
          <p:nvPr/>
        </p:nvSpPr>
        <p:spPr>
          <a:xfrm>
            <a:off x="7524720" y="5229360"/>
            <a:ext cx="1368360" cy="13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C 0.01059 0.18935 0.02135 0.3787 0.1 0.42431 C 0.17864 0.46991 0.3592 0.28773 0.4717 0.27338 C 0.5842 0.25903 0.72257 0.26782 0.775 0.33773 C 0.82743 0.40764 0.78472 0.63472 0.78663 0.69329 E">
                                      <p:cBhvr>
                                        <p:cTn id="174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7.03704E-006 C 0.17275 0.10925 0.34549 0.21851 0.41181 0.33772 C 0.47813 0.45694 0.4382 0.5861 0.39844 0.7155 E">
                                      <p:cBhvr>
                                        <p:cTn id="176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96296E-006 C -0.00346 0.29421 -0.00695 0.58866 -0.01007 0.70648 E">
                                      <p:cBhvr>
                                        <p:cTn id="178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40741E-007 C -0.20625 0.11088 -0.4125 0.22176 -0.47968 0.34213 C -0.54687 0.4625 -0.475 0.59236 -0.40312 0.72222 E">
                                      <p:cBhvr>
                                        <p:cTn id="180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92593E-006 C 0.02586 0.21388 0.05225 0.42777 -0.07657 0.47545 C -0.20539 0.52314 -0.65348 0.24768 -0.77344 0.28657 C -0.89323 0.32545 -0.84497 0.51712 -0.79671 0.70879 E">
                                      <p:cBhvr>
                                        <p:cTn id="182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6840" y="1341360"/>
            <a:ext cx="8435880" cy="489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orbel"/>
              </a:rPr>
              <a:t>«Девочки нашего класса дежурят в столовой. Сколькими способами можно выбрать двух дежурных в столовую из 5 девочек?»</a:t>
            </a:r>
            <a:endParaRPr b="0" lang="en-US" sz="5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4" descr=""/>
          <p:cNvPicPr/>
          <p:nvPr/>
        </p:nvPicPr>
        <p:blipFill>
          <a:blip r:embed="rId1"/>
          <a:stretch/>
        </p:blipFill>
        <p:spPr>
          <a:xfrm>
            <a:off x="268200" y="244440"/>
            <a:ext cx="8285400" cy="1260360"/>
          </a:xfrm>
          <a:prstGeom prst="rect">
            <a:avLst/>
          </a:prstGeom>
          <a:ln w="0">
            <a:noFill/>
          </a:ln>
        </p:spPr>
      </p:pic>
      <p:sp>
        <p:nvSpPr>
          <p:cNvPr id="310" name="Oval 8"/>
          <p:cNvSpPr/>
          <p:nvPr/>
        </p:nvSpPr>
        <p:spPr>
          <a:xfrm>
            <a:off x="1403280" y="34290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Oval 13"/>
          <p:cNvSpPr/>
          <p:nvPr/>
        </p:nvSpPr>
        <p:spPr>
          <a:xfrm>
            <a:off x="7740720" y="3429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Oval 14"/>
          <p:cNvSpPr/>
          <p:nvPr/>
        </p:nvSpPr>
        <p:spPr>
          <a:xfrm>
            <a:off x="4284720" y="18446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6372360" y="6093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Oval 16"/>
          <p:cNvSpPr/>
          <p:nvPr/>
        </p:nvSpPr>
        <p:spPr>
          <a:xfrm>
            <a:off x="2843280" y="6093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17"/>
          <p:cNvSpPr/>
          <p:nvPr/>
        </p:nvSpPr>
        <p:spPr>
          <a:xfrm flipV="1">
            <a:off x="1476360" y="1916280"/>
            <a:ext cx="2808360" cy="15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18"/>
          <p:cNvSpPr/>
          <p:nvPr/>
        </p:nvSpPr>
        <p:spPr>
          <a:xfrm>
            <a:off x="1476360" y="3429000"/>
            <a:ext cx="626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19"/>
          <p:cNvSpPr/>
          <p:nvPr/>
        </p:nvSpPr>
        <p:spPr>
          <a:xfrm>
            <a:off x="1476360" y="3429000"/>
            <a:ext cx="489600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20"/>
          <p:cNvSpPr/>
          <p:nvPr/>
        </p:nvSpPr>
        <p:spPr>
          <a:xfrm>
            <a:off x="1476360" y="3429000"/>
            <a:ext cx="136692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23"/>
          <p:cNvSpPr/>
          <p:nvPr/>
        </p:nvSpPr>
        <p:spPr>
          <a:xfrm>
            <a:off x="3975120" y="136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24"/>
          <p:cNvSpPr/>
          <p:nvPr/>
        </p:nvSpPr>
        <p:spPr>
          <a:xfrm>
            <a:off x="3976920" y="136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25"/>
          <p:cNvSpPr/>
          <p:nvPr/>
        </p:nvSpPr>
        <p:spPr>
          <a:xfrm>
            <a:off x="1026000" y="30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26"/>
          <p:cNvSpPr/>
          <p:nvPr/>
        </p:nvSpPr>
        <p:spPr>
          <a:xfrm>
            <a:off x="7938000" y="28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27"/>
          <p:cNvSpPr/>
          <p:nvPr/>
        </p:nvSpPr>
        <p:spPr>
          <a:xfrm>
            <a:off x="664236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28"/>
          <p:cNvSpPr/>
          <p:nvPr/>
        </p:nvSpPr>
        <p:spPr>
          <a:xfrm>
            <a:off x="2249640" y="58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4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26" name="Oval 8"/>
          <p:cNvSpPr/>
          <p:nvPr/>
        </p:nvSpPr>
        <p:spPr>
          <a:xfrm>
            <a:off x="1403280" y="34290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7740720" y="3429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4284720" y="18446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Oval 11"/>
          <p:cNvSpPr/>
          <p:nvPr/>
        </p:nvSpPr>
        <p:spPr>
          <a:xfrm>
            <a:off x="6372360" y="59500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Oval 12"/>
          <p:cNvSpPr/>
          <p:nvPr/>
        </p:nvSpPr>
        <p:spPr>
          <a:xfrm>
            <a:off x="2843280" y="6093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13"/>
          <p:cNvSpPr/>
          <p:nvPr/>
        </p:nvSpPr>
        <p:spPr>
          <a:xfrm flipV="1">
            <a:off x="1476360" y="1916280"/>
            <a:ext cx="2808360" cy="15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14"/>
          <p:cNvSpPr/>
          <p:nvPr/>
        </p:nvSpPr>
        <p:spPr>
          <a:xfrm>
            <a:off x="1476360" y="3429000"/>
            <a:ext cx="633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15"/>
          <p:cNvSpPr/>
          <p:nvPr/>
        </p:nvSpPr>
        <p:spPr>
          <a:xfrm>
            <a:off x="1476360" y="3429000"/>
            <a:ext cx="4896000" cy="252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6"/>
          <p:cNvSpPr/>
          <p:nvPr/>
        </p:nvSpPr>
        <p:spPr>
          <a:xfrm>
            <a:off x="1476360" y="3500280"/>
            <a:ext cx="1366920" cy="259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3975120" y="136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3976920" y="136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1026000" y="30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7938000" y="28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 Box 21"/>
          <p:cNvSpPr/>
          <p:nvPr/>
        </p:nvSpPr>
        <p:spPr>
          <a:xfrm>
            <a:off x="664236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2249640" y="58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23"/>
          <p:cNvSpPr/>
          <p:nvPr/>
        </p:nvSpPr>
        <p:spPr>
          <a:xfrm>
            <a:off x="4284720" y="1916280"/>
            <a:ext cx="3456000" cy="15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24"/>
          <p:cNvSpPr/>
          <p:nvPr/>
        </p:nvSpPr>
        <p:spPr>
          <a:xfrm>
            <a:off x="4284720" y="1916280"/>
            <a:ext cx="2087640" cy="4033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25"/>
          <p:cNvSpPr/>
          <p:nvPr/>
        </p:nvSpPr>
        <p:spPr>
          <a:xfrm flipH="1">
            <a:off x="2916000" y="1916280"/>
            <a:ext cx="1368360" cy="4176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4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45" name="Oval 8"/>
          <p:cNvSpPr/>
          <p:nvPr/>
        </p:nvSpPr>
        <p:spPr>
          <a:xfrm>
            <a:off x="1403280" y="34290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Oval 9"/>
          <p:cNvSpPr/>
          <p:nvPr/>
        </p:nvSpPr>
        <p:spPr>
          <a:xfrm>
            <a:off x="7740720" y="3429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4284720" y="18446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Oval 11"/>
          <p:cNvSpPr/>
          <p:nvPr/>
        </p:nvSpPr>
        <p:spPr>
          <a:xfrm>
            <a:off x="6372360" y="6093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Oval 12"/>
          <p:cNvSpPr/>
          <p:nvPr/>
        </p:nvSpPr>
        <p:spPr>
          <a:xfrm>
            <a:off x="2843280" y="6093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13"/>
          <p:cNvSpPr/>
          <p:nvPr/>
        </p:nvSpPr>
        <p:spPr>
          <a:xfrm flipV="1">
            <a:off x="1476360" y="1916280"/>
            <a:ext cx="2808360" cy="15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14"/>
          <p:cNvSpPr/>
          <p:nvPr/>
        </p:nvSpPr>
        <p:spPr>
          <a:xfrm>
            <a:off x="1476360" y="3429000"/>
            <a:ext cx="633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15"/>
          <p:cNvSpPr/>
          <p:nvPr/>
        </p:nvSpPr>
        <p:spPr>
          <a:xfrm>
            <a:off x="1476360" y="3429000"/>
            <a:ext cx="489600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16"/>
          <p:cNvSpPr/>
          <p:nvPr/>
        </p:nvSpPr>
        <p:spPr>
          <a:xfrm>
            <a:off x="1476360" y="3500280"/>
            <a:ext cx="1366920" cy="259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17"/>
          <p:cNvSpPr/>
          <p:nvPr/>
        </p:nvSpPr>
        <p:spPr>
          <a:xfrm>
            <a:off x="3975120" y="136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18"/>
          <p:cNvSpPr/>
          <p:nvPr/>
        </p:nvSpPr>
        <p:spPr>
          <a:xfrm>
            <a:off x="3853080" y="155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19"/>
          <p:cNvSpPr/>
          <p:nvPr/>
        </p:nvSpPr>
        <p:spPr>
          <a:xfrm>
            <a:off x="1026000" y="30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20"/>
          <p:cNvSpPr/>
          <p:nvPr/>
        </p:nvSpPr>
        <p:spPr>
          <a:xfrm>
            <a:off x="7938000" y="28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21"/>
          <p:cNvSpPr/>
          <p:nvPr/>
        </p:nvSpPr>
        <p:spPr>
          <a:xfrm>
            <a:off x="664236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22"/>
          <p:cNvSpPr/>
          <p:nvPr/>
        </p:nvSpPr>
        <p:spPr>
          <a:xfrm>
            <a:off x="2249640" y="58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23"/>
          <p:cNvSpPr/>
          <p:nvPr/>
        </p:nvSpPr>
        <p:spPr>
          <a:xfrm>
            <a:off x="4284720" y="1916280"/>
            <a:ext cx="3456000" cy="15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24"/>
          <p:cNvSpPr/>
          <p:nvPr/>
        </p:nvSpPr>
        <p:spPr>
          <a:xfrm>
            <a:off x="4284720" y="1916280"/>
            <a:ext cx="2087640" cy="4176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25"/>
          <p:cNvSpPr/>
          <p:nvPr/>
        </p:nvSpPr>
        <p:spPr>
          <a:xfrm flipH="1">
            <a:off x="2916000" y="1916280"/>
            <a:ext cx="1368360" cy="4176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26"/>
          <p:cNvSpPr/>
          <p:nvPr/>
        </p:nvSpPr>
        <p:spPr>
          <a:xfrm flipH="1">
            <a:off x="6372000" y="3500280"/>
            <a:ext cx="1368360" cy="259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27"/>
          <p:cNvSpPr/>
          <p:nvPr/>
        </p:nvSpPr>
        <p:spPr>
          <a:xfrm flipH="1">
            <a:off x="2916000" y="3429000"/>
            <a:ext cx="482436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28"/>
          <p:cNvSpPr/>
          <p:nvPr/>
        </p:nvSpPr>
        <p:spPr>
          <a:xfrm>
            <a:off x="2916360" y="6093000"/>
            <a:ext cx="345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Corbel"/>
              </a:rPr>
              <a:t>«Девочки нашего класса решили обменяться фотографиями. Сколько нужно фотографий, учитывая что их 5 человек?»</a:t>
            </a:r>
            <a:endParaRPr b="0" lang="en-US" sz="53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4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69" name="Oval 8"/>
          <p:cNvSpPr/>
          <p:nvPr/>
        </p:nvSpPr>
        <p:spPr>
          <a:xfrm>
            <a:off x="1403280" y="3860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Oval 9"/>
          <p:cNvSpPr/>
          <p:nvPr/>
        </p:nvSpPr>
        <p:spPr>
          <a:xfrm>
            <a:off x="7740720" y="38606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4284720" y="22766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Oval 11"/>
          <p:cNvSpPr/>
          <p:nvPr/>
        </p:nvSpPr>
        <p:spPr>
          <a:xfrm>
            <a:off x="6372360" y="65246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Oval 12"/>
          <p:cNvSpPr/>
          <p:nvPr/>
        </p:nvSpPr>
        <p:spPr>
          <a:xfrm>
            <a:off x="2843280" y="65246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1476360" y="2347920"/>
            <a:ext cx="2808360" cy="1512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>
            <a:off x="1476360" y="3860640"/>
            <a:ext cx="62643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1476360" y="3860640"/>
            <a:ext cx="4896000" cy="266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1476360" y="3860640"/>
            <a:ext cx="1366920" cy="266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17"/>
          <p:cNvSpPr/>
          <p:nvPr/>
        </p:nvSpPr>
        <p:spPr>
          <a:xfrm>
            <a:off x="3995640" y="1700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18"/>
          <p:cNvSpPr/>
          <p:nvPr/>
        </p:nvSpPr>
        <p:spPr>
          <a:xfrm>
            <a:off x="399780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19"/>
          <p:cNvSpPr/>
          <p:nvPr/>
        </p:nvSpPr>
        <p:spPr>
          <a:xfrm>
            <a:off x="1026000" y="344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Text Box 20"/>
          <p:cNvSpPr/>
          <p:nvPr/>
        </p:nvSpPr>
        <p:spPr>
          <a:xfrm>
            <a:off x="7938000" y="330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21"/>
          <p:cNvSpPr/>
          <p:nvPr/>
        </p:nvSpPr>
        <p:spPr>
          <a:xfrm>
            <a:off x="6642360" y="604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22"/>
          <p:cNvSpPr/>
          <p:nvPr/>
        </p:nvSpPr>
        <p:spPr>
          <a:xfrm>
            <a:off x="2249640" y="625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4" descr=""/>
          <p:cNvPicPr/>
          <p:nvPr/>
        </p:nvPicPr>
        <p:blipFill>
          <a:blip r:embed="rId1"/>
          <a:stretch/>
        </p:blipFill>
        <p:spPr>
          <a:xfrm>
            <a:off x="-23760" y="146160"/>
            <a:ext cx="8435880" cy="1298520"/>
          </a:xfrm>
          <a:prstGeom prst="rect">
            <a:avLst/>
          </a:prstGeom>
          <a:ln w="0">
            <a:noFill/>
          </a:ln>
        </p:spPr>
      </p:pic>
      <p:sp>
        <p:nvSpPr>
          <p:cNvPr id="385" name="Oval 26"/>
          <p:cNvSpPr/>
          <p:nvPr/>
        </p:nvSpPr>
        <p:spPr>
          <a:xfrm>
            <a:off x="1403280" y="38624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Oval 27"/>
          <p:cNvSpPr/>
          <p:nvPr/>
        </p:nvSpPr>
        <p:spPr>
          <a:xfrm>
            <a:off x="7740720" y="38624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Oval 28"/>
          <p:cNvSpPr/>
          <p:nvPr/>
        </p:nvSpPr>
        <p:spPr>
          <a:xfrm>
            <a:off x="4284720" y="22780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Oval 29"/>
          <p:cNvSpPr/>
          <p:nvPr/>
        </p:nvSpPr>
        <p:spPr>
          <a:xfrm>
            <a:off x="6372360" y="63831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Oval 30"/>
          <p:cNvSpPr/>
          <p:nvPr/>
        </p:nvSpPr>
        <p:spPr>
          <a:xfrm>
            <a:off x="2843280" y="65260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31"/>
          <p:cNvSpPr/>
          <p:nvPr/>
        </p:nvSpPr>
        <p:spPr>
          <a:xfrm flipV="1">
            <a:off x="1476360" y="2349000"/>
            <a:ext cx="2808360" cy="1513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32"/>
          <p:cNvSpPr/>
          <p:nvPr/>
        </p:nvSpPr>
        <p:spPr>
          <a:xfrm flipV="1">
            <a:off x="1476360" y="3860280"/>
            <a:ext cx="626436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33"/>
          <p:cNvSpPr/>
          <p:nvPr/>
        </p:nvSpPr>
        <p:spPr>
          <a:xfrm>
            <a:off x="1476360" y="3862440"/>
            <a:ext cx="4896000" cy="2520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34"/>
          <p:cNvSpPr/>
          <p:nvPr/>
        </p:nvSpPr>
        <p:spPr>
          <a:xfrm>
            <a:off x="1547640" y="3933720"/>
            <a:ext cx="1366920" cy="2592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35"/>
          <p:cNvSpPr/>
          <p:nvPr/>
        </p:nvSpPr>
        <p:spPr>
          <a:xfrm>
            <a:off x="3975120" y="1793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36"/>
          <p:cNvSpPr/>
          <p:nvPr/>
        </p:nvSpPr>
        <p:spPr>
          <a:xfrm>
            <a:off x="3976920" y="179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37"/>
          <p:cNvSpPr/>
          <p:nvPr/>
        </p:nvSpPr>
        <p:spPr>
          <a:xfrm>
            <a:off x="1026000" y="344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38"/>
          <p:cNvSpPr/>
          <p:nvPr/>
        </p:nvSpPr>
        <p:spPr>
          <a:xfrm>
            <a:off x="7938000" y="330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39"/>
          <p:cNvSpPr/>
          <p:nvPr/>
        </p:nvSpPr>
        <p:spPr>
          <a:xfrm>
            <a:off x="6642360" y="6041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40"/>
          <p:cNvSpPr/>
          <p:nvPr/>
        </p:nvSpPr>
        <p:spPr>
          <a:xfrm>
            <a:off x="2249640" y="6257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Line 41"/>
          <p:cNvSpPr/>
          <p:nvPr/>
        </p:nvSpPr>
        <p:spPr>
          <a:xfrm>
            <a:off x="4284720" y="2349360"/>
            <a:ext cx="3456000" cy="1513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Line 42"/>
          <p:cNvSpPr/>
          <p:nvPr/>
        </p:nvSpPr>
        <p:spPr>
          <a:xfrm>
            <a:off x="4284720" y="2349360"/>
            <a:ext cx="2087640" cy="4033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43"/>
          <p:cNvSpPr/>
          <p:nvPr/>
        </p:nvSpPr>
        <p:spPr>
          <a:xfrm flipH="1">
            <a:off x="2916000" y="2349360"/>
            <a:ext cx="1368360" cy="417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4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404" name="Oval 8"/>
          <p:cNvSpPr/>
          <p:nvPr/>
        </p:nvSpPr>
        <p:spPr>
          <a:xfrm>
            <a:off x="1403280" y="3789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Oval 9"/>
          <p:cNvSpPr/>
          <p:nvPr/>
        </p:nvSpPr>
        <p:spPr>
          <a:xfrm>
            <a:off x="7740720" y="3789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4284720" y="22050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Oval 11"/>
          <p:cNvSpPr/>
          <p:nvPr/>
        </p:nvSpPr>
        <p:spPr>
          <a:xfrm>
            <a:off x="6372360" y="6453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Oval 12"/>
          <p:cNvSpPr/>
          <p:nvPr/>
        </p:nvSpPr>
        <p:spPr>
          <a:xfrm>
            <a:off x="2843280" y="6453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Line 13"/>
          <p:cNvSpPr/>
          <p:nvPr/>
        </p:nvSpPr>
        <p:spPr>
          <a:xfrm flipV="1">
            <a:off x="1476360" y="2276640"/>
            <a:ext cx="2808360" cy="1512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Line 14"/>
          <p:cNvSpPr/>
          <p:nvPr/>
        </p:nvSpPr>
        <p:spPr>
          <a:xfrm>
            <a:off x="1476360" y="3789360"/>
            <a:ext cx="63356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1476360" y="3789360"/>
            <a:ext cx="4896000" cy="266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Line 16"/>
          <p:cNvSpPr/>
          <p:nvPr/>
        </p:nvSpPr>
        <p:spPr>
          <a:xfrm>
            <a:off x="1476360" y="3860640"/>
            <a:ext cx="1366920" cy="2592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Text Box 17"/>
          <p:cNvSpPr/>
          <p:nvPr/>
        </p:nvSpPr>
        <p:spPr>
          <a:xfrm>
            <a:off x="397512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Text Box 18"/>
          <p:cNvSpPr/>
          <p:nvPr/>
        </p:nvSpPr>
        <p:spPr>
          <a:xfrm>
            <a:off x="3976920" y="172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Text Box 19"/>
          <p:cNvSpPr/>
          <p:nvPr/>
        </p:nvSpPr>
        <p:spPr>
          <a:xfrm>
            <a:off x="102600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Text Box 20"/>
          <p:cNvSpPr/>
          <p:nvPr/>
        </p:nvSpPr>
        <p:spPr>
          <a:xfrm>
            <a:off x="7938000" y="323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 Box 21"/>
          <p:cNvSpPr/>
          <p:nvPr/>
        </p:nvSpPr>
        <p:spPr>
          <a:xfrm>
            <a:off x="6642360" y="596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2249640" y="618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Line 23"/>
          <p:cNvSpPr/>
          <p:nvPr/>
        </p:nvSpPr>
        <p:spPr>
          <a:xfrm>
            <a:off x="4284720" y="2276640"/>
            <a:ext cx="3456000" cy="1512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Line 24"/>
          <p:cNvSpPr/>
          <p:nvPr/>
        </p:nvSpPr>
        <p:spPr>
          <a:xfrm>
            <a:off x="4284720" y="2276640"/>
            <a:ext cx="2087640" cy="417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Line 25"/>
          <p:cNvSpPr/>
          <p:nvPr/>
        </p:nvSpPr>
        <p:spPr>
          <a:xfrm flipH="1">
            <a:off x="2916000" y="2276640"/>
            <a:ext cx="1368360" cy="417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Line 26"/>
          <p:cNvSpPr/>
          <p:nvPr/>
        </p:nvSpPr>
        <p:spPr>
          <a:xfrm flipH="1">
            <a:off x="6372000" y="3860640"/>
            <a:ext cx="1368360" cy="2592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Line 27"/>
          <p:cNvSpPr/>
          <p:nvPr/>
        </p:nvSpPr>
        <p:spPr>
          <a:xfrm flipH="1">
            <a:off x="2916000" y="3789360"/>
            <a:ext cx="4824360" cy="266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Line 28"/>
          <p:cNvSpPr/>
          <p:nvPr/>
        </p:nvSpPr>
        <p:spPr>
          <a:xfrm>
            <a:off x="2916360" y="6453360"/>
            <a:ext cx="34560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6:17:03Z</dcterms:created>
  <dc:creator>Alex</dc:creator>
  <dc:description/>
  <dc:language>en-US</dc:language>
  <cp:lastModifiedBy>Ёля</cp:lastModifiedBy>
  <dcterms:modified xsi:type="dcterms:W3CDTF">2012-11-12T15:12:28Z</dcterms:modified>
  <cp:revision>16</cp:revision>
  <dc:subject/>
  <dc:title>РОССИЯ</dc:title>
</cp:coreProperties>
</file>