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-wait%20long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AC4E-8DD4-470D-B4E3-C42D4B714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4024-DF50-4DA7-93F1-B4825EE863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21F-05EF-4B2F-9F56-37D0AF19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B46-0F9A-437C-9416-33A693B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D0C0B-80A1-463A-BA45-E23066D1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F539-410A-4C7D-96D9-C82D123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C7EE-ABA4-45F9-93C2-7493E388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E77AE-BF23-469F-9FAF-AB6BB2D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56663-59D9-4394-976D-2C7EDE1F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A547-A41A-4AB8-AFCB-4AC5504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14D0A-2CCE-4510-9D81-8EF78CD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8AA7-26E4-4F05-A944-F291FFB3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692E1-8DDA-4395-BD5E-01B2DC64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048CA-6D54-490B-913D-1C08BD40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AB2-A66A-43C2-BAF2-5E4575D6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78663-D79D-4A0D-8AA0-FC451B1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E103E-555D-4C29-8DDC-499DCA4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E265C-A5DC-48E0-A08C-F54B6E4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3CE80-B521-44B1-93C5-B61F2B8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E288-5648-43D0-B0A7-1DC4E23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6DFF-FE59-4114-A8F9-3823615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21DAF-3851-4A1D-998D-BE55EA9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BB1A2-9A65-4D19-8281-C27C451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C1F5-D4DC-4422-8879-F721184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48219-845D-48BF-A68C-885FBEAC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D1D-253A-4898-A79A-A6D8C1B5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2DA9E-9958-4D49-97BF-9050EDB0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5C5B5-29C2-4FBF-AEF4-BFED6918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B4229-4E45-4829-ACA8-D1A42F2F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1255F-23AA-42FD-BAE5-41BCA6B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9DDD-764B-45F7-BD56-78A4B90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B2622-0238-4CDD-8C18-C4A1489C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DB855-C376-49BE-BC65-8AB0395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96BBA-92C6-4822-A886-0C738F8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57E7E-CBA7-4301-A2BC-219413D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A6EEF-1958-4A84-B846-0BC2117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5B06-20A4-4632-9810-8D6FAB83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72900-602C-44BE-99B4-7E305E49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1CB8-3F24-47E6-AA25-DFE52B48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0EF04-74E7-4697-806A-685F5A70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F10FE-3939-40BD-B1EB-ADF73D4B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49667-495F-4329-9B36-1D93F9A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D14B8-3033-4CA1-BA47-1DA2A19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B4BFF-B79C-4F83-955D-51C3237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5C40F-D188-4E1E-8457-E46618B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2356E-F461-4BB2-A0BE-FE24585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CE6FE-216E-429E-A05E-B3CC966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EDC4-A9EA-4826-9D45-E632583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A21C6-FC09-46CE-B394-A509F64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75C30-993A-4AF4-B192-6CAFFB3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854BD-16DD-4949-81FC-4B80688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C9D49-27C8-4E56-8044-48D84918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0A0FD-995D-4BD3-9CF3-89B10CF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21B0D-C81B-42F0-8FA3-33CECA11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110A9-5EF8-473C-8B36-CE5EE04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F283A-3D77-4ADB-BC3D-40BAFF41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E73E0-2FF9-41AD-879F-E83D88A9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CF32E-E1C1-4520-B628-5FFA30A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EA6-0D3F-4F81-B14C-EE57A018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02828-790A-471C-A0C2-CF9AE11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B834F-1CB7-4FAA-864C-5128A89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DEA09-B931-4428-9D60-C0C5B9B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B5BC0-C98B-4C24-952A-BD3EA85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8B403-345A-4F6A-8AB7-23589FDF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2AF06-9242-4357-A19A-BBBE8CA2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6BC36-94A9-41A1-9738-1227DB10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7A94A-AC2F-4E09-8DA0-DBFF5F3C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A5EF0-BEEE-473C-B7A5-A6BE766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C6905-743E-4D97-8779-2B1D41F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99B-50C9-4428-AD3B-2CEE69C3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75E32-72A0-4838-9727-43547D2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3653D-01FD-4201-938C-FE8F15B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78C97-515A-491D-BD0B-0236EE7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B1AF3-ECE2-45CA-B721-64ED2F3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CB2C6-C64B-4E90-BAAB-239C08D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832BC-F95F-4C9A-9466-F084270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06ADB-FF1F-4284-913F-D395212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70C73-E4F6-4474-A8AB-69AABD61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F0F5E-9CB4-44F2-AC65-BE9A3E3C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43DBB-B635-477F-A0D3-4048472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FDC5-021A-4C27-B91A-874A2EFE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1BF1D-30EB-4CD8-91BF-401D0A0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97034-52A9-4BA8-AB11-3003CDB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889E9-702C-4A7E-B879-AF1F75F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AB870-2C7A-4255-A828-519A8E17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B5C0E-3139-41F8-8891-4839BCC2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24429-EF71-459F-A2CC-8168B2B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EC7FF-7390-4B92-9B64-DEB255B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0F5D2-7EE8-432B-A6EF-3362E8D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2C725-369C-45F9-B7C7-85C9A1E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CD4AD-EC70-4C42-8444-14D5F549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6C3-4DC8-4A9E-B719-FF35B69C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28868-707B-4867-989E-AA16112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E6C68-27C5-47EA-9B94-E8B02A91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B91F1-20EA-41D8-82B2-848F4FF5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F9F69-4E5A-44D1-8CA6-B99639A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1CB48-09F4-440A-83B3-2342F98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AAC67-AA3D-427F-9A13-AA75C07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558B2-0A45-445A-BD32-61943E3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B875A-D709-4661-A413-6C07B9A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07AC9-1B5C-4AC2-9704-20FEB27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B5802-1D28-46AC-A089-B815A14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F278-21DE-444F-B352-F46E1BD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B3B58-C0B4-4E9F-A2A9-023E0EAF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86332-ABF0-4B29-B57E-86BD7C5F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4FD21-E288-46BB-8EE8-30D69BC2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7F4F6-0B93-4819-B865-4F24FC68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7FF3E-3294-4AD2-B753-88A6D09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2F035-0BC0-4CDC-AC27-10AFF092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58D98-C190-490E-AD52-38F44DBB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A7B69-9A55-4092-8D42-50EF5EA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C54DF-98BF-46CA-83B9-89F02D45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D0727-9574-4CB9-AFB0-3609C9F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4DC-1181-4AF0-90EA-9E30C05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9B95-5844-46D8-85A3-20DEE33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FB1BC-886B-4A06-B10E-73000A7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1F882-7975-488E-9EBB-F26DE42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6DCD5-4B7C-4563-9C1F-6C2DAB9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AC78E-5B09-4E89-99A9-1B138D15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5A4A9-EDB3-4512-BE10-30F66F7F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304B2-CE4F-4F9A-A5C1-5F8544E8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04B03-D08E-4B3D-B6BE-4EDAFD8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D2FDE-D37F-498C-B147-41A1083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075B1-AB67-41D6-B546-D03FEB5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78939-7A7D-443E-B6CD-9517A070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214-23BE-4033-9CB9-0D3A8ED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37944-ABED-41BD-96EF-5BF1B840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06283-4220-4E31-86D8-0C9E651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16B08-E5DB-4EEE-9DA5-3D43C0E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3701E-2CAC-443D-B25D-20CCFA0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87280-40F7-4A73-B995-2CDC0171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3DCA9-C806-49DF-9861-49B4C48F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69EB1-DDDF-48A8-AE7E-47496D87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6F586-E67B-430B-A234-55FE9153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148A0-3EE8-468B-89F4-FCD6C1D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5FEEB-AD19-4625-BE9E-109B764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E99-6762-438C-84E5-37483A56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75968-D61A-4763-AE45-82960BAC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7F849-C2E2-4591-9762-4AB98D38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E0105-8DAD-41B9-97C1-1778AC7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CAB9E-601A-49FE-8344-DC0A123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B585D-F641-47B0-BB89-22A75F0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F4E97-B6C6-431B-A780-8874D5C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211C0-DAE1-48C3-B2C7-117AF5A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AEE22-7EC8-4D6B-83BB-F4D3B511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10306-A492-4471-BC0A-2AEFE66C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53DC9-7F37-45A6-A122-C7CA4517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C8C-4C4C-47EB-AD64-EB4A044C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FA533-BBFD-47C4-92BF-4B7ED62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384F6-D415-4A96-BF6F-433AF6D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9D570-497E-476C-92D6-C6908BF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616C9-F15A-4733-824E-8ABF9E7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5DC75-9734-48AE-AC09-6CD90F6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FA511-740C-4668-A80C-C9BBCFA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8BD2C-8EB6-4017-8C58-9638D6D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BECFA-D474-47DB-B540-6D4AB19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DC8F4-98CB-485F-949D-8D2D346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A3109-36E0-43D1-B800-8581F5CB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BB7-7F00-4137-A3CE-1D5498D4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13874-CDA4-442E-8D85-4A76560F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405A3-B430-4A91-A02F-8BAF9730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6AC30-C108-4619-B134-D497B74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08D3D-FAD0-47A3-B6D5-989D7BC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4E992-17D9-4618-8D50-24204F58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341B0-48E5-4CF6-ADAB-CEF49263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1B8A3-2834-4228-9841-6AA9778D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B339C3-A92B-473B-8774-110C217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408A8-27C0-4684-9358-35C360D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465B5-BF73-42BF-AF07-F3ABDFBF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F83D3-F6CF-439A-95CB-7401A878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815E3-B8B1-4DEC-A4B0-FD7D4F4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7DAA4-F87B-48BA-88C3-9AD258E2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94DCD-E9A8-493B-BA6C-C46B2E97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95C52-EFD0-47BC-9CAA-30AF1C4B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CC202-31AC-405D-8A70-7C5A3122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4F13A-B764-447F-8A58-24FE7BC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CADC6-1234-4D94-8984-432CA07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48636-C8D7-4AA8-B477-0B720A50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2D911-1B4A-4616-BA0F-ECC6B7E0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3FCC9-8D81-4845-AF80-3C520BF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A9517-07BA-4158-8CA5-B1E30892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9286D-8EE7-4DF6-9B18-32676FB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FACB0-EB24-4808-8F69-31D8C22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0E6BC0-1541-4B7F-B4F9-870BA0B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A8E1C-0C4D-4577-BF90-56C575D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D34F25-555B-432E-B254-4F542B25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8D45A5-420C-473E-A453-54A87E5B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E6B6A-6979-47BF-AD1A-5678BA74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9697F-EDBE-468C-B307-D79CC8E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737EC-2812-46A9-98B9-B4360B7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CEBCB3-9CD5-4BC3-B60C-FCB76C5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A67CD-C79E-483B-9599-00C09C1B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6E3A2B-333C-452C-94AD-4C467210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6DE1B-8E7E-4741-B53D-5A89BBC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A3A4E-2C6A-47D6-8962-FC3BEFE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F1B43C-24D6-49A4-A353-F3B27DC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BF07B-2404-45A9-A105-847FE2B4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65669-748A-4177-874D-C871EB54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680F6-12E3-4B7C-9505-C8B33D24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287867-125B-44E2-A080-886E6AD9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5960FA-2919-470B-A71D-C327987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68898F-EBBA-4484-8AA6-E98B817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460AB-97D4-4E0A-9898-33593FA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82F9AF-CFDE-4186-BA35-DA26B115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02641B-F49C-4D25-B097-DC0250E8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7539E5-BB02-4437-9BCA-A41A05DE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285770-24E7-4674-8E92-912616B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B06DF-4D7E-4F42-AE82-59BEBAF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409227-771B-4290-A6E4-1AA28BC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143018-4842-4BF8-9005-F9681587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6487DA-0D20-40E4-AA6A-29805677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BF80E8-6815-4464-AB55-00885AFD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008C2-BA6A-438A-B98B-C259CE7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C5E-3837-4DB6-B195-21499A8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57303-516B-40AE-ACEC-DC84AF6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979E8-FD00-4F48-A493-D3C9BF6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92F0F-A0DC-4A86-B11B-E25A3FD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E9BF4-0F2A-4CC6-B855-47A0F43B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0F8DA-2982-49FF-9E0A-2ADCB83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60413-7ACE-4587-8867-7E71585B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329BB-8764-481A-812F-85BACC0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46BD-67C1-43C1-8658-F3C4C66E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DEEA-7795-4B40-B275-8EAE0A2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791F-537A-47AC-A1A1-23C035F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25C-5897-45E6-A2E0-8A5660B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0DFE-9A3A-4DC1-9F31-91440E7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E626-3FF2-4A0F-8BFE-E34BC416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4896-B543-43FB-99B0-D476705E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44F2-531C-4C88-BBF5-986BA25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C946-EDE7-4E96-9F41-01859B4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7A06-1AD9-4514-8CB6-982AF1D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04E8-DE48-496A-8A50-DE385A7A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89DF-A7BC-4239-97F4-6CD02E99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1959-A3AD-48AC-A55E-2889F3CB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7EBD-3893-4CFF-86EC-9AB5FEC5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284-B673-4B55-AC2A-A97DE47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2C04-BF02-4876-B6CC-9332F1E9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7185-FF9D-4931-B063-FD38F31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B4B3-EE9C-4652-87CE-6CF0062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8277-A38E-4388-8A43-4563220F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7B04-564E-4A05-9C4B-2305A3F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5250-302B-4B63-8016-F661F03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C321-F2BC-4A8E-9E04-4A86B9D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9C1D-F95F-4591-88D3-7FF60BF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BBB9-57F9-49F3-9CB8-ECAAA596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39A2-4EF3-4984-AFD4-1665EB44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1A8-F6A6-42B4-92FA-F083605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9BE2-EEDE-40FE-9D03-8EF06AC2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B94E-6715-4B42-9D61-1372C8BE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8959-A4A8-42A6-82E6-2887B2F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D74E-CA96-496E-889B-F56149F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B0F0-406E-4E01-B37A-B17FCE11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E9D47-B518-41E0-8317-F523D8A4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B0BA-306F-4A3B-B2AA-6630415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2A03-276A-49B8-993D-CA8A6204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89800-CC41-4D30-AB71-FD9E79FE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94B0-034D-4092-9082-6CCB290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AE5-A748-4B8B-8588-B0202E7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C1E4-03E5-4482-B6E1-8C1BBA4A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E25E-78D4-4689-BC3B-BFE1AB9D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CB1A-8D0D-4685-A68D-C588F478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0A7C-3D92-4E64-B80F-5F09892E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1E1B-F1AA-463A-8451-F51D947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6E03-F376-4B3B-A24A-8D1E5F5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C7C0-91EC-4108-AC6A-D046946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FB0D-D4C5-4CA6-9521-23364D3E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C581A-B1B6-4FCC-A55D-C012097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0C84-A802-4F4A-8E25-F9398B4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908-D4BF-4B33-AB93-0B01A18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D78E-7C72-4F66-862D-40EFBB3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5902-9111-41EC-A58E-83188E8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B427-B643-4BE7-8506-C4484F93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8272A-ED20-4DBC-B48F-CCB57632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FBE2-1D59-4AB5-9EC9-ABF5AB78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4F33F-DB86-4FEA-BE0C-96B3A6C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5EF99-3368-401C-BAB2-6BBF7CB0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1138E-DFBA-41CD-B2E8-24182FD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F037B-1232-4D6B-A240-8A319CE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60AD-222A-4CBC-B3FF-48A3C20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7CA-86AD-4BCB-8F1C-9B791B0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688F-2299-44CB-95C4-0A12D19F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EFA33-DA0F-4F96-9F0E-EE82E1C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1EC0-BD3D-491E-A726-1525728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45FC-6968-4FC0-AC58-C9BCF40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8DC2-220C-4283-A5D6-2BF7B0C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E6E4-FDA9-4A26-B0BE-4EC50743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70D1-CDE4-4C7C-A4BB-BD8BE1BC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23D6-61D6-4657-B9BE-989D5FFB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9262-AB1B-4567-BE37-33DB2E13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9EC96-008E-46B6-BEE6-8274E40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1C9-568F-41E6-8275-23CF8A1C7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0AEA-1921-4110-BBB0-83CC398AE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CBB-A730-4F6F-AB16-5C97EE20F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2B0-4F7F-4E73-9816-E84024355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610-B952-452F-A07D-2A65FBC4F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551-4E3C-4578-8872-C757B64F5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54C-1136-4346-97F4-CDB3EDF05B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A9DB-F843-493B-AE07-0EF0686F7E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5CF-06EB-4713-AA72-88FF719E1D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65B-20C0-4CE5-AC34-E7B894FE5F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3060-E54D-49BA-9851-BA2B4274C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D06-DE4E-4307-9CBE-1C46325A5E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6139-D91F-489F-968F-EFF4E5D8A6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590B-B348-4B63-8620-D0D0E57CD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0ED-CDF0-4671-8308-C28C51BB3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889-8FB4-4039-881E-C2E076F41D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2275-0A24-414A-AE7B-4F6D8E597755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AAB-2CE2-42F9-8FAA-02353BF6B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2278-0E9C-468F-AF63-1EABE33E5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024-C2EB-44A0-A27B-982CEBE9C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0DF-2F99-41B5-B5D3-798F8293E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821-E7F0-439E-B8C5-643209EDE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853-5EB4-41CC-B7B1-59B0E4D5B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1A0-81E9-44E2-B811-5028B0CDB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jeopardy-wait%20long.wav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евое 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«Специальная (коррекционная) общеобразовательная школа V вида №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Комсомольска – на – Амуре Хабаровского края»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6920" y="4292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мова Наталья Петровна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математики и информа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акая битва стала началом коренного перелома в ходе ВОВ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539640" y="4797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итва под Москвой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честь каких городов Москва впервые салютовала победителям в 1943 г. ?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75132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елгород, Орё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Советский военачальник. С сентября 1942 года командовал 62-й армией, прославившейся героической обороной Сталинграда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9280" y="20606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95280" y="522936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Чуйков Василий Иванович (1900-1982)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Генерал Советской армии был захвачен в плен в августе 1941 года. Немцы много раз предлагали перейти на их сторону. Ему сулили свободу и всяческие блага. Он решительно отказался. В нескольких лагерях смерти (Майданек, Освенцим и др.) он продолжал вести антифашистскую работу среди военнопленных. Наконец, в морозный зимний день 1945 года у стены лагеря Маутхаузен, фашисты, поливая его водой из шланга, превратили его в ледяную статую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17576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395280" y="587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енерал Карбышев Дмитрий Михайлович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оветский военачальник. В январе-июле 1941 года – начальник Генштаба Вооруженных сил, заместитель наркома обороны СССР. Сыграл выдающуюся роль в Московской битве. С августа 1942 года – первый заместитель наркома обороны СССР и заместитель Верховного Главнокомандующего, координировал действия фронтов в Сталинградской битве, по прорыву блокады Ленинграда, в битвах под Курском и за Днепр, в Белорусской и других операциях. 9 мая 1945 года принял в Берлине капитуляцию вооруженных сил Германии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888480" y="270828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880920" y="566064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уков Георгий Константинович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оветский военачальник. Участник Первой мировой и гражданский войн. В 1939 году необоснованно репрессирован, восстановлен на службе в 1940 году. В Великой Отечественной войне войска под его командованием успешно действовали в Смоленском сражении 1941 го, в Московской, Сталинградской и Курской битвах, Берлинской операции. С 1944 года Маршал Советского Союза. Командовал Парадом Победы в Москве 24 июня 1945 г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10448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8000" y="52311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стантин Константинович Рокоссовский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4"/>
          <p:cNvSpPr/>
          <p:nvPr/>
        </p:nvSpPr>
        <p:spPr>
          <a:xfrm>
            <a:off x="1436760" y="1773360"/>
            <a:ext cx="623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оенная тех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и вооружение ВОВ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0" y="58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ихаил Тимофеевич Калашнико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то из советских конструкторов стрелкового оружия создал новый тип автомата и автоматические пулеметы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1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Лучшим танком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мировой войны считается легендарная машина, созданная в 1940 году коллективом под руководством М.И. Кошкина, Н.А. Кучеренко и А.А. Морозова. Один экземпляр стоит на берегу озера Балхаш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478160" y="1484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68360" y="5445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Танк Т-34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розное оружие ВОВ или языком официальных документов «мобильная установка залпового огня», ей устанавливали монументы и памятники, ей посвящали свои произведения писатели поэты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621080" y="2492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атюш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ак назывались танки до того, как появился танк Т-34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1441800" y="177336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763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нкет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4"/>
          <p:cNvSpPr txBox="1"/>
          <p:nvPr/>
        </p:nvSpPr>
        <p:spPr>
          <a:xfrm>
            <a:off x="1835280" y="436572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135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Impact"/>
              </a:rPr>
              <a:t>Своя   игра</a:t>
            </a:r>
            <a:endParaRPr b="1" lang="en-US" sz="4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13500000"/>
              </a:gradFill>
              <a:effectLst>
                <a:outerShdw dist="0" dir="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1" name="Rectangle 6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199360" cy="1311120"/>
          </a:xfrm>
          <a:prstGeom prst="rect">
            <a:avLst/>
          </a:prstGeom>
          <a:ln w="0">
            <a:noFill/>
          </a:ln>
        </p:spPr>
      </p:pic>
      <p:pic>
        <p:nvPicPr>
          <p:cNvPr id="1122" name="Прямоугольник 6" descr=""/>
          <p:cNvPicPr/>
          <p:nvPr/>
        </p:nvPicPr>
        <p:blipFill>
          <a:blip r:embed="rId2"/>
          <a:stretch/>
        </p:blipFill>
        <p:spPr>
          <a:xfrm>
            <a:off x="1438200" y="1500120"/>
            <a:ext cx="622476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 назван по имени выдающегося русского полководца, героя Ледового побоища 1242 г. этим орденом награждали офицеров Сов. Армии за личную храбрость и умение воевать малыми силами против значительно превосходящих сил противника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1182960" y="292428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84360" y="5516640"/>
            <a:ext cx="57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Александра Невского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каком году были вручены первые награды – медали «За оборону Ленинграда», «За оборону Одессы»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За оборону Севастополя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09584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1258920" y="544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941-1942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ский знак сияет золотыми лучами, которые исходят от красной звезды, а сама звезда прикрывает собою кавалерийскую шашку и винтовку пехотинца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2420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Отечественной войны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то написано на медали «За победу над Германией в ВОВ 1941-45 гг.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95840" y="206064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468360" y="494172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аше дело правое мы победили!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лчо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Группа 29"/>
          <p:cNvGrpSpPr/>
          <p:nvPr/>
        </p:nvGrpSpPr>
        <p:grpSpPr>
          <a:xfrm>
            <a:off x="324000" y="620640"/>
            <a:ext cx="8493120" cy="5662800"/>
            <a:chOff x="324000" y="620640"/>
            <a:chExt cx="8493120" cy="5662800"/>
          </a:xfrm>
        </p:grpSpPr>
        <p:sp>
          <p:nvSpPr>
            <p:cNvPr id="1124" name="Rectangle 4">
              <a:hlinkClick r:id="" action="ppaction://hlinkshowjump?jump=nextslide"/>
            </p:cNvPr>
            <p:cNvSpPr/>
            <p:nvPr/>
          </p:nvSpPr>
          <p:spPr>
            <a:xfrm>
              <a:off x="324000" y="62208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Геро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 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йны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5">
              <a:hlinkClick r:id="" action="ppaction://hlinkshowjump?jump=nextslide"/>
            </p:cNvPr>
            <p:cNvSpPr/>
            <p:nvPr/>
          </p:nvSpPr>
          <p:spPr>
            <a:xfrm>
              <a:off x="2050920" y="622080"/>
              <a:ext cx="1655640" cy="1006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пераци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7">
              <a:hlinkClick r:id="" action="ppaction://hlinkshowjump?jump=nextslide"/>
            </p:cNvPr>
            <p:cNvSpPr/>
            <p:nvPr/>
          </p:nvSpPr>
          <p:spPr>
            <a:xfrm>
              <a:off x="7236000" y="62208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рден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медали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8"/>
            <p:cNvSpPr/>
            <p:nvPr/>
          </p:nvSpPr>
          <p:spPr>
            <a:xfrm>
              <a:off x="395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9"/>
            <p:cNvSpPr/>
            <p:nvPr/>
          </p:nvSpPr>
          <p:spPr>
            <a:xfrm>
              <a:off x="2124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0"/>
            <p:cNvSpPr/>
            <p:nvPr/>
          </p:nvSpPr>
          <p:spPr>
            <a:xfrm>
              <a:off x="3851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11"/>
            <p:cNvSpPr/>
            <p:nvPr/>
          </p:nvSpPr>
          <p:spPr>
            <a:xfrm>
              <a:off x="7236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12"/>
            <p:cNvSpPr/>
            <p:nvPr/>
          </p:nvSpPr>
          <p:spPr>
            <a:xfrm>
              <a:off x="395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14"/>
            <p:cNvSpPr/>
            <p:nvPr/>
          </p:nvSpPr>
          <p:spPr>
            <a:xfrm>
              <a:off x="2124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851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7236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17"/>
            <p:cNvSpPr/>
            <p:nvPr/>
          </p:nvSpPr>
          <p:spPr>
            <a:xfrm>
              <a:off x="395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18"/>
            <p:cNvSpPr/>
            <p:nvPr/>
          </p:nvSpPr>
          <p:spPr>
            <a:xfrm>
              <a:off x="2124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19"/>
            <p:cNvSpPr/>
            <p:nvPr/>
          </p:nvSpPr>
          <p:spPr>
            <a:xfrm>
              <a:off x="3851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0"/>
            <p:cNvSpPr/>
            <p:nvPr/>
          </p:nvSpPr>
          <p:spPr>
            <a:xfrm>
              <a:off x="7236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1"/>
            <p:cNvSpPr/>
            <p:nvPr/>
          </p:nvSpPr>
          <p:spPr>
            <a:xfrm>
              <a:off x="395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22"/>
            <p:cNvSpPr/>
            <p:nvPr/>
          </p:nvSpPr>
          <p:spPr>
            <a:xfrm>
              <a:off x="2124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23"/>
            <p:cNvSpPr/>
            <p:nvPr/>
          </p:nvSpPr>
          <p:spPr>
            <a:xfrm>
              <a:off x="3851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Rectangle 24"/>
            <p:cNvSpPr/>
            <p:nvPr/>
          </p:nvSpPr>
          <p:spPr>
            <a:xfrm>
              <a:off x="7236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Rectangle 25">
              <a:hlinkClick r:id="" action="ppaction://hlinkshowjump?jump=nextslide"/>
            </p:cNvPr>
            <p:cNvSpPr/>
            <p:nvPr/>
          </p:nvSpPr>
          <p:spPr>
            <a:xfrm>
              <a:off x="5508720" y="62064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4" name="Rectangle 26">
              <a:hlinkClick r:id="" action="ppaction://hlinkshowjump?jump=nextslide"/>
            </p:cNvPr>
            <p:cNvSpPr/>
            <p:nvPr/>
          </p:nvSpPr>
          <p:spPr>
            <a:xfrm>
              <a:off x="3851280" y="62208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Совет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ачальник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27"/>
            <p:cNvSpPr/>
            <p:nvPr/>
          </p:nvSpPr>
          <p:spPr>
            <a:xfrm>
              <a:off x="550872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>
              <a:off x="550872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Rectangle 29"/>
            <p:cNvSpPr/>
            <p:nvPr/>
          </p:nvSpPr>
          <p:spPr>
            <a:xfrm>
              <a:off x="550872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8" name="Rectangle 30"/>
            <p:cNvSpPr/>
            <p:nvPr/>
          </p:nvSpPr>
          <p:spPr>
            <a:xfrm>
              <a:off x="550872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9" name="Rectangle 32"/>
            <p:cNvSpPr/>
            <p:nvPr/>
          </p:nvSpPr>
          <p:spPr>
            <a:xfrm>
              <a:off x="5508720" y="69516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а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техник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вооружен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7 января 1942 года в газете «Правда»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публикован очерк Петра Лидова «Таня».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зовите подлинное имя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героини этого очерка, героини-партизанки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784160" y="220500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611280" y="4797360"/>
            <a:ext cx="7488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оя Космодемьянская (1923-41) – партизанка, Герой Советского Союза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 весь мир прозвучало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имя московского парня, в прошлом рабочего мясокомбината, а теперь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летчика. В ночном воздушном бою он таранил фашистский бомбардировщик. Это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ервый в мире ночной таран! После этого летчик сбил еще 5 вражеских самолетов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498320" y="299736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0920" y="530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лалихин Виктор Васильевич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тважный летчик, в марте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942 года его самолет был подбит и ему пришлось приземлиться в тылу врага.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8 суток он пробирался к своим. После ампутации обеих ног освоил протезы 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вернулся в строй. Назовите имя героя, как сложилась его судьба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857240" y="3357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79280" y="580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ресьев Алексей Петрович (1916-2001)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ядовой гвардейского стрелкового полка 23.02.1943 года в бою за деревню Чернушк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Псковская обл.) закрыл телом амбразуру пулеметного дзота гитлеровцев, препятствовавшего продвижению подразделения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714320" y="3141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24000" y="5734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тросов Александр Матвеевич (1924-4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емецкий план ведения войны против СССР назывался…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лан Барбаросс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Назовите кодовое название операции немецких войск под Москво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75276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2556000" y="465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Тайфун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Ёля</cp:lastModifiedBy>
  <dcterms:modified xsi:type="dcterms:W3CDTF">2012-10-08T15:35:30Z</dcterms:modified>
  <cp:revision>47</cp:revision>
  <dc:subject/>
  <dc:title>Презентация PowerPoint</dc:title>
</cp:coreProperties>
</file>