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BA32-F64A-4D54-A532-2BA29DEF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3809-A4D1-4145-AF80-C86FB76D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A635-6C64-40BE-8D49-E106B82D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AC9C-4129-46E0-8DED-FFED0DA2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912F-E8AE-4F8B-9786-F53D7F95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E36C-7C8E-4ED5-B757-D3A8350F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888C-727D-4E64-B2CC-F724E147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9307-96F7-47EE-9DCC-B14BC00B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0EC5-4C90-4ADA-A5A0-D9A65727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BC15-B5FF-4C2E-8AF8-D8240F9D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786F-D912-44DD-9103-AE0EB9F7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6296-0B15-4FF6-90EB-81015C73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91B0-D219-41DE-A791-0EA1B2F3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D61E-A8D8-4361-ACDE-8FDC8123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8CE1-1812-4A26-81D2-6F41DE08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8612-4357-484D-A680-9803255B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610B-D542-493E-ABA7-7D3ABE01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F39-8930-4160-B56C-BFC58FF2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0662-7752-44AD-9CA5-E0D8F090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4759-DDD9-479C-916B-CB438622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29A0-3E4F-4A4A-AF82-13438C38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B18C-8C61-4A6A-AC0D-57F8EBAB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81C6-70B9-4EA1-B86A-C29E1BAF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1E3E-E324-432C-B7AA-DE84B5F7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74CF-66C3-4A6A-9A75-B90C932E35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C846-5906-496A-A9AF-BCC2065042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0880" y="5562720"/>
            <a:ext cx="8458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 ИНФОРМАТИК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0"/>
            <a:ext cx="7924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Й  УМНЫЙ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33520" y="990720"/>
            <a:ext cx="79246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АФИЧЕСКИЙ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ДАКТОР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533520" y="1219320"/>
            <a:ext cx="79246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РХИТЕКТУРА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МПЬЮТЕРА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33520" y="1981080"/>
            <a:ext cx="79246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33520" y="1295280"/>
            <a:ext cx="792468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СТЕМЫ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ЧИСЛЕНИЯ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09480" y="1143000"/>
            <a:ext cx="792504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ЛЕКТРОННЫ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БЛИЦЫ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04920" y="1828800"/>
            <a:ext cx="8458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ЛЬТИМЕДИА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09480" y="1295280"/>
            <a:ext cx="792504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ТРОЙСТВО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МПЬЮТЕРА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1905120"/>
            <a:ext cx="79246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I ТУР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228600"/>
            <a:ext cx="8763120" cy="4114800"/>
          </a:xfrm>
          <a:prstGeom prst="ellipse">
            <a:avLst/>
          </a:prstGeom>
          <a:solidFill>
            <a:srgbClr val="0099cc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5791320"/>
            <a:ext cx="155736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7200" y="228600"/>
            <a:ext cx="8231040" cy="6324480"/>
            <a:chOff x="457200" y="228600"/>
            <a:chExt cx="8231040" cy="6324480"/>
          </a:xfrm>
        </p:grpSpPr>
        <p:grpSp>
          <p:nvGrpSpPr>
            <p:cNvPr id="87" name=""/>
            <p:cNvGrpSpPr/>
            <p:nvPr/>
          </p:nvGrpSpPr>
          <p:grpSpPr>
            <a:xfrm>
              <a:off x="5735520" y="811080"/>
              <a:ext cx="2952360" cy="3406680"/>
              <a:chOff x="5735520" y="811080"/>
              <a:chExt cx="2952360" cy="3406680"/>
            </a:xfrm>
          </p:grpSpPr>
          <p:sp>
            <p:nvSpPr>
              <p:cNvPr id="88" name=""/>
              <p:cNvSpPr/>
              <p:nvPr/>
            </p:nvSpPr>
            <p:spPr>
              <a:xfrm>
                <a:off x="5735520" y="811080"/>
                <a:ext cx="2952360" cy="108000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Ж З И 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735520" y="1974600"/>
                <a:ext cx="2952360" cy="107964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Р С Т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735520" y="3137760"/>
                <a:ext cx="2952360" cy="108000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Щ Ы Ь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3097080" y="228600"/>
              <a:ext cx="2952360" cy="4571640"/>
              <a:chOff x="3097080" y="228600"/>
              <a:chExt cx="2952360" cy="4571640"/>
            </a:xfrm>
          </p:grpSpPr>
          <p:sp>
            <p:nvSpPr>
              <p:cNvPr id="92" name=""/>
              <p:cNvSpPr/>
              <p:nvPr/>
            </p:nvSpPr>
            <p:spPr>
              <a:xfrm>
                <a:off x="3097080" y="3719520"/>
                <a:ext cx="2952360" cy="108072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Э Ю Я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097080" y="228600"/>
                <a:ext cx="2952360" cy="108072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Г Д Е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097080" y="1392480"/>
                <a:ext cx="2952360" cy="108000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Н О П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097080" y="2556000"/>
                <a:ext cx="2952360" cy="108072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Ц Ч Ш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458640" y="811080"/>
              <a:ext cx="2952360" cy="3406680"/>
              <a:chOff x="458640" y="811080"/>
              <a:chExt cx="2952360" cy="3406680"/>
            </a:xfrm>
          </p:grpSpPr>
          <p:sp>
            <p:nvSpPr>
              <p:cNvPr id="97" name=""/>
              <p:cNvSpPr/>
              <p:nvPr/>
            </p:nvSpPr>
            <p:spPr>
              <a:xfrm>
                <a:off x="458640" y="811080"/>
                <a:ext cx="2952360" cy="108000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А Б В 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58640" y="1974600"/>
                <a:ext cx="2952360" cy="107964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К Л М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8640" y="3137760"/>
                <a:ext cx="2952360" cy="108000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У Ф Х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457200" y="5791320"/>
              <a:ext cx="1557360" cy="7617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63600" y="5791320"/>
              <a:ext cx="1557360" cy="7617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70360" y="5791320"/>
              <a:ext cx="1557360" cy="7617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76760" y="5791320"/>
              <a:ext cx="1557360" cy="7617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534960" y="4952880"/>
              <a:ext cx="81532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5560">
                    <a:solidFill>
                      <a:srgbClr val="0000a4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КОМПЬЮТЕРНОЕ ЖИВОТНОЕ</a:t>
              </a:r>
              <a:endParaRPr b="0" lang="en-US" sz="1800" spc="1" strike="noStrike">
                <a:ln w="25560">
                  <a:solidFill>
                    <a:srgbClr val="0000a4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1677960" y="99072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4421160" y="388620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0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7088040" y="327672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9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4344840" y="274320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8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754280" y="327672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7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7088040" y="213372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6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4421160" y="160020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5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7012080" y="99072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3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4421160" y="380880"/>
              <a:ext cx="3142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1754280" y="213372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4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73280" y="5977080"/>
            <a:ext cx="7597440" cy="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8200" y="1033560"/>
            <a:ext cx="7912080" cy="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88080" y="474840"/>
            <a:ext cx="0" cy="606096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32400" y="566640"/>
            <a:ext cx="0" cy="606276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7800" y="566640"/>
            <a:ext cx="0" cy="606276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91160" y="5324400"/>
            <a:ext cx="227196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СТРОЙ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ПЬЮ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35480" y="5324400"/>
            <a:ext cx="227304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УЛЬТИМЕДИ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5324400"/>
            <a:ext cx="227196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ЭЛЕКТРО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АБЛИ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3280" y="2712960"/>
            <a:ext cx="7832520" cy="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2058840"/>
            <a:ext cx="2271960" cy="13068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ТЕКСТОВ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РЕДАК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91160" y="2058840"/>
            <a:ext cx="2271960" cy="13068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РАФИЧЕ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ЕДАК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35480" y="2058840"/>
            <a:ext cx="2273040" cy="13068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ОГРАММ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ЕСПЕ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91160" y="380880"/>
            <a:ext cx="227196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ИНТЕР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35480" y="380880"/>
            <a:ext cx="227304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АЛГОРИТ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80880"/>
            <a:ext cx="227196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ИНФОРМ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3280" y="4390920"/>
            <a:ext cx="7832520" cy="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738600"/>
            <a:ext cx="227196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РХИТЕК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ПЬЮ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91160" y="3738600"/>
            <a:ext cx="227196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ЧИС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35480" y="3738600"/>
            <a:ext cx="227304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Щ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1905120"/>
            <a:ext cx="7924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Я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33520" y="1828800"/>
            <a:ext cx="7924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Ы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85800" y="1905120"/>
            <a:ext cx="79246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РНЕТ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09480" y="1295280"/>
            <a:ext cx="79250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КСТОВЫЙ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ДАКТОР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1219320"/>
            <a:ext cx="79246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ГРАММНО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ЕСПЕЧЕНИ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4-10T17:44:5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