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DA1-0B53-4377-B0C8-7947AA8C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451-7385-409D-B2F6-15EAEA4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642-31CA-4EB6-8DCA-2DD354D1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954-B88D-4CBF-AF46-E4CE786C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E94A-88F6-4446-B247-92C5ED82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4A72-53C7-4750-817D-D139596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1018-19A3-41E8-93C9-8075ACCF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CB0-0CFD-4DDA-8709-D9C6169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A856-D618-4074-9B09-096EDDBC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9E2F-72E5-4645-A974-98FCEDD5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AE6E-FC0F-457F-85E3-D4FB897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C1D-0899-4BE2-BFFE-5F89344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04F-54A8-445D-BE07-D27D8E7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714F-31C6-4252-A643-B113BD1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A247-D000-4040-A6B8-ED14D3B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365-7F5C-4E05-9BA8-00A7B7DF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230D-3B13-45AB-B9E4-F739D826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285-21A6-43CD-8120-80788448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1D0-0847-4A7C-8808-B1258D00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9AE-994D-444B-8FE8-4487329D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981-D489-4E54-AAAF-8D674E19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D79-D678-4A46-9D3F-09F4AA2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69F-3E4F-480D-A667-7A70216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C53-9864-4665-8B49-957EB88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6C1-507B-43CD-ACB1-D7F7B23F1A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FAD-DB8B-419E-B43E-33E5EBE76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85800"/>
            <a:ext cx="77724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формации измеряется 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85800"/>
            <a:ext cx="7696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ово информация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ереводе с латин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значае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иров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ние но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еньшение неопреде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609480"/>
            <a:ext cx="7772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, хранимая на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нешнем носителе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бладающая именем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азыва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ешне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й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носимо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ало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914400"/>
            <a:ext cx="8381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количество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отребуется для кодирования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дного из 256 символ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52280"/>
            <a:ext cx="7696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кого будет информативно следующее сообще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Программа- это алгоритм, записанны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на языке программирования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программ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ителя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шо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533520"/>
            <a:ext cx="7772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понятие объединяет камень, папирус, бересту, книгу и дискет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дное происх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ческая ц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094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ие элементы не могут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ужить носителями информации при ее хране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гнит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ч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685800"/>
            <a:ext cx="86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омпьютер – это универсальное устрой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работы 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ис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гровыми программ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альными язы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914400"/>
            <a:ext cx="77724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еобходимо для кодирования одной букв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066680"/>
            <a:ext cx="7315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в слов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066680"/>
            <a:ext cx="7162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айт в сло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ЕХНОЛОГ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50880" y="350640"/>
            <a:ext cx="103813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640" rIns="539640" tIns="539640" bIns="539640" anchor="ctr">
            <a:spAutoFit/>
          </a:bodyPr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изучает информат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кцию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ы представления, нако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ботки и передачи информации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мощью техн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компьютерны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общешкольные дисципл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86868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анных – э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 передаваемой за 1 ч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передаваемой с одного ПК на друг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битов информации, переданных за 1 секу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219320"/>
            <a:ext cx="76201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не является свойством информац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838080"/>
            <a:ext cx="87631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такое информацио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зры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жедневные новости из горячих т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зросшее количество газет и журна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рный рост потоков и объемов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ение через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2296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временный компьютер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эт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работы с текс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ногофункциональное устройство для работы с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ыстродействующее вычислительное 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хранения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-1405728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777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За минимальную единиц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змерения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ня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85800"/>
            <a:ext cx="73911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утверждение вер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=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g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l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9T13:27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