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3438-2A2A-4CB0-99D1-7C83A7B4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AC25-07E7-4AC7-B939-2DC1BBEF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3139-930D-438F-8716-E65EB4C3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431B-389B-4001-92F5-F6E97E2E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0938-54A0-4800-B2CE-9C2ACFBF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2800-0021-42C6-A1C3-BDCEBB89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0614-D13C-4870-907B-30EF55A3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ED05-D011-4D76-87E6-54CD5EC7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69B3-DA78-43E8-BDA3-ECEEBFDC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A672-2601-47EF-8F8B-987B13B1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A8CD-2D45-4FC7-B059-DCA9FBA7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E74C-C43F-44C5-8C3D-EA2F7CE7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1D7B-7FB4-40EB-B469-01979DF5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59B1-DC5F-45A0-99A8-BFA068C8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D0C3-2C2F-4BEE-8F68-BE36574C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F49B-276A-4FDE-8EE1-D3E6B602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CE1B-6234-48CB-9185-3373168E7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63E1-965C-4AD2-8D5D-B3433809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02FA-B14D-459F-A0C3-120AC344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73DE-7056-48CD-A596-D3636ED9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3291-8CCF-46F5-A968-B1EC147E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1AAF-C683-432C-96F6-7E41AE1D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B985-B162-4749-BE5B-F1780B35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1D9C-BCA2-4CF8-B89D-1D13644A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3FD0-A778-47FE-93F2-A2D6A3A78E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C4D6-71D3-4FAA-9B7F-8E3DB4D97B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80880" y="5562720"/>
            <a:ext cx="8458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 ИНФОРМАТИКЕ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0"/>
            <a:ext cx="7924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ЫЙ  УМНЫЙ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9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7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4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495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2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0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1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8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9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6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7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4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5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1905120"/>
            <a:ext cx="79246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II ТУР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2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3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0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1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8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9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6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7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4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5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2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3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0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1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8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9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6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7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4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5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228600"/>
            <a:ext cx="8763120" cy="4114800"/>
          </a:xfrm>
          <a:prstGeom prst="ellipse">
            <a:avLst/>
          </a:prstGeom>
          <a:solidFill>
            <a:srgbClr val="0099cc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735520" y="811080"/>
            <a:ext cx="2952360" cy="3406680"/>
            <a:chOff x="5735520" y="811080"/>
            <a:chExt cx="2952360" cy="3406680"/>
          </a:xfrm>
        </p:grpSpPr>
        <p:sp>
          <p:nvSpPr>
            <p:cNvPr id="86" name=""/>
            <p:cNvSpPr/>
            <p:nvPr/>
          </p:nvSpPr>
          <p:spPr>
            <a:xfrm>
              <a:off x="5735520" y="811080"/>
              <a:ext cx="2952360" cy="108000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Ж З И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35520" y="1974600"/>
              <a:ext cx="2952360" cy="107964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 С 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35520" y="3137760"/>
              <a:ext cx="2952360" cy="108000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Щ Ы 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097080" y="228600"/>
            <a:ext cx="2952360" cy="4571640"/>
            <a:chOff x="3097080" y="228600"/>
            <a:chExt cx="2952360" cy="4571640"/>
          </a:xfrm>
        </p:grpSpPr>
        <p:sp>
          <p:nvSpPr>
            <p:cNvPr id="90" name=""/>
            <p:cNvSpPr/>
            <p:nvPr/>
          </p:nvSpPr>
          <p:spPr>
            <a:xfrm>
              <a:off x="3097080" y="3719520"/>
              <a:ext cx="2952360" cy="108072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Э Ю 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97080" y="228600"/>
              <a:ext cx="2952360" cy="108072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Г Д 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97080" y="1392480"/>
              <a:ext cx="2952360" cy="108000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 О П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97080" y="2556000"/>
              <a:ext cx="2952360" cy="108072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 Ч Ш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58640" y="811080"/>
            <a:ext cx="2952360" cy="3406680"/>
            <a:chOff x="458640" y="811080"/>
            <a:chExt cx="2952360" cy="3406680"/>
          </a:xfrm>
        </p:grpSpPr>
        <p:sp>
          <p:nvSpPr>
            <p:cNvPr id="95" name=""/>
            <p:cNvSpPr/>
            <p:nvPr/>
          </p:nvSpPr>
          <p:spPr>
            <a:xfrm>
              <a:off x="458640" y="811080"/>
              <a:ext cx="2952360" cy="108000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Б В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8640" y="1974600"/>
              <a:ext cx="2952360" cy="107964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К Л 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8640" y="3137760"/>
              <a:ext cx="2952360" cy="108000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У Ф Х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"/>
          <p:cNvSpPr txBox="1"/>
          <p:nvPr/>
        </p:nvSpPr>
        <p:spPr>
          <a:xfrm>
            <a:off x="914400" y="4800600"/>
            <a:ext cx="7467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a4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основное устройство</a:t>
            </a:r>
            <a:endParaRPr b="0" lang="en-US" sz="1800" spc="1" strike="noStrike">
              <a:ln w="25560">
                <a:solidFill>
                  <a:srgbClr val="0000a4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a4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вывода информации</a:t>
            </a:r>
            <a:endParaRPr b="0" lang="en-US" sz="1800" spc="1" strike="noStrike">
              <a:ln w="25560">
                <a:solidFill>
                  <a:srgbClr val="0000a4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7960" y="990720"/>
            <a:ext cx="3142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421160" y="3886200"/>
            <a:ext cx="3142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088040" y="3276720"/>
            <a:ext cx="3146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344840" y="2743200"/>
            <a:ext cx="3146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54280" y="3276720"/>
            <a:ext cx="3142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88040" y="2133720"/>
            <a:ext cx="3146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421160" y="1600200"/>
            <a:ext cx="3142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012080" y="990720"/>
            <a:ext cx="3142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421160" y="380880"/>
            <a:ext cx="3142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54280" y="2133720"/>
            <a:ext cx="3142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5791320"/>
            <a:ext cx="1182600" cy="7617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5680" y="5791320"/>
            <a:ext cx="1184040" cy="7617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22400" y="5791320"/>
            <a:ext cx="1182960" cy="7617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83080" y="5791320"/>
            <a:ext cx="1182960" cy="7617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19480" y="5791320"/>
            <a:ext cx="1182600" cy="7617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18480" y="5791320"/>
            <a:ext cx="1182600" cy="7617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66040" y="5791320"/>
            <a:ext cx="1182600" cy="7617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2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3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9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0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1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7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8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9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48769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15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6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7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5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53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4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5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6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0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2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7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8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4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4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0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91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2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3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8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4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0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5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6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7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2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8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9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0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1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3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4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9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0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6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2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8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2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3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4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7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8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9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0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8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0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4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5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6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7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1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2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3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4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7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8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0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5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1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2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3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6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3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4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5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7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6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2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0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81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2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3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6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2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0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4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5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6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0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19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0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1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2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4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9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5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1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7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5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04-08T12:36:45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