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9EA7-65D5-4CE4-B06C-DC329334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1513-F1EC-4DF9-803D-814F2C55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1DAF3-75F7-4F35-BB4B-4B0E757A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5AFFD-1BC1-451F-BF5A-2B35CB32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618D7-D3F1-4DFC-9D10-EA4465F2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58CCF-D4B0-432C-9967-A619F747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C3EBB-F51F-40EE-ACFB-2C42AD30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C1EBA-7F01-411B-90D5-EDB42668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A0D7F-9F34-41D0-99C1-95888BC9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63F68-C262-4435-894A-EDED5CB7C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1B5A0-611F-42FA-88C3-CF419A439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C75B6-4DED-4A55-A075-F0E2AA6C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E7DD-842B-4134-9609-862D7C1F0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5D49D-57F8-494D-81FE-A505011B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51E0C-17AC-4CF8-8C73-63869C1D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C0AFD-5616-4F29-8162-75B70CBF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DBA9C-008B-4B46-9E4C-9A34B458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A13B4-9611-46BE-80D8-CFF55584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E9913-B99D-4512-9874-11032090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E6773-E959-497D-857A-0726AFC9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29384B-D854-4C0F-B490-77BFD165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D74D2-2212-409F-A3CE-E1BAEBBD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8FEB87-8AC6-4E48-9B19-6082652F6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BE78-3191-410D-BDA3-4C8793766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E096D-8486-4DAF-B8C4-F94319D3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C545D-EAC7-4D31-B84A-7814E584F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6EF39-CFDD-4D98-8483-F7BA5A3A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AF621-96EE-45BB-B562-524816C8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45FE6-8E2C-4FAC-B4F7-F741F9D1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93EC0-1490-41DF-805A-7A9FBB7F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15354-F3D4-40FB-871F-0669CF5A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CB6B6-119D-498C-9EFF-06721A77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AB6AA-4F54-41B0-84CC-5E64F950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F6587-DCA3-4D50-BF9C-4DFF1CF9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EB4A-01FD-4B27-8057-3CC1F8A0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773D1-F074-405E-A980-8C672933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1F841-CAA0-4CEF-974F-3F00076ED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EB73A-EC8F-4E29-8A41-75DB731B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B95C8F-AD94-4314-923A-A311FCE27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22F228-CB44-4011-9029-131ABDB6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526F6-B788-440F-B4FD-8FA8E5D0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76B52D-E25A-4D67-B936-56B3A603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BA9D78-77C2-4099-821B-F5DDC995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C16401-8BD3-4B71-8131-75505D94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716F3-3A2B-44F4-9F9D-56B7D527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D863-94CD-4FD7-B83A-AC819E0F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C617C7-1BA3-4165-8B13-9814C0A0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BA5A6D-B3AF-4671-9BF2-87484B71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84574-A02C-4FF4-BFF1-52A7AA1E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CAE05B-903A-44B0-9463-11CB3ACAE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B9552-F34E-45B9-86E3-1BCC68C9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BEE0-ACB8-4375-8A4D-A91F1366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E09A-D1A2-40A8-89DF-05E624CB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81EF-D596-438D-815D-651D0A25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BEE7-E495-44D7-B9BE-741169FA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58F2-75B5-432B-AE98-0B9CD6AC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D5E8-3E96-4FF2-9E75-F451DDE7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E10A-0EFD-4C61-831C-65466D2C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4590-B1DB-437E-BDB8-7C8A0A04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3535-1B08-4787-972C-48529E40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A368-1CB8-40CF-BB45-0057304D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9657-CE0C-4350-9C7D-86F0204DE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2D8B2-CE4B-4BE7-8DE9-A6A5304FC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86D0B-1A10-4C1C-8E3F-31786536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DCAEA-EE09-4830-B05C-A7B6E7F2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A39E3-8DA5-4D36-B289-B98C5B24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5EEBC-D8CF-4093-A1FB-5622D54F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BE87-3200-41D1-9998-63ACC40A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68EDC-7681-4763-BCC8-818752AF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E42F5-A650-41AF-A492-D26264DF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8BB2D-98F6-41E5-AA6C-B4E0804E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EC2B0-5C52-4955-9AEF-4AB0C6BD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1268B-62FC-44D6-9A7C-50EDE2B4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D3E39-44B6-4B92-A538-58C5CD2E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AA17F-C09E-48A1-A2FB-908D9214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73BC7-FD74-443D-84FB-0427BA78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8B508-262C-49EE-A514-9F122228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C93A4-D952-479A-8678-38885E14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C47C-2FD2-43B7-BDD6-CFA107EA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90E56-4B7B-4697-94C2-1013E51F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1F3F4-7E54-42C1-AA31-53BABB53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E0DBE-70C6-493F-8445-7B214EC1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09BE3-A3A7-4E87-8F40-CB47F533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EE730-24E2-477B-A969-650DFB1A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D085A-C768-4414-A387-BD105E2E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BAEEF-EB0A-4BA7-8E15-A7A92E87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C2A0D-0880-4F60-8D59-A6BBAA5CB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40A38-D83E-4697-834F-B798251B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E4FE7-A250-4FB4-B38D-574D0D5D2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493B-F4EB-4847-9C67-D6EE140D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92A33-A30E-47F5-9702-AC2747EF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FE3DE-F579-4577-AAB1-4FB026AB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37054-BED5-4E18-8D8F-C747CA78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927CA-513A-46BA-97D0-74BD65A2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53560-E596-49B6-9E37-03596538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0EA98-26CF-49C8-AB72-33C87E21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A1072-56C0-4FCA-A3D8-E7B8A0B2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6CB69-1312-4900-829F-B43B3642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20377-1D8C-4735-B8FF-8EE8C02F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80903-22CC-4F98-9258-59E7C8DF1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A294-FBA6-4676-ABDC-318240AE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6C37D-39BF-4726-AF84-F821F95B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29BA7-D8FB-46FB-BE72-480E16CBA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37357-DE13-470F-BC8C-C7141AAD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37209-0C01-4EF5-8863-DBA50C19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3790A-B9E3-4F92-924F-32252D61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5D9F6-90AF-410C-AB0B-7591DA0A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80105-BB5C-430B-AFD6-D6911735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3910B-88F3-4108-9D25-FB811D09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367A3-9433-4502-8970-766E0A53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4D623-267C-4E43-8F08-F562A9B6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94EF-7448-4F8D-BF4E-440180CE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5B7F3-BFED-4E4A-82E3-C431045E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600AA-DAE3-409E-B23E-41AA7131A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27E59-8BD0-4DD9-B53F-CA5B587D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11302-9A26-4054-A539-7D9D4A58D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C1D57-8B89-4DD1-AEB0-708C9B19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A65DC-04F2-4619-988A-0DC16428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2C3CD-C698-44B9-82AF-9F7E7E9F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5780C-B784-49BD-B949-8AF5CD6F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C001A-9B72-437E-9343-13748209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F8C0F-7603-49F4-895B-CAAD6413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5841-F8ED-4D46-A162-4788D09A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81BD8-5DD4-4114-A92A-F178C541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0D436-D8E4-4451-B4AB-1286373D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221A0-4DB0-4323-AC1A-34F1DB53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B91C2-9173-482D-9D03-0FA00E37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29795-C36E-4032-A546-D5C6869F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C3805-0159-4428-A530-39963E33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845A9-3335-4FF8-AFCA-E681DCC2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D9219-22DF-420A-8D0C-87152F4F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5B42B-2B2C-4169-B446-B1D35488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F6D59-B44F-4EA9-8B0C-5CA5D26B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96BB-188E-4983-A5E4-F35CA7A7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A5591-B0B7-4E9B-888E-E8110445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727CD-A913-48AE-A5F6-3026CFC3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FB81F-8813-420C-A56B-B1CC1D5D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59B8C-F4E8-498F-BBDC-382BA5A3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BAD9B-7FF0-4247-997B-CF73B219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BBCAE-EF4D-44E8-8125-787512FC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4F9C4-2306-45C6-823B-D8A109273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45D72-C270-4B9F-8E54-AD8121F28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BC95B-874A-4F67-8E36-5562663E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CE497-37C7-4B51-8640-6376DB57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1829-0BF0-42C3-BB9E-FD456F1A7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40FD-B2D8-478C-9AC0-2CAEAEABD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34C3-9D1C-431E-BA9B-0B794B3E5E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ABD6-0231-4DC8-8620-2381000DB0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CDE5-ED22-4E44-9253-3914A4D85B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A527-ED40-4E61-BFB0-6E23897623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D83E-DB73-4755-A4D6-BBD779F1B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7FF8-8812-428B-B1B6-B166A9A853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DD11-7AE8-4E6E-8AFB-9DD2EFD2A6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8584-55E3-433B-A1EF-B44D910D4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AA6F-4B96-497D-88E5-BDC1040C39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9C96-4CF9-4B15-9A80-10475BA074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no Pro Smbd"/>
              </a:rPr>
              <a:t>Здравствуй,  школа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Рисунок 5" descr="62286315.png"/>
          <p:cNvPicPr/>
          <p:nvPr/>
        </p:nvPicPr>
        <p:blipFill>
          <a:blip r:embed="rId1"/>
          <a:stretch/>
        </p:blipFill>
        <p:spPr>
          <a:xfrm>
            <a:off x="0" y="1071720"/>
            <a:ext cx="928692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Содержимое 3" descr="f_j031.jpg"/>
          <p:cNvPicPr/>
          <p:nvPr/>
        </p:nvPicPr>
        <p:blipFill>
          <a:blip r:embed="rId1"/>
          <a:stretch/>
        </p:blipFill>
        <p:spPr>
          <a:xfrm>
            <a:off x="2071800" y="0"/>
            <a:ext cx="535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4" name="Содержимое 3" descr="42030763_22.jpg"/>
          <p:cNvPicPr/>
          <p:nvPr/>
        </p:nvPicPr>
        <p:blipFill>
          <a:blip r:embed="rId1"/>
          <a:stretch/>
        </p:blipFill>
        <p:spPr>
          <a:xfrm>
            <a:off x="1928880" y="0"/>
            <a:ext cx="528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Содержимое 3" descr="f_k031.jpg"/>
          <p:cNvPicPr/>
          <p:nvPr/>
        </p:nvPicPr>
        <p:blipFill>
          <a:blip r:embed="rId1"/>
          <a:stretch/>
        </p:blipFill>
        <p:spPr>
          <a:xfrm>
            <a:off x="1928880" y="0"/>
            <a:ext cx="528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Содержимое 3" descr="erg2.jpg"/>
          <p:cNvPicPr/>
          <p:nvPr/>
        </p:nvPicPr>
        <p:blipFill>
          <a:blip r:embed="rId1"/>
          <a:stretch/>
        </p:blipFill>
        <p:spPr>
          <a:xfrm>
            <a:off x="142920" y="0"/>
            <a:ext cx="4643280" cy="3071880"/>
          </a:xfrm>
          <a:prstGeom prst="rect">
            <a:avLst/>
          </a:prstGeom>
          <a:ln w="0">
            <a:noFill/>
          </a:ln>
        </p:spPr>
      </p:pic>
      <p:pic>
        <p:nvPicPr>
          <p:cNvPr id="519" name="Рисунок 4" descr="Mal.jpg"/>
          <p:cNvPicPr/>
          <p:nvPr/>
        </p:nvPicPr>
        <p:blipFill>
          <a:blip r:embed="rId2"/>
          <a:stretch/>
        </p:blipFill>
        <p:spPr>
          <a:xfrm>
            <a:off x="4500720" y="3214800"/>
            <a:ext cx="621504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Содержимое 9" descr="087425a81db2.jpg"/>
          <p:cNvPicPr/>
          <p:nvPr/>
        </p:nvPicPr>
        <p:blipFill>
          <a:blip r:embed="rId1"/>
          <a:stretch/>
        </p:blipFill>
        <p:spPr>
          <a:xfrm>
            <a:off x="2286000" y="0"/>
            <a:ext cx="492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Содержимое 3" descr="0013-013-Pravila-raboty-za-kompjuterom.jpg"/>
          <p:cNvPicPr/>
          <p:nvPr/>
        </p:nvPicPr>
        <p:blipFill>
          <a:blip r:embed="rId1"/>
          <a:stretch/>
        </p:blipFill>
        <p:spPr>
          <a:xfrm>
            <a:off x="500040" y="142920"/>
            <a:ext cx="814392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5" name="Picture 2" descr="C:\Documents and Settings\Иванка\Рабочий стол\ibm_1.gif"/>
          <p:cNvPicPr/>
          <p:nvPr/>
        </p:nvPicPr>
        <p:blipFill>
          <a:blip r:embed="rId1"/>
          <a:stretch/>
        </p:blipFill>
        <p:spPr>
          <a:xfrm>
            <a:off x="1143000" y="214200"/>
            <a:ext cx="657216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7" name="Содержимое 3" descr="profilaktika onemeniya ryk.jpg"/>
          <p:cNvPicPr/>
          <p:nvPr/>
        </p:nvPicPr>
        <p:blipFill>
          <a:blip r:embed="rId1"/>
          <a:stretch/>
        </p:blipFill>
        <p:spPr>
          <a:xfrm>
            <a:off x="214200" y="0"/>
            <a:ext cx="4071960" cy="3500280"/>
          </a:xfrm>
          <a:prstGeom prst="rect">
            <a:avLst/>
          </a:prstGeom>
          <a:ln w="0">
            <a:noFill/>
          </a:ln>
        </p:spPr>
      </p:pic>
      <p:pic>
        <p:nvPicPr>
          <p:cNvPr id="528" name="Рисунок 4" descr="10.gif"/>
          <p:cNvPicPr/>
          <p:nvPr/>
        </p:nvPicPr>
        <p:blipFill>
          <a:blip r:embed="rId2"/>
          <a:stretch/>
        </p:blipFill>
        <p:spPr>
          <a:xfrm>
            <a:off x="4500720" y="2714760"/>
            <a:ext cx="45003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Содержимое 3" descr="42030774_33.jpg"/>
          <p:cNvPicPr/>
          <p:nvPr/>
        </p:nvPicPr>
        <p:blipFill>
          <a:blip r:embed="rId1"/>
          <a:stretch/>
        </p:blipFill>
        <p:spPr>
          <a:xfrm>
            <a:off x="2214720" y="0"/>
            <a:ext cx="492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Содержимое 3" descr="Artem-computer_10-spina.jpg"/>
          <p:cNvPicPr/>
          <p:nvPr/>
        </p:nvPicPr>
        <p:blipFill>
          <a:blip r:embed="rId1"/>
          <a:stretch/>
        </p:blipFill>
        <p:spPr>
          <a:xfrm>
            <a:off x="164304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28800" y="274680"/>
            <a:ext cx="371484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no Pro Smbd"/>
              </a:rPr>
              <a:t>Чтобы</a:t>
            </a:r>
            <a:r>
              <a:rPr b="0" lang="ru-RU" sz="5400" spc="-1" strike="noStrike">
                <a:solidFill>
                  <a:srgbClr val="000000"/>
                </a:solidFill>
                <a:latin typeface="Arno Pro Smbd"/>
              </a:rPr>
              <a:t>  </a:t>
            </a:r>
            <a:r>
              <a:rPr b="0" lang="ru-RU" sz="6000" spc="-1" strike="noStrike">
                <a:solidFill>
                  <a:srgbClr val="000000"/>
                </a:solidFill>
                <a:latin typeface="Arno Pro Smbd"/>
              </a:rPr>
              <a:t>компьютер  был 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no Pro Smbd"/>
              </a:rPr>
              <a:t> друго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5" name="Содержимое 3" descr="7816.jpg"/>
          <p:cNvPicPr/>
          <p:nvPr/>
        </p:nvPicPr>
        <p:blipFill>
          <a:blip r:embed="rId1"/>
          <a:stretch/>
        </p:blipFill>
        <p:spPr>
          <a:xfrm>
            <a:off x="0" y="142920"/>
            <a:ext cx="542916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00000"/>
              </a:solidFill>
              <a:latin typeface="Arno Pro Smbd"/>
            </a:endParaRPr>
          </a:p>
        </p:txBody>
      </p:sp>
      <p:pic>
        <p:nvPicPr>
          <p:cNvPr id="533" name="Содержимое 5" descr="f7caafddb99b.png"/>
          <p:cNvPicPr/>
          <p:nvPr/>
        </p:nvPicPr>
        <p:blipFill>
          <a:blip r:embed="rId1"/>
          <a:stretch/>
        </p:blipFill>
        <p:spPr>
          <a:xfrm>
            <a:off x="1366920" y="1600200"/>
            <a:ext cx="6410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7" name="Содержимое 3" descr="242efe6d6234bc36a615557af826aa34_full.jpg"/>
          <p:cNvPicPr/>
          <p:nvPr/>
        </p:nvPicPr>
        <p:blipFill>
          <a:blip r:embed="rId1"/>
          <a:stretch/>
        </p:blipFill>
        <p:spPr>
          <a:xfrm>
            <a:off x="714240" y="0"/>
            <a:ext cx="7143840" cy="5786280"/>
          </a:xfrm>
          <a:prstGeom prst="rect">
            <a:avLst/>
          </a:prstGeom>
          <a:ln w="0">
            <a:noFill/>
          </a:ln>
        </p:spPr>
      </p:pic>
      <p:sp>
        <p:nvSpPr>
          <p:cNvPr id="498" name="TextBox 4"/>
          <p:cNvSpPr/>
          <p:nvPr/>
        </p:nvSpPr>
        <p:spPr>
          <a:xfrm>
            <a:off x="1714680" y="5786280"/>
            <a:ext cx="542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no Pro Smbd"/>
              </a:rPr>
              <a:t>МОНИТ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1640" y="2857320"/>
            <a:ext cx="43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no Pro Smbd"/>
              </a:rPr>
              <a:t>СИСТЕМНЫЙ БЛО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0" name="Содержимое 3" descr="26979.jpg"/>
          <p:cNvPicPr/>
          <p:nvPr/>
        </p:nvPicPr>
        <p:blipFill>
          <a:blip r:embed="rId1"/>
          <a:stretch/>
        </p:blipFill>
        <p:spPr>
          <a:xfrm>
            <a:off x="357120" y="428760"/>
            <a:ext cx="4143600" cy="59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2560" y="514332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no Pro Smbd"/>
              </a:rPr>
              <a:t>КОМПЬЮТЕРНАЯ    МЫШ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Содержимое 3" descr="676063808.jpg"/>
          <p:cNvPicPr/>
          <p:nvPr/>
        </p:nvPicPr>
        <p:blipFill>
          <a:blip r:embed="rId1"/>
          <a:stretch/>
        </p:blipFill>
        <p:spPr>
          <a:xfrm>
            <a:off x="642960" y="571680"/>
            <a:ext cx="475308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57120" y="492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no Pro Smbd"/>
              </a:rPr>
              <a:t>ЗВУКОВЫЕ    КОЛОН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4" name="Содержимое 3" descr="creative-gigaworks-t40-20080512044852598-000.jpg"/>
          <p:cNvPicPr/>
          <p:nvPr/>
        </p:nvPicPr>
        <p:blipFill>
          <a:blip r:embed="rId1"/>
          <a:stretch/>
        </p:blipFill>
        <p:spPr>
          <a:xfrm>
            <a:off x="500040" y="357120"/>
            <a:ext cx="557208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57120" y="4857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no Pro Smbd"/>
              </a:rPr>
              <a:t>КЛАВИАТУР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6" name="Содержимое 3" descr="klava2-2110.jpg"/>
          <p:cNvPicPr/>
          <p:nvPr/>
        </p:nvPicPr>
        <p:blipFill>
          <a:blip r:embed="rId1"/>
          <a:stretch/>
        </p:blipFill>
        <p:spPr>
          <a:xfrm>
            <a:off x="357120" y="428760"/>
            <a:ext cx="66438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72080" y="2642760"/>
            <a:ext cx="4471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no Pro Smbd"/>
              </a:rPr>
              <a:t>ДИС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Содержимое 3" descr="lflash.jpg"/>
          <p:cNvPicPr/>
          <p:nvPr/>
        </p:nvPicPr>
        <p:blipFill>
          <a:blip r:embed="rId1"/>
          <a:stretch/>
        </p:blipFill>
        <p:spPr>
          <a:xfrm>
            <a:off x="1285920" y="1500120"/>
            <a:ext cx="36432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0" name="Содержимое 3" descr="default.jpeg"/>
          <p:cNvPicPr/>
          <p:nvPr/>
        </p:nvPicPr>
        <p:blipFill>
          <a:blip r:embed="rId1"/>
          <a:stretch/>
        </p:blipFill>
        <p:spPr>
          <a:xfrm>
            <a:off x="214200" y="214200"/>
            <a:ext cx="828684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1:43:39Z</dcterms:created>
  <dc:creator>www.PHILka.RU</dc:creator>
  <dc:description/>
  <dc:language>en-US</dc:language>
  <cp:lastModifiedBy>Ёля</cp:lastModifiedBy>
  <dcterms:modified xsi:type="dcterms:W3CDTF">2011-10-25T05:31:10Z</dcterms:modified>
  <cp:revision>15</cp:revision>
  <dc:subject/>
  <dc:title>Слайд 1</dc:title>
</cp:coreProperties>
</file>